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2026-98C9-461B-9198-C0D356C2E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77DC-4F4E-4458-859B-6E4C4B243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9D43-18F5-4D4E-962C-AE42D268C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069C-4AFD-4030-9CC6-60D736F80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5803-935F-4F43-B2AC-3E8786A9D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FFEF-72B1-49DC-BD07-F1B4BD7B7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2B23-A6A1-40EA-B86F-A76BAD3FA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51F2-83C4-415B-8706-DA4597914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23D8-B059-4962-957D-9D0C1E17E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5BB6-8612-4835-BF22-4A524B971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FF50-773F-4494-A649-4EB49748D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A9F9-1C89-428A-A606-0AF9A592A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25ACD-F7DB-4723-9483-5C3E4BE427A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PROCEDIMIENTO PARA OBTENER COORDENADAS UTM EN UN MAPA O CARTA TOPOGRÁFIC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12000" y="5300640"/>
            <a:ext cx="2736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rnando Millar 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fesor Taller 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coturismo UN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47640" y="5105160"/>
            <a:ext cx="640080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GRAMA GENERAL DE UNA CARTA TOPOGRÁF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444760" y="112680"/>
            <a:ext cx="440856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340000" y="404640"/>
            <a:ext cx="5472000" cy="51357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52440" y="6162840"/>
            <a:ext cx="6865920" cy="6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CIÓN CUADRÍCULA U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1144440" y="2997000"/>
            <a:ext cx="0" cy="2376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1640" y="5877000"/>
            <a:ext cx="2737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00000" y="242100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694480" y="557388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640040" cy="4824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419640" y="404640"/>
            <a:ext cx="208908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580000" y="907920"/>
            <a:ext cx="352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ESTA ESCALA 1 cm en el mapa, representa 500 metros  en el terre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2565360"/>
            <a:ext cx="1008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2840" y="2808360"/>
            <a:ext cx="3419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da cuadrícula representa una dimensión de  1000 m en el terreno en el eje Norte (Y) y 1000 m en el eje Este (X), y en el mapa esta dimensión es de 2 cm en cada e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4967280" cy="4660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003640" y="1341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788000" y="299736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340000" y="407664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427640" y="407664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12000" y="2852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5.00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68360" y="544500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.00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106880" y="5345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.00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300720" y="1197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6.00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19640" y="2133720"/>
            <a:ext cx="216036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148360" y="3645000"/>
            <a:ext cx="3995640" cy="17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1 mm x la escala=&gt; 11x50.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or lo tanto 11 mm representa en terreno 550.000 mm o 550 metr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o mismo para 13 mm x 50.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Representa 650 metros en terre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or lo tanto las coordenadas para el punto son las del origen inferior izquierdo más los valores obtenid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8472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00720" y="5877000"/>
            <a:ext cx="4392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= 85.000 m + 650 m = 85.6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= 44.000 m + 550 m = 44.5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00720" y="5877000"/>
            <a:ext cx="244764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279440" y="404640"/>
            <a:ext cx="7777080" cy="56563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e de una carta IGM de C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826920" y="3828960"/>
            <a:ext cx="0" cy="1656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101680" y="6437160"/>
            <a:ext cx="1873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1280" y="33973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75280" y="62215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2892600"/>
            <a:ext cx="154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ordenada Norte (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721400" y="6180120"/>
            <a:ext cx="154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ordenada Este  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971640" y="4076640"/>
            <a:ext cx="1944720" cy="20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258920" y="4869000"/>
            <a:ext cx="1944720" cy="12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-71280" y="6148440"/>
            <a:ext cx="22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ordenadas graficad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115480" y="4824360"/>
            <a:ext cx="144360" cy="14436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7093080" y="4941720"/>
            <a:ext cx="1079280" cy="115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907240" y="6073920"/>
            <a:ext cx="30589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rdenadas para este pun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= 39.00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= 54.00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940360" y="6093000"/>
            <a:ext cx="2210040" cy="74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76280" y="895320"/>
            <a:ext cx="8191440" cy="50673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604880" y="5546880"/>
            <a:ext cx="1224000" cy="576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15920" y="3168720"/>
            <a:ext cx="576360" cy="1368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42920" y="4221000"/>
            <a:ext cx="7164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1258920" y="5877000"/>
            <a:ext cx="5047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033960"/>
            <a:ext cx="287964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rdenadas de origen para la cart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65.000 m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1.000 m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167440" y="2706840"/>
            <a:ext cx="144360" cy="14256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3850920" y="2781360"/>
            <a:ext cx="129708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19640" y="2781360"/>
            <a:ext cx="0" cy="9349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067280" y="2349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5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16200000">
            <a:off x="5044680" y="30128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51280" y="206064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15 x 50 =750 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96000" y="299736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10 x 50 =500 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51280" y="3703680"/>
            <a:ext cx="720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30680" y="4030560"/>
            <a:ext cx="266400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rigen de las coordenadas para la cuadrícula de trabaj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 = 65.000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 = 62.000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56360" y="4581360"/>
            <a:ext cx="2016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 500 m = 65.500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 750 m = 62.750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35640" y="5084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26040" y="5873760"/>
            <a:ext cx="345600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ordenadas final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.265.500 m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62.750 m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268360" y="0"/>
            <a:ext cx="6875640" cy="5000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0" y="260280"/>
            <a:ext cx="21956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do un punto en la carta, deseo obtener las coordenadas de otro a partir de este, teniendo como datos un azimut y una distanci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00440" y="2478240"/>
            <a:ext cx="144720" cy="14256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989000"/>
            <a:ext cx="2268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to 1: 6.742.000 m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346.000 m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2997360"/>
            <a:ext cx="21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to 2 : a 3 km de distancia en azimut 45º a partir del Pto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3933720"/>
            <a:ext cx="21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cala 1:50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81600" y="1876320"/>
            <a:ext cx="1368360" cy="1368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4676760" y="1576440"/>
            <a:ext cx="0" cy="95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80000" y="2536920"/>
            <a:ext cx="1842840" cy="1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72080" y="2565360"/>
            <a:ext cx="0" cy="95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40320" y="1254240"/>
            <a:ext cx="35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00720" y="357336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80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189240" y="238932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0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29160" y="961920"/>
            <a:ext cx="61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60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27720" y="620640"/>
            <a:ext cx="35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607000" y="2387520"/>
            <a:ext cx="47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0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4664160" y="861480"/>
            <a:ext cx="1697040" cy="168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372360" y="69228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z 45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676760" y="1523520"/>
            <a:ext cx="1020600" cy="1033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84720" y="2349360"/>
            <a:ext cx="158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3 km o 3.000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5867280" y="1989000"/>
            <a:ext cx="1447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99080" y="2548080"/>
            <a:ext cx="1392120" cy="12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659560" y="1403280"/>
            <a:ext cx="145800" cy="15876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96000" y="1484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659640" y="13399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to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5592600" y="1630440"/>
            <a:ext cx="12960" cy="36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03760" y="5189400"/>
            <a:ext cx="31687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ordenadas de origen de la cuadrícula de trabaj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4.000 m N  y 48.000 m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4320" y="5907240"/>
            <a:ext cx="88930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l Pto 2 se encuentra a 5 mm aprox. del origen de la cuadrícul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5 x 50 = 250 m =&gt; 44.000 m N + 250 m y 48.000 m E + 250 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as coordenadas finales serían 6.744.250 m N y 348.250 m E para el Pto.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4T02:54:09Z</dcterms:created>
  <dc:creator>FM</dc:creator>
  <dc:description/>
  <dc:language>en-US</dc:language>
  <cp:lastModifiedBy>TANO</cp:lastModifiedBy>
  <dcterms:modified xsi:type="dcterms:W3CDTF">2006-11-07T20:16:56Z</dcterms:modified>
  <cp:revision>12</cp:revision>
  <dc:subject/>
  <dc:title>PROCEDIMIENTO PARA OBTENER COORDENADAS UTM EN UN MAPA O CARTA TOPOGRÁFICA</dc:title>
</cp:coreProperties>
</file>