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DF7-4B76-4FB2-B948-2CEB8F0B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168-B839-4388-AC8A-BB69A02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B29-F5D8-41C0-8B9F-0972BAB4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A3A-9601-430F-9C51-90C5B747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313-11D2-45D1-BC37-B0B206BD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854-E24B-4590-AE5B-F2B884B7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367-8451-428A-984D-75DDF4A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5DD-3A93-4477-B2D8-3F13AC1E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A20-9E47-4668-B68F-2C8D787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865-5A1C-40D0-ADB5-E6A6F97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544-588F-41F4-AF44-105BBD4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6FE-70B9-4A19-8E65-8A047C3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FE09-BA11-4AE4-8CA8-2B14D4A447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Arial Black"/>
              </a:rPr>
              <a:t>VESTUARIO DE MONTÑ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38602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PATO DE 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9417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P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PATOS PLÁ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98400" y="5714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EQUIPO DE MONT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DE TRES 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75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580000" y="160020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CANADI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88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229600" cy="21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LIG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040" y="0"/>
            <a:ext cx="89679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o de dor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22320"/>
            <a:ext cx="512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87640" y="4724280"/>
            <a:ext cx="541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TERNA FRO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04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H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2629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95280" y="3645000"/>
            <a:ext cx="46911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841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s a combust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combust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por diferencia de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pre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gas por diferencia de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08480" y="206064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479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04000" y="2276640"/>
            <a:ext cx="2340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QU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58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3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IQU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511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000" y="4436640"/>
            <a:ext cx="52671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TALON DESM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8940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435280" y="2852280"/>
            <a:ext cx="3251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ÚJULA P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46160"/>
            <a:ext cx="51735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427280" y="2708280"/>
            <a:ext cx="425916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385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5021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692280"/>
            <a:ext cx="7632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LISTA EQUIPO DE MONTAÑA - INDIVIDU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ESTI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zo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interior (calza lyc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zo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pera abrigada (plumas, sinté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imperm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orak impermeable (con capuc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ntes livianos (tipo mágicos/po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ntes gruesos e impermeables y/o cubremi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 pares medias gru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amota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ñuelo grande para 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ojos para el sol-nieve (con filtro 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iparras (de 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tas para 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a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549360"/>
            <a:ext cx="60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STIMENTA PARA LA APROXI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Zapatillas o botas de tre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alón de algodón o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alón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rro para 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pa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4046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MENTOS TÉCN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am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qu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quetón c/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stones de 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nés (o 4 m. cuerda de cabo de 10 u 11 mm de diáme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erda UIAA x 5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HI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ab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pillo de 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ma 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pel higié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-49320"/>
            <a:ext cx="7920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NO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 de dormir (-15 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choneta ais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chila (70 a 90 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nterna fr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to (no metá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so (no metá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b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chillo de varios usos (Vitorin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ase para líquidos (1 litro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metros cordín diámetro 6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oj con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MERG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a aislante/funda vi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amelos, Power Bar, frutas secas (250 g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jo para señ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lb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ósforos imperme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620640"/>
            <a:ext cx="610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EPA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ja e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la gruesa (50x50 c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lver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g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maches martil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 de nylon (tipo consor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m. Cordín diámetro 2 o 3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uestos para el cale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ámpara y pilas para l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rios bo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-187200"/>
            <a:ext cx="6318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ORIENT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rúj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í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pa del área a recorrer (plastificado en envas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ía de la ruta a recorrer o cro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áp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OTIQU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a (10 cm. x 10 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abón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tor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nta adhe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atrizante y desinfec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a oxig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jera ch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nza para esp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ja e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cendedor en envase imperm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449280"/>
            <a:ext cx="6102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VI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bidas alcohó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rogas peligr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garr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mas blancas/de f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amentos no rece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gral. Cualquier componente del equipo que no se encuentre en condiciones de u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EQUIPO DE MONTAÑA - GRU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e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llas (c/manijas o tenaz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tellas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ósforos / encendedor (en envas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ndy (con estuche abrigado 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PS (sistema de posicionamiento 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s “calienta man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s de nylon (tipo consor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4000" y="2565000"/>
            <a:ext cx="2340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5977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0" y="1916280"/>
            <a:ext cx="31320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77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300720" y="1599840"/>
            <a:ext cx="23860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867280" y="3428640"/>
            <a:ext cx="2819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17520"/>
            <a:ext cx="6408720" cy="4614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45200" y="2599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RO DE ABRI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TES DE ABR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0:23:38Z</dcterms:created>
  <dc:creator>TANO</dc:creator>
  <dc:description/>
  <dc:language>en-US</dc:language>
  <cp:lastModifiedBy>TANO</cp:lastModifiedBy>
  <dcterms:modified xsi:type="dcterms:W3CDTF">2006-08-23T19:53:09Z</dcterms:modified>
  <cp:revision>8</cp:revision>
  <dc:subject/>
  <dc:title>ANORAK</dc:title>
</cp:coreProperties>
</file>