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71C-44FB-4576-9AF2-2C052272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6CF-E355-4425-B5B9-5010A84B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17B-D936-43B6-BAD7-04613A11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1CD-20B0-4588-85B2-C610B8A9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01D-A5CA-4897-9501-E2DCB826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C0F-FA1E-434D-9EAC-2AF65EB4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771-E5EC-4B7D-933E-ECA2D647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E9C-A3CB-4ECD-9C03-B94EDE4B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9A8-238E-4869-9D65-11B9AD19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740-8EB6-40EE-8E3F-864FBE9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D69-47CD-41E4-90AF-CD4E7E5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26E-D01A-42E3-9F9D-E7AC88C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F4DF-2721-4773-A952-1B78C5D5F7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Arial Black"/>
              </a:rPr>
              <a:t>VESTUARIO DE MONTÑ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38602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PATO DE TRE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9417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5800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PA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PATOS PLÁ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98400" y="5714640"/>
            <a:ext cx="66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 Black"/>
              </a:rPr>
              <a:t>EQUIPO DE MONTA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A DE TRES 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75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580000" y="1600200"/>
            <a:ext cx="35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A CANADI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88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229600" cy="21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A LIG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040" y="0"/>
            <a:ext cx="896796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co de dor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922320"/>
            <a:ext cx="512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87640" y="4724280"/>
            <a:ext cx="54100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TERNA FRO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004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H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2629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95280" y="3645000"/>
            <a:ext cx="46911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8419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s a combust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combust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por diferencia de 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9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pre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fre a gas por diferencia de 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08480" y="206064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479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04000" y="2276640"/>
            <a:ext cx="2340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QU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58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3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IQU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511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00000" y="4436640"/>
            <a:ext cx="52671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TALON DESM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8940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435280" y="2852280"/>
            <a:ext cx="3251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ÚJULA PL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46160"/>
            <a:ext cx="51735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427280" y="2708280"/>
            <a:ext cx="425916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385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QUE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5021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692280"/>
            <a:ext cx="76327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LISTA EQUIPO DE MONTAÑA - INDIVIDU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VESTI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zo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ntalón interior (calza lyc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zo 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ntalón 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mpera abrigada (plumas, sinté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ntalón imperm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orak impermeable (con capuc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ntes livianos (tipo mágicos/po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ntes gruesos e impermeables y/o cubremi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 pares medias gru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amota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ñuelo grande para 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ojos para el sol-nieve (con filtro U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iparras (de 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tas para mon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a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549360"/>
            <a:ext cx="60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STIMENTA PARA LA APROXI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Zapatillas o botas de tre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talón de algodón o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talón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orro para 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pa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404640"/>
            <a:ext cx="756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LEMENTOS TÉCN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am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qu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quetón c/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stones de 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nés (o 4 m. cuerda de cabo de 10 u 11 mm de diámet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erda UIAA x 5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HI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ab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pillo de 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ma 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pel higié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-49320"/>
            <a:ext cx="7920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NO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sa de dormir (-15 º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lchoneta ais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V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chila (70 a 90 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nterna fr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to (no metál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so (no metál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b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chillo de varios usos (Vitorin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ase para líquidos (1 litro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metros cordín diámetro 6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oj con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MERG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a aislante/funda viv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amelos, Power Bar, frutas secas (250 g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jo para señ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lb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ósforos imperme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620640"/>
            <a:ext cx="610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REPA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ja e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la gruesa (50x50 c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lver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g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maches martil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sa de nylon (tipo consor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m. Cordín diámetro 2 o 3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uestos para el cale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ámpara y pilas para l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rios bo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-187200"/>
            <a:ext cx="6318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ORIENT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rúj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í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pa del área a recorrer (plastificado en envase imperme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ía de la ruta a recorrer o cro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áp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OTIQU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a (10 cm. x 10 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abón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ctor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nta adhe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catrizante y desinfec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a oxig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jera ch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nza para esp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ja e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cendedor en envase imperm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449280"/>
            <a:ext cx="6102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VI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bidas alcohó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rogas peligr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garr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mas blancas/de fu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amentos no rece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gral. Cualquier componente del equipo que no se encuentre en condiciones de u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EQUIPO DE MONTAÑA - GRU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V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e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llas (c/manijas o tenaz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tellas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ósforos / encendedor (en envase imperme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ndy (con estuche abrigado e imperme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PS (sistema de posicionamiento 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bres “calienta man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sas de nylon (tipo consor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4000" y="2565000"/>
            <a:ext cx="2340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5977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2000" y="1916280"/>
            <a:ext cx="31320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770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300720" y="1599840"/>
            <a:ext cx="23860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867280" y="3428640"/>
            <a:ext cx="2819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17520"/>
            <a:ext cx="6408720" cy="4614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45200" y="2599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RO DE ABRI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TES DE ABR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0:23:38Z</dcterms:created>
  <dc:creator>TANO</dc:creator>
  <dc:description/>
  <dc:language>en-US</dc:language>
  <cp:lastModifiedBy>TANO</cp:lastModifiedBy>
  <dcterms:modified xsi:type="dcterms:W3CDTF">2006-08-23T19:53:09Z</dcterms:modified>
  <cp:revision>8</cp:revision>
  <dc:subject/>
  <dc:title>ANORAK</dc:title>
</cp:coreProperties>
</file>