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BCF-EF3A-4B86-AC47-FB4B0341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8D6-4534-4784-843A-E5CA8D80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1F9-DE38-4335-8362-BA4072EC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B87-76B5-4287-9890-22212464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8C2-8918-4669-B248-8A24538A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FB5-9B87-4643-B74E-B5C71168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743-744F-4447-A9CB-2E8B5DA5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1FC-78A9-4377-8EB2-56835C67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151-DBFF-4F9F-A4F6-1E2E8BCF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591-861A-4DF4-97CA-396E5D5D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DFB-1147-4F19-90D0-7DDE4CF0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F83-7CB0-4730-8B4E-07F0B629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72EF-6D15-4B53-8675-B230193579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Arial Black"/>
              </a:rPr>
              <a:t>VESTUARIO DE MONTÑ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38602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PATO DE TREK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9417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5800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PA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651280" y="1599840"/>
            <a:ext cx="3035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PATOS PLÁ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98400" y="5714640"/>
            <a:ext cx="66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 Black"/>
              </a:rPr>
              <a:t>EQUIPO DE MONTA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A DE TRES ES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756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580000" y="1600200"/>
            <a:ext cx="35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A CANADI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88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229600" cy="21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A LIG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6040" y="0"/>
            <a:ext cx="896796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co de dor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922320"/>
            <a:ext cx="512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87640" y="4724280"/>
            <a:ext cx="54100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TERNA FRO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1004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CH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2629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95280" y="3645000"/>
            <a:ext cx="469116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A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38419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s a combustión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a combustión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por diferencia de 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291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65128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a 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43528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a pre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43528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a gas por diferencia de 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08480" y="206064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4797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04000" y="2276640"/>
            <a:ext cx="2340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QUE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58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3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IQU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511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00000" y="4436640"/>
            <a:ext cx="52671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TALON DESMO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8940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435280" y="2852280"/>
            <a:ext cx="32511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ÚJULA PL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46160"/>
            <a:ext cx="517356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427280" y="2708280"/>
            <a:ext cx="425916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T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385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QUE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5021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692280"/>
            <a:ext cx="76327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LISTA EQUIPO DE MONTAÑA - INDIVIDU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VESTIM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zo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ntalón interior (calza lyc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zo 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ntalón 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mpera abrigada (plumas, sinté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ntalón imperm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orak impermeable (con capuc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uantes livianos (tipo mágicos/po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uantes gruesos e impermeables y/o cubremi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 pares medias gru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amota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ñuelo grande para el cu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eojos para el sol-nieve (con filtro U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iparras (de 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tas para mont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a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6920" y="549360"/>
            <a:ext cx="603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STIMENTA PARA LA APROXI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Zapatillas o botas de tre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ntalón de algodón o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ntalón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orro para 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pa i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404640"/>
            <a:ext cx="756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LEMENTOS TÉCN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amp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qu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squetón c/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stones de 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nés (o 4 m. cuerda de cabo de 10 u 11 mm de diámet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erda UIAA x 5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HI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ab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pillo de 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ma 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pel higié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-49320"/>
            <a:ext cx="7920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ERNO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lsa de dormir (-15 º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lchoneta ais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V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chila (70 a 90 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nterna fr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ato (no metál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so (no metál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bi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chillo de varios usos (Vitorin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vase para líquidos (1 litro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0 metros cordín diámetro 6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oj con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MERG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a aislante/funda viv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amelos, Power Bar, frutas secas (250 g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pejo para señ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lb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ósforos imperme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620640"/>
            <a:ext cx="610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REPA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ja e 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la gruesa (50x50 c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lver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g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maches martill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lsa de nylon (tipo consor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m. Cordín diámetro 2 o 3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uestos para el cale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ámpara y pilas para lin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rios bo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-187200"/>
            <a:ext cx="6318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ORIENT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rúj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í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pa del área a recorrer (plastificado en envase imperme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uía de la ruta a recorrer o cro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áp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b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OTIQUÍ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a (10 cm. x 10 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abón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ctor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nta adhe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catrizante y desinfec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a oxig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jera ch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nza para esp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p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ja e 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cendedor en envase imperm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449280"/>
            <a:ext cx="6102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VI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bidas alcohó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rogas peligr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garr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mas blancas/de fu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camentos no rece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gral. Cualquier componente del equipo que no se encuentre en condiciones de u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STA EQUIPO DE MONTAÑA - GRUP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V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e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llas (c/manijas o tenaz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tellas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ósforos / encendedor (en envase imperme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ndy (con estuche abrigado e imperme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PS (sistema de posicionamiento 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bres “calienta man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lsas de nylon (tipo consor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4000" y="2565000"/>
            <a:ext cx="2340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R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59770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12000" y="1916280"/>
            <a:ext cx="31320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770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300720" y="1599840"/>
            <a:ext cx="23860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1672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867280" y="3428640"/>
            <a:ext cx="2819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317520"/>
            <a:ext cx="6408720" cy="4614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45200" y="2599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RO DE ABRI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NTES DE ABR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0:23:38Z</dcterms:created>
  <dc:creator>TANO</dc:creator>
  <dc:description/>
  <dc:language>en-US</dc:language>
  <cp:lastModifiedBy>TANO</cp:lastModifiedBy>
  <dcterms:modified xsi:type="dcterms:W3CDTF">2006-08-23T19:53:09Z</dcterms:modified>
  <cp:revision>8</cp:revision>
  <dc:subject/>
  <dc:title>ANORAK</dc:title>
</cp:coreProperties>
</file>