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BCE-B7F3-4645-A376-3C63C5B9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29E-7D64-441A-AED1-0B8D4800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27E-8600-4A03-8547-C7155FD3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DE1-1A8B-4BA2-8330-2C5CD05A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B09D-1FD8-4584-AFD8-B5FB4F04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D2A4-7B50-413A-B1BA-F6A9DA7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B146-32E7-4065-AB25-37E0739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CE85-D8F5-4EA8-9FEC-F62CF9BE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DDA2-535A-4725-963D-155E7DD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3615-E149-4044-BA78-D720465D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4E86-30DF-4F99-8987-8BFECBC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5DA-1DA4-4B13-9638-88B78BD2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46D4-A7D6-4B6D-967D-8138C0B2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CD44-4D7A-4DAB-81A0-F03E79F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35FA-E271-49D6-9FB8-7CE99CD3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F389-DC86-4D01-B6C0-0A8DC352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6A70-62D0-4E3A-9C09-389442B1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D8E-073B-4DC2-84D0-32862BE7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1E0-5085-493D-BC42-E06EBA7D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75B-CA19-49D2-B621-926334C8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7D7-D132-4534-A617-497B9BB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A66-CB96-4926-8F33-60CA69BD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00D-E6D0-44FD-8522-0AEB4F8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1A4-EB2E-4CC2-9C56-C5DD3FB4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8145-343B-4B4B-B315-4943B181CF8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B7F8-14F6-4D2F-8D81-EEDAB7E534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Modelo Dinámico para simular los estados de equilibrio del mercado Inmobiliari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ón Funcional  </a:t>
            </a: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recursiv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6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9560" y="3597120"/>
                <a:ext cx="82584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5029200"/>
            <a:ext cx="2438280" cy="1066680"/>
          </a:xfrm>
          <a:prstGeom prst="wedgeRectCallout">
            <a:avLst>
              <a:gd name="adj1" fmla="val -62759"/>
              <a:gd name="adj2" fmla="val -13095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utoff de profi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ositiv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3840" y="26305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sumiendo un solo escenari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Cutoff de prec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1440" y="3198960"/>
                <a:ext cx="67183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4267080"/>
            <a:ext cx="7391520" cy="228600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ferta Optima </a:t>
            </a: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(ecuación de Euler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19320" y="4467240"/>
                <a:ext cx="6933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62560" y="2529000"/>
                <a:ext cx="11919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218600" y="27129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imer ord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08560" y="3235320"/>
                <a:ext cx="2525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260360" y="3246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volv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29120" y="590724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ecio igual costo margi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3320" y="367200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(Stokey &amp; Lukas, 1989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puesto Mi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76520" y="4038480"/>
                <a:ext cx="59436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19320" y="265104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I. Precios históricos recursivos: la única información sobre los precios futuros es aquella que se tiene de la historia. Luego los precios se proyectan según el promedio ponderado de los precios pas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0680" y="552780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osible mejora: los ponderadores de los precios de la historia dependen del momento del ciclo en que se encuentra el mercado.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ilibrio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úmero de viviendas vendidas en un periodo iguala al número de hogares que se localiz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95280" y="3687840"/>
                <a:ext cx="5031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295280" y="4724280"/>
                <a:ext cx="6019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num>
                                      <m:den>
                                        <m:r>
                                          <m:t xml:space="preserve">h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74040" y="608004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ivel de utilidad para equilibrio I; define rentas relativ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librio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936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981080" y="3370320"/>
                <a:ext cx="4572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28144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00200" y="4114800"/>
                <a:ext cx="601992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h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h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289160" y="26305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juste de precios absolutos a condiciones de facti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asos Relev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Igualdad oferta-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6520" y="2743200"/>
                <a:ext cx="1447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76520" y="4343400"/>
                <a:ext cx="1295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6019920"/>
                <a:ext cx="1447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23880" y="3352680"/>
                <a:ext cx="16765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v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727440" y="3352680"/>
                <a:ext cx="1087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343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89240" y="4878360"/>
                <a:ext cx="1241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324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00200" y="4876920"/>
                <a:ext cx="1066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5867280" y="2971800"/>
          <a:ext cx="3048120" cy="18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971800"/>
                    <a:ext cx="30481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324480" y="2590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recios vs exce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556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4800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162560" y="50292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02920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4876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896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demand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391520" y="312372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lgoritmo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38280" y="2400480"/>
            <a:ext cx="4189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upuesto mi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Función de cos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ducción ópt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lnSpc>
                <a:spcPct val="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stricció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808520" y="2819520"/>
                <a:ext cx="380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13160" y="3575160"/>
                <a:ext cx="46022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γ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800600" y="4572000"/>
                <a:ext cx="33526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76920" y="5861160"/>
                <a:ext cx="21589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wellings: supply, excess and u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0160" y="2743200"/>
          <a:ext cx="8915400" cy="38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743200"/>
                    <a:ext cx="89154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782880" y="632160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otivació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arrollar un modelo para el mercado inmobili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sado en principios de equilibrio económ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 dependencia intertemporal de las 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Que permita la existencia de exceso de oferta y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jo supuestos de “foresight” para los produc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fectado por shocks económicos estocástic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1640" y="655956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81080" y="533520"/>
          <a:ext cx="65534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553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2514600"/>
          <a:ext cx="6553440" cy="197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14600"/>
                    <a:ext cx="6553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4495680"/>
          <a:ext cx="6553440" cy="2063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95680"/>
                    <a:ext cx="65534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5181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w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verage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143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igh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omeless effe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rice capitalization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04920" y="1062000"/>
          <a:ext cx="7377120" cy="15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0620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80988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90520" y="2890800"/>
          <a:ext cx="7377120" cy="152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8908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15192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0" y="35766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76480" y="4816440"/>
          <a:ext cx="7377120" cy="188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6480" y="4816440"/>
                    <a:ext cx="737712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20" y="56386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867280" y="476280"/>
                <a:ext cx="2133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opulation growth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362320" y="457200"/>
          <a:ext cx="5715000" cy="29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571500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09880" y="643248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99072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2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38280" y="3505320"/>
          <a:ext cx="5639040" cy="286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505320"/>
                    <a:ext cx="563904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990720" y="384336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cated households by income level (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2895480"/>
          <a:ext cx="69343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9343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27672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El modelo produce estados de equilibrio permitiendo la existencia de exceso de oferta y/o demand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Las funciones de “corte” controlan los excesos ajustando por ingreso o precio minimo de ven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Se pueden dar casos de exceso de oferta y demanda simultane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504960" y="358128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ven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3200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blación dividida en clusters según nivel de ingreso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iudad dividida en zon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Bienes inmuebles separados en tipos de viviend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ercado tipo re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estocástica (IIDG)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restringidas por nivel de ingr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ocalización se asigna al mejor pos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as rentas son la máxima postura espe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67280" y="2814480"/>
                <a:ext cx="2210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191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95480" y="3686040"/>
                <a:ext cx="221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443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62040" y="3657600"/>
                <a:ext cx="838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775480" y="3897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utilidad cuasi linea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ones de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19520" y="41212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781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19320" y="2793960"/>
                <a:ext cx="35049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19320" y="4497480"/>
                <a:ext cx="42670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16600" y="2719440"/>
                <a:ext cx="39114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</m:e>
                        </m:d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21840" y="24336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pos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93280" y="23986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ele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1480" y="4141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nt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51480" y="42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32000" y="5950080"/>
                <a:ext cx="5400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ogares y viviendas que se localizan en periodo t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: número total de hogares y stock de viviendas acululado en el periodo t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utoff </a:t>
            </a:r>
            <a:r>
              <a:rPr b="1" i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362320"/>
          <a:ext cx="708660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0866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5600" y="6121440"/>
                <a:ext cx="882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17880" y="765000"/>
                <a:ext cx="5875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Ofer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oductores homogéne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bjetivo: maximizar profit de largo pla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fase temporal: la producción decidida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esta disponible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periodos m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hocks: escenarios económicos ocurriendo con cierta probabilidad 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4800600"/>
            <a:ext cx="7925040" cy="167652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fini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2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7920" y="273204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2732040"/>
                <a:ext cx="1981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19720" y="40384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00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47920" y="4038480"/>
                <a:ext cx="1981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024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5411880"/>
                <a:ext cx="7875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355760" y="236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Oferta Acumulad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360" y="2376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2680" y="3543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Usad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9840" y="35812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disponible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6120" y="49910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Gana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l problema del Ofer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93880" y="2563920"/>
                <a:ext cx="803088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</m:sSubSup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β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β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p>
                                        <m:sSub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sSub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C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,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e>
                                    </m:d>
                                  </m:e>
                                </m:nary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416640" y="4572000"/>
            <a:ext cx="14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Exógeno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Usad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0120" y="5241960"/>
            <a:ext cx="31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xceso demanda &amp; ofer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fit No-negativ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56674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Predice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2:02:33Z</dcterms:created>
  <dc:creator>Ricardo Hurtubia</dc:creator>
  <dc:description/>
  <dc:language>en-US</dc:language>
  <cp:lastModifiedBy>alumno</cp:lastModifiedBy>
  <dcterms:modified xsi:type="dcterms:W3CDTF">2006-11-10T14:58:36Z</dcterms:modified>
  <cp:revision>27</cp:revision>
  <dc:subject/>
  <dc:title>Simulación Dinámica de los Estados de Equilibrio en el Mercado Inmobiliario</dc:title>
</cp:coreProperties>
</file>