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F9A-4973-4634-8762-25F5137A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943-5AB6-4493-9119-6FE24ABC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406-36BE-4281-81DB-B0A8B20F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BA6-7D81-4948-9F27-9C60FAAB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3D1A-79B1-43AF-9593-B28CB2A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F65C-A613-4B5D-B3B2-3B04C34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BE8D-E76F-4C4C-A04D-D5D924C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E9BE-809D-4765-B873-30A273B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74E-CF78-4BB3-99B4-60AF751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6B6D-8832-4480-B715-460ABF9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E3DF-5E37-438C-AFCC-77BDFF2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89D-9C69-4D58-8508-3D481B9A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0843-852D-48D8-8E07-D88E187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F577-6697-4CE6-B197-9CCE15C8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84F-1D56-4DA7-93D9-28416A2F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9DBE-C7E3-4FEF-B4BD-385C5037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A96-F670-4141-9E23-060CECF9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8C5-4766-4878-A524-A4077FE9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A8B-0E81-4C1C-A0F5-7623539F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7A5-333E-4D84-94C3-A3BAE1D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E38-569F-4EB1-90F2-B9BB2C68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6C2-47F8-483B-BD7F-C04A92E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72E-6E00-4442-853A-5F432D3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05B-506A-471A-882E-E2814B8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C393-60F2-49B4-94B2-63CFD4A1D49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A451-CED3-46FD-88B3-56D83CB51E8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Modelo Dinámico para simular los estados de equilibrio del mercado Inmobiliari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ón Funcional  </a:t>
            </a: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recursiv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6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9560" y="3597120"/>
                <a:ext cx="82584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5029200"/>
            <a:ext cx="2438280" cy="1066680"/>
          </a:xfrm>
          <a:prstGeom prst="wedgeRectCallout">
            <a:avLst>
              <a:gd name="adj1" fmla="val -62759"/>
              <a:gd name="adj2" fmla="val -130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utoff de profi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3840" y="26305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sumiendo un solo escenari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Cutoff de prec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1440" y="3198960"/>
                <a:ext cx="6718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4267080"/>
            <a:ext cx="7391520" cy="228600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ferta Optima </a:t>
            </a: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(ecuación de Euler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19320" y="4467240"/>
                <a:ext cx="6933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62560" y="2529000"/>
                <a:ext cx="1191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218600" y="27129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imer or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08560" y="3235320"/>
                <a:ext cx="2525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260360" y="324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volv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29120" y="590724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ecio igual costo marg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3320" y="367200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(Stokey &amp; Lukas, 1989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puesto Mi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4038480"/>
                <a:ext cx="59436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19320" y="265104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I. Precios históricos recursivos: la única información sobre los precios futuros es aquella que se tiene de la historia. Luego los precios se proyectan según el promedio ponderado de los precios pas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0680" y="552780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osible mejora: los ponderadores de los precios de la historia dependen del momento del ciclo en que se encuentra el mercado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ilibrio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úmero de viviendas vendidas en un periodo iguala al número de hogares que se localiz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95280" y="3687840"/>
                <a:ext cx="5031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4724280"/>
                <a:ext cx="6019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num>
                                      <m:den>
                                        <m:r>
                                          <m:t xml:space="preserve">h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74040" y="60800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ivel de utilidad para equilibrio I; define rentas relativ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librio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936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981080" y="3370320"/>
                <a:ext cx="4572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8144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00200" y="4114800"/>
                <a:ext cx="60199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h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h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289160" y="26305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juste de precios absolutos a condiciones de facti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asos 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Igualdad oferta-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6520" y="2743200"/>
                <a:ext cx="1447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76520" y="4343400"/>
                <a:ext cx="1295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6019920"/>
                <a:ext cx="1447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23880" y="3352680"/>
                <a:ext cx="16765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727440" y="3352680"/>
                <a:ext cx="108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343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89240" y="4878360"/>
                <a:ext cx="1241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324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00200" y="4876920"/>
                <a:ext cx="1066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5867280" y="2971800"/>
          <a:ext cx="3048120" cy="18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3048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32448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recios vs ex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56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4800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162560" y="50292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02920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876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896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demand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391520" y="312372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lgoritmo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400480"/>
            <a:ext cx="4189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upuesto mi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Función de cos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ducción óp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lnSpc>
                <a:spcPct val="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stricció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08520" y="2819520"/>
                <a:ext cx="380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13160" y="3575160"/>
                <a:ext cx="46022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γ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00600" y="4572000"/>
                <a:ext cx="3352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76920" y="5861160"/>
                <a:ext cx="21589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wellings: supply, excess and u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0160" y="2743200"/>
          <a:ext cx="8915400" cy="38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743200"/>
                    <a:ext cx="89154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782880" y="632160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otivació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arrollar un modelo para el mercado inmobili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 principios de equilibrio económ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 dependencia intertemporal de las 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Que permita la existencia de exceso de oferta y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jo supuestos de “foresight” para los produc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fectado por shocks económicos estocástic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1640" y="655956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81080" y="533520"/>
          <a:ext cx="65534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553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2514600"/>
          <a:ext cx="6553440" cy="19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14600"/>
                    <a:ext cx="6553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4495680"/>
          <a:ext cx="6553440" cy="2063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65534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w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verage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143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igh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omeless effe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ce capitalization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04920" y="1062000"/>
          <a:ext cx="7377120" cy="15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0620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80988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90520" y="2890800"/>
          <a:ext cx="7377120" cy="15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8908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15192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0" y="35766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76480" y="4816440"/>
          <a:ext cx="7377120" cy="188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6480" y="4816440"/>
                    <a:ext cx="73771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20" y="56386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67280" y="476280"/>
                <a:ext cx="2133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opulation growth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362320" y="457200"/>
          <a:ext cx="5715000" cy="29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57150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9880" y="643248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99072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2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38280" y="3505320"/>
          <a:ext cx="5639040" cy="286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56390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990720" y="384336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cated households by income level (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895480"/>
          <a:ext cx="693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93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27672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El modelo produce estados de equilibrio permitiendo la existencia de exceso de oferta y/o deman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Las funciones de “corte” controlan los excesos ajustando por ingreso o precio minimo de ven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Se pueden dar casos de exceso de oferta y demanda simultane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04960" y="358128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ven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blación dividida en clusters según nivel de ingreso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iudad dividida en zon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Bienes inmuebles separados en tipos de viviend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ercado tipo re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estocástica (IIDG)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restringidas por nivel de ingr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ocalización se asigna al mejor pos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as rentas son la máxima postura espe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67280" y="281448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191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95480" y="3686040"/>
                <a:ext cx="221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443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62040" y="3657600"/>
                <a:ext cx="838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775480" y="389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utilidad cuasi line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ones de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19520" y="41212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781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19320" y="2793960"/>
                <a:ext cx="35049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19320" y="4497480"/>
                <a:ext cx="426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16600" y="2719440"/>
                <a:ext cx="39114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21840" y="24336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pos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3280" y="23986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ele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1480" y="4141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nt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51480" y="42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32000" y="5950080"/>
                <a:ext cx="54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ogares y viviendas que se localizan en periodo t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: número total de hogares y stock de viviendas acululado en el periodo t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utoff </a:t>
            </a:r>
            <a:r>
              <a:rPr b="1" i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362320"/>
          <a:ext cx="708660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866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5600" y="6121440"/>
                <a:ext cx="882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17880" y="765000"/>
                <a:ext cx="5875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Ofer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oductores homogéne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bjetivo: maximizar profit de largo 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fase temporal: la producción decidida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esta disponible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periodos m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hocks: escenarios económicos ocurriendo con cierta probabilidad 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4800600"/>
            <a:ext cx="7925040" cy="167652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fini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2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273204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2732040"/>
                <a:ext cx="1981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19720" y="40384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7920" y="4038480"/>
                <a:ext cx="1981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024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5411880"/>
                <a:ext cx="7875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355760" y="236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Oferta Acumula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360" y="2376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2680" y="3543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Usad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9840" y="3581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disponible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6120" y="49910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Gana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l problema del Ofer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93880" y="2563920"/>
                <a:ext cx="803088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</m:sSubSup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β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β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p>
                                        <m:sSub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sSub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C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,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416640" y="457200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Exógeno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Usad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0120" y="524196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xceso demanda &amp; ofer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fit No-negativ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56674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Predice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02:33Z</dcterms:created>
  <dc:creator>Ricardo Hurtubia</dc:creator>
  <dc:description/>
  <dc:language>en-US</dc:language>
  <cp:lastModifiedBy>alumno</cp:lastModifiedBy>
  <dcterms:modified xsi:type="dcterms:W3CDTF">2006-11-10T14:58:36Z</dcterms:modified>
  <cp:revision>27</cp:revision>
  <dc:subject/>
  <dc:title>Simulación Dinámica de los Estados de Equilibrio en el Mercado Inmobiliario</dc:title>
</cp:coreProperties>
</file>