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737-5E9A-4E7F-9E85-553012AC1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3492-733B-481F-9401-5EEFBBB8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6BC5-63DE-4F34-8AA7-9034C36BC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0140-249E-46B1-B0CD-26199974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8660-AEB8-4201-BF2E-CAEFD121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3AD77-1CCC-4682-A31D-3B27A208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915D-16B0-4321-868C-7323AA01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D876-C62A-4BA2-83D6-691FB22B8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A587-2F14-4A3A-A85B-62C15F09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9E80-0E43-4F00-BE83-4AAF9F5D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1313-2510-42B5-A9C7-A7C1C710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2010-BA05-45DE-AA4A-E7F316C5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286B-BD49-4439-9F2F-FE3C1D64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4D1E-5981-45F5-904A-9409195E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81A0-7DC0-4B4C-9CF8-6875BD44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1633A-6DFD-47FB-9349-5AE71113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FE5C-7CFA-415B-A5CF-1F62E2BB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0476-5B37-4F2F-8F6C-BD2B2DD7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2A48-F097-45D0-A51D-3875016F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2FA3-7947-4917-A4E9-6E2928B1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BEEF-3812-4AE8-9201-2B5E0964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BC85-7D48-4F90-A7CA-07787B1C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BD37-81EE-4A33-946B-AA780A27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FEB-B32D-4C0C-BB55-1B482D84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18F6-B5A4-44EF-8BA4-EEEB66ED9AF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77A1-D8CF-4B24-9AD7-56F2BC9D9BA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3366"/>
                </a:solidFill>
                <a:latin typeface="Arial"/>
              </a:rPr>
              <a:t>Modelo Dinámico para simular los estados de equilibrio del mercado Inmobiliario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cuación Funcional  </a:t>
            </a:r>
            <a:r>
              <a:rPr b="1" lang="es-CL" sz="2000" spc="-1" strike="noStrike">
                <a:solidFill>
                  <a:srgbClr val="006666"/>
                </a:solidFill>
                <a:latin typeface="Arial"/>
              </a:rPr>
              <a:t>(recursiva)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848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765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709560" y="3597120"/>
                <a:ext cx="825840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d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b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3886200" y="5029200"/>
            <a:ext cx="2438280" cy="1066680"/>
          </a:xfrm>
          <a:prstGeom prst="wedgeRectCallout">
            <a:avLst>
              <a:gd name="adj1" fmla="val -62759"/>
              <a:gd name="adj2" fmla="val -130953"/>
            </a:avLst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utoff de profit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ositiv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3840" y="2630520"/>
            <a:ext cx="42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Asumiendo un solo escenario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Cutoff de preci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9080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1440" y="3198960"/>
                <a:ext cx="67183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'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β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</m:sup>
                                </m:sSup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θ</m:t>
                                </m:r>
                                <m:r>
                                  <m:t xml:space="preserve">'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→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066680" y="4267080"/>
            <a:ext cx="7391520" cy="2286000"/>
          </a:xfrm>
          <a:prstGeom prst="rect">
            <a:avLst/>
          </a:prstGeom>
          <a:solidFill>
            <a:srgbClr val="fbfb6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Oferta Optima </a:t>
            </a:r>
            <a:r>
              <a:rPr b="1" lang="es-CL" sz="2800" spc="-1" strike="noStrike">
                <a:solidFill>
                  <a:srgbClr val="006666"/>
                </a:solidFill>
                <a:latin typeface="Arial"/>
              </a:rPr>
              <a:t>(ecuación de Euler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9080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219320" y="4467240"/>
                <a:ext cx="693396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d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⋅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d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462560" y="2529000"/>
                <a:ext cx="119196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1218600" y="2712960"/>
            <a:ext cx="165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rimer orden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408560" y="3235320"/>
                <a:ext cx="25257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β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ψ</m:t>
                            </m:r>
                          </m:e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260360" y="324648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nvolvent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29120" y="5907240"/>
            <a:ext cx="39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recio igual costo marginal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73320" y="3672000"/>
            <a:ext cx="264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Times New Roman"/>
              </a:rPr>
              <a:t>(Stokey &amp; Lukas, 1989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Supuesto Miop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080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676520" y="4038480"/>
                <a:ext cx="5943600" cy="104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α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p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1219320" y="265104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I. Precios históricos recursivos: la única información sobre los precios futuros es aquella que se tiene de la historia. Luego los precios se proyectan según el promedio ponderado de los precios pasad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60680" y="5527800"/>
            <a:ext cx="62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Posible mejora: los ponderadores de los precios de la historia dependen del momento del ciclo en que se encuentra el mercado. 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quilibrio 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Número de viviendas vendidas en un periodo iguala al número de hogares que se localiz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295280" y="3687840"/>
                <a:ext cx="50310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h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den>
                                </m:f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295280" y="4724280"/>
                <a:ext cx="60199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μ</m:t>
                                    </m:r>
                                    <m:r>
                                      <m:t xml:space="preserve">⋅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h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bSup>
                                        <m:r>
                                          <m:t xml:space="preserve">−</m:t>
                                        </m:r>
                                        <m:sSubSup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</m:d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num>
                                      <m:den>
                                        <m:r>
                                          <m:t xml:space="preserve">h</m:t>
                                        </m:r>
                                      </m:den>
                                    </m:f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e>
                            </m:nary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274040" y="6080040"/>
            <a:ext cx="641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Nivel de utilidad para equilibrio I; define rentas relativa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qulibrio I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1936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981080" y="3370320"/>
                <a:ext cx="4572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/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2814480" y="29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600200" y="4114800"/>
                <a:ext cx="6019920" cy="16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ω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acc>
                                          <m:accPr>
                                            <m:chr m:val="^"/>
                                          </m:accPr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h</m:t>
                                            </m:r>
                                          </m:den>
                                        </m:f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⋅</m:t>
                                        </m:r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⋅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h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+</m:t>
                                            </m:r>
                                            <m:sSubSup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h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−</m:t>
                                            </m:r>
                                            <m:sSubSup>
                                              <m:e>
                                                <m:r>
                                                  <m:t xml:space="preserve">I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h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θ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den>
                                </m:f>
                              </m:e>
                            </m:nary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/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⋅</m:t>
                                        </m:r>
                                        <m:s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  <m:r>
                                          <m:t xml:space="preserve">⋅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c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+</m:t>
                                            </m:r>
                                            <m:sSup>
                                              <m:e>
                                                <m:r>
                                                  <m:t xml:space="preserve">b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p>
                                            <m:r>
                                              <m:t xml:space="preserve">−</m:t>
                                            </m:r>
                                            <m:sSubSup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θ</m:t>
                                            </m:r>
                                          </m:e>
                                        </m:d>
                                      </m:e>
                                    </m:d>
                                  </m:den>
                                </m:f>
                              </m:e>
                            </m:nary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1289160" y="263052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Ajuste de precios absolutos a condiciones de factibilida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asos Relevan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xceso Ofer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Exceso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Igualdad oferta-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11480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676520" y="2743200"/>
                <a:ext cx="144756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  <m:r>
                      <m:t xml:space="preserve">&lt;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411480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676520" y="4343400"/>
                <a:ext cx="12952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  <m:r>
                      <m:t xml:space="preserve">&lt;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411480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752480" y="6019920"/>
                <a:ext cx="14479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41292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523880" y="3352680"/>
                <a:ext cx="16765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hv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3727440" y="3352680"/>
                <a:ext cx="10875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4343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3189240" y="4878360"/>
                <a:ext cx="124164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43243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600200" y="4876920"/>
                <a:ext cx="106668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"/>
          <p:cNvGraphicFramePr/>
          <p:nvPr/>
        </p:nvGraphicFramePr>
        <p:xfrm>
          <a:off x="5867280" y="2971800"/>
          <a:ext cx="3048120" cy="186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971800"/>
                    <a:ext cx="304812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6324480" y="259092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Precios vs exceso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31240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05560" y="4357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391520" y="4800600"/>
            <a:ext cx="0" cy="3808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7162560" y="5029200"/>
            <a:ext cx="2286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91520" y="5029200"/>
            <a:ext cx="3045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943600" y="48769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66"/>
                </a:solidFill>
                <a:latin typeface="Times New Roman"/>
              </a:rPr>
              <a:t>Exceso ofert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696080" y="48960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66"/>
                </a:solidFill>
                <a:latin typeface="Times New Roman"/>
              </a:rPr>
              <a:t>Exceso demanda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391520" y="3123720"/>
            <a:ext cx="0" cy="16765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Algoritmo solu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38280" y="2400480"/>
            <a:ext cx="41896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Apli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Supuesto mio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-99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Función de cost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-9936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roducción ópti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99360" indent="-99360">
              <a:lnSpc>
                <a:spcPct val="4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Restricció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4808520" y="2819520"/>
                <a:ext cx="380196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γ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4313160" y="3575160"/>
                <a:ext cx="460224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num>
                      <m:den>
                        <m:r>
                          <m:t xml:space="preserve">∂</m:t>
                        </m:r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γ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γ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800600" y="4572000"/>
                <a:ext cx="335268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v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q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γ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876920" y="5861160"/>
                <a:ext cx="215892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(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sultad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23623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Dwellings: supply, excess and us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00160" y="2743200"/>
          <a:ext cx="8915400" cy="384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160" y="2743200"/>
                    <a:ext cx="891540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3782880" y="632160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Motivación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esarrollar un modelo para el mercado inmobiliar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Basado en principios de equilibrio económic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Con dependencia intertemporal de las decision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Que permita la existencia de exceso de oferta y de demand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Bajo supuestos de “foresight” para los producto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Afectado por shocks económicos estocásticos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1640" y="6559560"/>
            <a:ext cx="682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981080" y="533520"/>
          <a:ext cx="6553440" cy="198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33520"/>
                    <a:ext cx="65534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1981080" y="2514600"/>
          <a:ext cx="6553440" cy="1979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514600"/>
                    <a:ext cx="6553440" cy="19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4495680"/>
          <a:ext cx="6553440" cy="20638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4495680"/>
                    <a:ext cx="6553440" cy="20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304920" y="51814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Low inco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12408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Average inco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1430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High incom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00400" y="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Homeless effec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200400" y="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Price capitalization effe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204920" y="1062000"/>
          <a:ext cx="7377120" cy="152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1062000"/>
                    <a:ext cx="737712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3809880" y="624852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624852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90520" y="2890800"/>
          <a:ext cx="7377120" cy="152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0520" y="2890800"/>
                    <a:ext cx="737712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0" y="1519200"/>
            <a:ext cx="182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q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= 0.5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0" y="357660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q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= 0.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176480" y="4816440"/>
          <a:ext cx="7377120" cy="18842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6480" y="4816440"/>
                    <a:ext cx="737712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720" y="563868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q 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= 0.7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5867280" y="476280"/>
                <a:ext cx="21337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)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γ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Population growth effect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362320" y="457200"/>
          <a:ext cx="5715000" cy="29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5715000" cy="29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3809880" y="643248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14400" y="990720"/>
            <a:ext cx="137160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H=2%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I=1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66"/>
                </a:solidFill>
                <a:latin typeface="Times New Roman"/>
              </a:rPr>
              <a:t>(q=0.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438280" y="3505320"/>
          <a:ext cx="5639040" cy="2862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505320"/>
                    <a:ext cx="563904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990720" y="3843360"/>
            <a:ext cx="137160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H=3%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I=1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3366"/>
                </a:solidFill>
                <a:latin typeface="Times New Roman"/>
              </a:rPr>
              <a:t>(q=0.6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23623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Located households by income level (</a:t>
            </a: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H=3% </a:t>
            </a:r>
            <a:r>
              <a:rPr b="0" i="1" lang="es-CL" sz="24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i="1" lang="es-CL" sz="2400" spc="-1" strike="noStrike">
                <a:solidFill>
                  <a:srgbClr val="003366"/>
                </a:solidFill>
                <a:latin typeface="Times New Roman"/>
              </a:rPr>
              <a:t>I=1%</a:t>
            </a:r>
            <a:r>
              <a:rPr b="0" lang="es-CL" sz="24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066680" y="2895480"/>
          <a:ext cx="693432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693432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3276720" y="6248520"/>
            <a:ext cx="1017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eriod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El modelo produce estados de equilibrio permitiendo la existencia de exceso de oferta y/o demand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Las funciones de “corte” controlan los excesos ajustando por ingreso o precio minimo de venta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66"/>
                </a:solidFill>
                <a:latin typeface="Arial"/>
              </a:rPr>
              <a:t>Se pueden dar casos de exceso de oferta y demanda simultaneo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504960" y="3581280"/>
            <a:ext cx="289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Questions?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onvenciones Gener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320040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oblación dividida en clusters según nivel de ingreso (</a:t>
            </a:r>
            <a:r>
              <a:rPr b="0" i="1" lang="es-CL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Ciudad dividida en zonas (</a:t>
            </a:r>
            <a:r>
              <a:rPr b="0" i="1" lang="es-CL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Bienes inmuebles separados en tipos de viviendas (</a:t>
            </a:r>
            <a:r>
              <a:rPr b="0" i="1" lang="es-CL" sz="2800" spc="-1" strike="noStrike">
                <a:solidFill>
                  <a:srgbClr val="003366"/>
                </a:solidFill>
                <a:latin typeface="Arial"/>
              </a:rPr>
              <a:t>v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Sub-Modelo Dema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Mercado tipo rem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osturas estocástica (IIDG)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           </a:t>
            </a:r>
            <a:r>
              <a:rPr b="0" lang="es-CL" sz="2800" spc="-1" strike="noStrike">
                <a:solidFill>
                  <a:srgbClr val="003366"/>
                </a:solidFill>
                <a:latin typeface="Arial"/>
                <a:ea typeface="Times New Roman"/>
              </a:rPr>
              <a:t>=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Posturas restringidas por nivel de ingres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Localización se asigna al mejor pos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66"/>
                </a:solidFill>
                <a:latin typeface="Arial"/>
              </a:rPr>
              <a:t>Las rentas son la máxima postura esper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8132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867280" y="2814480"/>
                <a:ext cx="221004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419112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895480" y="3686040"/>
                <a:ext cx="22100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+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44434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562040" y="3657600"/>
                <a:ext cx="8384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5775480" y="3897360"/>
            <a:ext cx="248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(utilidad cuasi lineal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cuaciones de Demand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819520" y="412128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278136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385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19320" y="2793960"/>
                <a:ext cx="35049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μ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219320" y="4497480"/>
                <a:ext cx="4267080" cy="94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</m:sub>
                          <m:sup/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H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μ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016600" y="2719440"/>
                <a:ext cx="391140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</m:e>
                            </m:d>
                          </m:e>
                        </m:d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v</m:t>
                            </m:r>
                            <m:r>
                              <m:t xml:space="preserve">'</m:t>
                            </m:r>
                            <m:r>
                              <m:t xml:space="preserve">i</m:t>
                            </m:r>
                            <m:r>
                              <m:t xml:space="preserve">'</m:t>
                            </m:r>
                          </m:sub>
                          <m:sup/>
                          <m:e>
                            <m:sSubSup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S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hv</m:t>
                                        </m:r>
                                        <m:r>
                                          <m:t xml:space="preserve">'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'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d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1221840" y="2433600"/>
            <a:ext cx="14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Mejor posto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93280" y="23986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Mejor elecció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21480" y="41418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Renta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51480" y="42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332000" y="5950080"/>
                <a:ext cx="54007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H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S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número de hogares y viviendas que se localizan en periodo t</m:t>
                        </m:r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: número total de hogares y stock de viviendas acululado en el periodo t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Cutoff </a:t>
            </a:r>
            <a:r>
              <a:rPr b="1" i="1" lang="es-CL" sz="3600" spc="-1" strike="noStrike">
                <a:solidFill>
                  <a:srgbClr val="006666"/>
                </a:solidFill>
                <a:latin typeface="Symbol"/>
                <a:ea typeface="Symbol"/>
              </a:rPr>
              <a:t>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14400" y="2362320"/>
          <a:ext cx="7086600" cy="394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7086600" cy="39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765600" y="6121440"/>
                <a:ext cx="882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3017880" y="765000"/>
                <a:ext cx="587520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φ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θ</m:t>
                                </m:r>
                              </m:e>
                            </m:d>
                          </m:e>
                        </m:d>
                      </m:den>
                    </m:f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r>
                              <m:t xml:space="preserve">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vi</m:t>
                                    </m:r>
                                  </m:sub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~"/>
                                      </m:accPr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→</m:t>
                            </m:r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Sub-Modelo Ofer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5905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Productores homogéne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Objetivo: maximizar profit de largo plaz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Desfase temporal: la producción decidida en </a:t>
            </a:r>
            <a:r>
              <a:rPr b="0" i="1" lang="es-CL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 esta disponible en </a:t>
            </a:r>
            <a:r>
              <a:rPr b="0" i="1" lang="es-CL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 periodos má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66"/>
                </a:solidFill>
                <a:latin typeface="Arial"/>
              </a:rPr>
              <a:t>Shocks: escenarios económicos ocurriendo con cierta probabilidad da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4800600"/>
            <a:ext cx="7925040" cy="1676520"/>
          </a:xfrm>
          <a:prstGeom prst="rect">
            <a:avLst/>
          </a:prstGeom>
          <a:solidFill>
            <a:srgbClr val="fbfb6b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Definicion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622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447920" y="2732040"/>
                <a:ext cx="2286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4138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72000" y="2732040"/>
                <a:ext cx="19810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40575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419720" y="4038480"/>
                <a:ext cx="22096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100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447920" y="4038480"/>
                <a:ext cx="19810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302436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066680" y="5411880"/>
                <a:ext cx="787572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β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⋅</m:t>
                    </m:r>
                    <m:sSubSup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⋅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C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355760" y="236232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Oferta Acumulad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360" y="237636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Exceso Ofert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2680" y="354348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Viviendas Usadas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79840" y="358128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Viviendas disponibles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56120" y="499104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Times New Roman"/>
              </a:rPr>
              <a:t>Ganancia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6666"/>
                </a:solidFill>
                <a:latin typeface="Arial"/>
              </a:rPr>
              <a:t>El problema del Oferen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848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893880" y="2563920"/>
                <a:ext cx="8030880" cy="19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/>
                            </m:sSubSup>
                          </m:lim>
                        </m:limLow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∞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r>
                                      <m:t xml:space="preserve">β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β</m:t>
                                        </m:r>
                                        <m:sSup>
                                          <m:e>
                                            <m:r>
                                              <m:t xml:space="preserve">)</m:t>
                                            </m:r>
                                          </m:e>
                                          <m:sup>
                                            <m:r>
                                              <m:t xml:space="preserve">n</m:t>
                                            </m:r>
                                          </m:sup>
                                        </m:sSup>
                                        <m:sSubSup>
                                          <m:e>
                                            <m:r>
                                              <m:t xml:space="preserve">u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</m:sup>
                                        </m:sSubSup>
                                        <m:sSubSup>
                                          <m:e>
                                            <m:r>
                                              <m:t xml:space="preserve">p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n</m:t>
                                            </m:r>
                                          </m:sup>
                                        </m:sSubSup>
                                        <m:r>
                                          <m:t xml:space="preserve">−</m:t>
                                        </m:r>
                                        <m:sSubSup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t</m:t>
                                            </m:r>
                                          </m:sup>
                                        </m:sSubSup>
                                        <m:r>
                                          <m:t xml:space="preserve">C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Sup>
                                              <m:e>
                                                <m:r>
                                                  <m:t xml:space="preserve">K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  <m:r>
                                              <m:t xml:space="preserve">,</m:t>
                                            </m:r>
                                            <m:sSubSup>
                                              <m:e>
                                                <m:r>
                                                  <m:t xml:space="preserve">p</m:t>
                                                </m:r>
                                              </m:e>
                                              <m:sub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vi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t</m:t>
                                                </m:r>
                                              </m:sup>
                                            </m:sSubSup>
                                          </m:e>
                                        </m:d>
                                      </m:e>
                                    </m:d>
                                  </m:e>
                                </m:nary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β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sup>
                        </m:sSubSup>
                        <m:r>
                          <m:t xml:space="preserve">≥</m:t>
                        </m:r>
                        <m:r>
                          <m:t xml:space="preserve">C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r>
                              <m:t xml:space="preserve">,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416640" y="4572000"/>
            <a:ext cx="142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 u="sng">
                <a:solidFill>
                  <a:srgbClr val="003366"/>
                </a:solidFill>
                <a:uFillTx/>
                <a:latin typeface="Arial"/>
              </a:rPr>
              <a:t>Exógeno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Precio </a:t>
            </a:r>
            <a:r>
              <a:rPr b="0" i="1" lang="es-CL" sz="1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i="1" lang="es-CL" sz="1800" spc="-1" strike="noStrike" baseline="30000">
                <a:solidFill>
                  <a:srgbClr val="003366"/>
                </a:solidFill>
                <a:latin typeface="Arial"/>
              </a:rPr>
              <a:t>t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Usado </a:t>
            </a:r>
            <a:r>
              <a:rPr b="0" i="1" lang="es-CL" sz="1800" spc="-1" strike="noStrike">
                <a:solidFill>
                  <a:srgbClr val="003366"/>
                </a:solidFill>
                <a:latin typeface="Arial"/>
              </a:rPr>
              <a:t>u</a:t>
            </a:r>
            <a:r>
              <a:rPr b="0" i="1" lang="es-CL" sz="1800" spc="-1" strike="noStrike" baseline="30000">
                <a:solidFill>
                  <a:srgbClr val="003366"/>
                </a:solidFill>
                <a:latin typeface="Arial"/>
              </a:rPr>
              <a:t>t+n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0120" y="5241960"/>
            <a:ext cx="3109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Exceso demanda &amp; oferta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3366"/>
                </a:solidFill>
                <a:latin typeface="Arial"/>
              </a:rPr>
              <a:t>Profit No-negativo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43640" y="5667480"/>
            <a:ext cx="13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 u="sng">
                <a:solidFill>
                  <a:srgbClr val="003366"/>
                </a:solidFill>
                <a:uFillTx/>
                <a:latin typeface="Arial"/>
              </a:rPr>
              <a:t>Predice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3366"/>
                </a:solidFill>
                <a:latin typeface="Arial"/>
              </a:rPr>
              <a:t>Precio </a:t>
            </a:r>
            <a:r>
              <a:rPr b="0" i="1" lang="es-CL" sz="18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i="1" lang="es-CL" sz="1800" spc="-1" strike="noStrike" baseline="30000">
                <a:solidFill>
                  <a:srgbClr val="003366"/>
                </a:solidFill>
                <a:latin typeface="Arial"/>
              </a:rPr>
              <a:t>t+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22:02:33Z</dcterms:created>
  <dc:creator>Ricardo Hurtubia</dc:creator>
  <dc:description/>
  <dc:language>en-US</dc:language>
  <cp:lastModifiedBy>alumno</cp:lastModifiedBy>
  <dcterms:modified xsi:type="dcterms:W3CDTF">2006-11-10T14:58:36Z</dcterms:modified>
  <cp:revision>27</cp:revision>
  <dc:subject/>
  <dc:title>Simulación Dinámica de los Estados de Equilibrio en el Mercado Inmobiliario</dc:title>
</cp:coreProperties>
</file>