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968-CBF8-4F1F-9101-CF8FDA13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3CD-0F93-447A-81A2-4AB32F1D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514-24B4-475B-926E-A9812D8F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ADE-BEEE-4CA5-A139-711D9B27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436-9388-46B0-B65A-4A4BC369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CC8-2382-4DF8-9FD2-4EA43B95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F0D-0150-4A9F-B136-468C1FFC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06B-7628-4B24-A635-B18EAE95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A95-9DD0-4D7D-9CB4-7CA0785A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7FB-96C7-4681-855D-EA797338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B55-0339-4FB2-B8E1-77228F2A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083-6155-4080-B495-BE8B1374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87FC-0BEB-4F09-8A27-6793ACC979C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delo de Equilibrio en Localización Urban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RB&amp;SM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omportamiento Idiosincrásico de Agen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rancisco Martínez y Rodrigo Henríque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p. Ingeniería Civil - Transpor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EQUILIB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200" y="541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4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666880" y="2028960"/>
                <a:ext cx="457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616120" y="3733920"/>
                <a:ext cx="4546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*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r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52960" y="5257800"/>
                <a:ext cx="3317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0707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7520" y="525780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1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5562720"/>
            <a:ext cx="10670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N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21000" y="233856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3427560"/>
                <a:ext cx="4426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62320" y="4853160"/>
                <a:ext cx="6019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STRICCION DE INGR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000" y="3276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62320" y="2143080"/>
                <a:ext cx="6019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81400" y="3208320"/>
                <a:ext cx="38289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05160" y="3990960"/>
                <a:ext cx="3240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4880" y="4079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juste de ren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365200" y="4876920"/>
                <a:ext cx="6091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asignado a 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4680" y="5691240"/>
                <a:ext cx="3921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4520" y="58672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Gasto localiza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logit 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Sistemas de puntos fij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2057400"/>
                <a:ext cx="441972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031840"/>
                <a:ext cx="4233960" cy="17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4114800"/>
                <a:ext cx="66232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00400" y="6095880"/>
            <a:ext cx="2971800" cy="459720"/>
          </a:xfrm>
          <a:prstGeom prst="rect">
            <a:avLst/>
          </a:prstGeom>
          <a:solidFill>
            <a:srgbClr val="4d4d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H*, U*, S*, r*, x*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80988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324480"/>
            <a:ext cx="2438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324480"/>
            <a:ext cx="2057400" cy="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29600" y="380952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5867280"/>
            <a:ext cx="0" cy="2286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5880" y="41400"/>
            <a:ext cx="164844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ONE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specificación de la Función de Postur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l hecho de que las probabilidades de localización sean dependientes entre ellas, lo mismo que las probabilidades de oferta, se debe a la especificación del término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e la función de postura. En este trabajo se utiliza la forma lineal para esta componente de la postura, con la siguiente especificación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5120" y="3733920"/>
                <a:ext cx="5410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´'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83808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ond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Zh 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el efecto de las externalidades de localización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Xvi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las externalidades debidas a los tipos de oferta presentes en cada zona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ón de Puntos Fij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jercicio piloto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mensiones: 4 clusters de agentes demandante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h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; 5 zon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y 2 tipos de viviend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blación de 100 habitantes distribuidos de la siguiente mane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0200" y="4419720"/>
          <a:ext cx="584820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19720"/>
                    <a:ext cx="58482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685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 curva de punto fijo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h/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1219320"/>
          <a:ext cx="6553080" cy="51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65530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0102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Las curvas del punto fijo son muy planas, con leve concavidad a la altura de la intersección con la recta x=y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1420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914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ma de curva: dependencia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1447920"/>
          <a:ext cx="61722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172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705720" y="2133720"/>
            <a:ext cx="220968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e producen desplazamientos en las curvas de cada cluster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s soluciones dependen fuertemente de </a:t>
            </a:r>
            <a:r>
              <a:rPr b="0" lang="es-E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produce modificación a la forma de la curva.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Convergencia no se alterada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6858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 de parti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219320"/>
          <a:ext cx="701028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701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2388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observa dependencia del punto de partida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olución sólo depende de los parámetros de postura 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1096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447920"/>
          <a:ext cx="66294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6294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010280" y="1905120"/>
            <a:ext cx="1905120" cy="4038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Aumenta factor de escala, modelo más determinístico, probabilidades tienden a 1 o 0;  modelo “todo o nada”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manda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533520"/>
            <a:ext cx="2438640" cy="7617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28800" y="2532240"/>
                <a:ext cx="386388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18840" y="36925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tributos zona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7760" y="297180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stricción de Ingres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144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286000"/>
            <a:ext cx="2133720" cy="3733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Gráfico con valores de factores de escala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 iguales a 1. Iteraciones parten todas desde 0.10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Convergencia es suave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abilidad en un número bajo de iteraciones</a:t>
            </a:r>
            <a:br>
              <a:rPr sz="1800"/>
            </a:b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447920"/>
          <a:ext cx="6411960" cy="46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641196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0428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990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pendencia de solución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2666880"/>
            <a:ext cx="1905120" cy="3429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Resultado similar a Ph/vi, caso “todo o nada” con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crecient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50880"/>
          <a:ext cx="6629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0880"/>
                    <a:ext cx="6629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7621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447920"/>
          <a:ext cx="632448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3244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3048120"/>
            <a:ext cx="2133720" cy="2971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La solución es independiente del punto de partida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Esto ocurre también para el resto de las opciones vi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e comportamiento ocurre para valores d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inferiores a 1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 ocurr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1?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509840"/>
          <a:ext cx="6477120" cy="472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984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2743200"/>
            <a:ext cx="2133720" cy="2133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Al aumentar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las soluciones dependen del punto de partida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-Igual se obtiene convergenci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2286000"/>
            <a:ext cx="1904760" cy="3200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Se ratifica lo observado. 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En elecciones discretas determinísiticas se pierde independencia de punto de partid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s curvas que describe el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 para cada clus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2514600"/>
            <a:ext cx="18288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del punto fijo es similar para todos los clusters y representa la conocida forma de la logsum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01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s en forma de curva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rente a cambios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235160"/>
          <a:ext cx="670572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670572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010280" y="2209680"/>
            <a:ext cx="190512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que describe al punto fjjo b1 cambia para distintos valores  de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No se observa variación significativa en la solución 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6094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066680"/>
          <a:ext cx="655344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5534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7086600" y="2057400"/>
            <a:ext cx="182880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n tercera iteración converge para  todos los clusters. 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Se observa el mismo comportamiento partiendo de distintos puntos iniciales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mate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 - cort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1981080"/>
                <a:ext cx="4140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4686480"/>
                <a:ext cx="32954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0200" y="3581280"/>
                <a:ext cx="5218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19112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609588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38680" y="5773680"/>
                <a:ext cx="3391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quilibrio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: larg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3520" y="4038480"/>
                <a:ext cx="4572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323040" y="3191040"/>
                <a:ext cx="176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5105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648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49920" y="5410080"/>
                <a:ext cx="2979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0384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36720" y="1905120"/>
                <a:ext cx="4167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715000" y="2438280"/>
            <a:ext cx="0" cy="2210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DEMA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9080" y="3352680"/>
                <a:ext cx="512748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/>
                                  <m:den/>
                                </m:f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/>
                                      <m:den/>
                                    </m:f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2400" y="236232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43200" y="5548320"/>
                <a:ext cx="4229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40640" y="5638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1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4160" y="5592600"/>
            <a:ext cx="98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h/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586728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93880" y="17002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19280" y="2662200"/>
                <a:ext cx="5904000" cy="35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36720" y="1773360"/>
                <a:ext cx="665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87400" y="2822400"/>
                <a:ext cx="2928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92000" y="3790800"/>
                <a:ext cx="3996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35520" y="3591000"/>
                <a:ext cx="274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740560" y="4087800"/>
                <a:ext cx="27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λ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11280" y="5078520"/>
                <a:ext cx="4067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π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93880" y="19810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14600" y="5334120"/>
                <a:ext cx="4191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200" y="54864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2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3080" y="5388120"/>
            <a:ext cx="7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571500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32080" y="2871720"/>
                <a:ext cx="650232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í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Restricciones de oferta</a:t>
            </a:r>
            <a:br>
              <a:rPr sz="4400"/>
            </a:br>
            <a:r>
              <a:rPr b="0" lang="es-CL" sz="3600" spc="-1" strike="noStrike">
                <a:solidFill>
                  <a:srgbClr val="ffcc00"/>
                </a:solidFill>
                <a:latin typeface="Times New Roman"/>
              </a:rPr>
              <a:t>Planes regul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6156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411720" y="314064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MART algorithm (Fang et. al. 1997)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932360" y="378936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λγ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863640" y="380988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Algoritmo punto fijo: multiplicar por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73240" y="4437000"/>
                <a:ext cx="674676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k</m:t>
                                    </m:r>
                                  </m:e>
                                </m:bar>
                              </m:sup>
                            </m:sSubSup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λ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bar>
                                  </m:sup>
                                </m:sSub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</m:den>
                                </m:f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j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th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37520" y="52293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unto fijo 3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4:01:24Z</dcterms:created>
  <dc:creator>F M</dc:creator>
  <dc:description/>
  <dc:language>en-US</dc:language>
  <cp:lastModifiedBy>fmartine</cp:lastModifiedBy>
  <dcterms:modified xsi:type="dcterms:W3CDTF">2006-11-06T13:08:47Z</dcterms:modified>
  <cp:revision>25</cp:revision>
  <dc:subject/>
  <dc:title>Modelo de Equilibrio en Localización Urbana: Comportamiento Idiosincrático de Agentes</dc:title>
</cp:coreProperties>
</file>