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7102-A616-48D8-849B-5ACB81CD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EEC-2552-4608-91B4-CAE8EB18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F3A-CF50-4AA5-9F5F-4D09BA6C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BA0-9B0E-4DDB-AA15-6C87B0CA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E088-5E1C-410F-8A9F-D5D6AC6B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A2B-3FC0-4B31-A8D9-248516B5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8C30-0B6E-49DC-989D-655A17D1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B32-7F6C-4E8A-A1F9-CFFF237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D2E-06FA-4C75-8810-FD34CEC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11C9-3977-4688-8729-FB270DA8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7403-DA79-424E-9575-86EE6C79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AD3-D404-41B0-8689-5C01E9E3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102-1DE6-4FA1-8350-0BBF8D9CB0C7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Modelo de Equilibrio en Localización Urbana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RB&amp;SM</a:t>
            </a:r>
            <a:br>
              <a:rPr sz="44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Comportamiento Idiosincrásico de Agente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3885840"/>
            <a:ext cx="7162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Francisco Martínez y Rodrigo Henríquez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dddd"/>
                </a:solidFill>
                <a:latin typeface="Times New Roman"/>
              </a:rPr>
              <a:t>Dep. Ingeniería Civil - Transport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EQUILIBRI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200" y="54100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4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666880" y="2028960"/>
                <a:ext cx="457200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</m:sSub>
                      </m:e>
                    </m:nary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H</m:t>
                            </m:r>
                          </m:e>
                        </m:ba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616120" y="3733920"/>
                <a:ext cx="454680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*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r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52960" y="5257800"/>
                <a:ext cx="3317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7070760" y="5375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97520" y="5257800"/>
            <a:ext cx="6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3200" spc="-1" strike="noStrike" baseline="30000">
                <a:solidFill>
                  <a:srgbClr val="dddddd"/>
                </a:solidFill>
                <a:latin typeface="Times New Roman"/>
              </a:rPr>
              <a:t>1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53080" y="5562720"/>
            <a:ext cx="10670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N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21000" y="233856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438280" y="3427560"/>
                <a:ext cx="44262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*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362320" y="4853160"/>
                <a:ext cx="601956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RESTRICCION DE INGRESO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000" y="32767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362320" y="2143080"/>
                <a:ext cx="601956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g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v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e>
                    </m:d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381400" y="3208320"/>
                <a:ext cx="38289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r</m:t>
                            </m:r>
                          </m:e>
                        </m:ba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405160" y="3990960"/>
                <a:ext cx="32400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4880" y="40798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juste de renta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365200" y="4876920"/>
                <a:ext cx="6091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  asignado a 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344680" y="5691240"/>
                <a:ext cx="392112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x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74520" y="5867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Gasto localizad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Times New Roman"/>
              </a:rPr>
              <a:t>Enfoque estocástico: logit </a:t>
            </a:r>
            <a:br>
              <a:rPr sz="4400"/>
            </a:br>
            <a:r>
              <a:rPr b="0" lang="es-ES_tradnl" sz="3600" spc="-1" strike="noStrike">
                <a:solidFill>
                  <a:srgbClr val="ffcc00"/>
                </a:solidFill>
                <a:latin typeface="Times New Roman"/>
              </a:rPr>
              <a:t>Sistemas de puntos fijo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28600" y="2057400"/>
                <a:ext cx="441972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800600" y="2031840"/>
                <a:ext cx="4233960" cy="178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95280" y="4114800"/>
                <a:ext cx="66232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t xml:space="preserve">i</m:t>
                                    </m:r>
                                  </m:den>
                                </m:f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,</m:t>
                            </m:r>
                            <m:r>
                              <m:t xml:space="preserve">U</m:t>
                            </m:r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U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00400" y="6095880"/>
            <a:ext cx="2971800" cy="459720"/>
          </a:xfrm>
          <a:prstGeom prst="rect">
            <a:avLst/>
          </a:prstGeom>
          <a:solidFill>
            <a:srgbClr val="4d4d4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H*, U*, S*, r*, x*  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80988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6324480"/>
            <a:ext cx="2438280" cy="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6324480"/>
            <a:ext cx="2057400" cy="0"/>
          </a:xfrm>
          <a:prstGeom prst="line">
            <a:avLst/>
          </a:prstGeom>
          <a:ln w="9360">
            <a:solidFill>
              <a:srgbClr val="ddddd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9600" y="3809520"/>
            <a:ext cx="0" cy="2514600"/>
          </a:xfrm>
          <a:prstGeom prst="line">
            <a:avLst/>
          </a:prstGeom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00600" y="5867280"/>
            <a:ext cx="0" cy="228600"/>
          </a:xfrm>
          <a:prstGeom prst="line">
            <a:avLst/>
          </a:prstGeom>
          <a:ln w="936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5880" y="41400"/>
            <a:ext cx="164844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..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ONE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Especificación de la Función de Postura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l hecho de que las probabilidades de localización sean dependientes entre ellas, lo mismo que las probabilidades de oferta, se debe a la especificación del término </a:t>
            </a:r>
            <a:r>
              <a:rPr b="0" i="1" lang="en-US" sz="2400" spc="-1" strike="noStrike">
                <a:solidFill>
                  <a:srgbClr val="dddddd"/>
                </a:solidFill>
                <a:latin typeface="Times New Roman"/>
              </a:rPr>
              <a:t>b</a:t>
            </a:r>
            <a:r>
              <a:rPr b="0" i="1" lang="en-US" sz="2400" spc="-1" strike="noStrike" baseline="30000">
                <a:solidFill>
                  <a:srgbClr val="dddddd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de la función de postura. En este trabajo se utiliza la forma lineal para esta componente de la postura, con la siguiente especificación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5120" y="3733920"/>
                <a:ext cx="5410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/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</m:e>
                    </m:nary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'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´'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838080" y="48006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ond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Zh 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el efecto de las externalidades de localización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dddddd"/>
                </a:solidFill>
                <a:latin typeface="Times New Roman"/>
              </a:rPr>
              <a:t>Xvi: 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describe las externalidades debidas a los tipos de oferta presentes en cada zona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Simulación de Puntos Fijos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ddddd"/>
                </a:solidFill>
                <a:latin typeface="Times New Roman"/>
              </a:rPr>
              <a:t>Ejercicio piloto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Dimensiones: 4 clusters de agentes demandante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h)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; 5 zon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i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 y 2 tipos de viviendas (</a:t>
            </a:r>
            <a:r>
              <a:rPr b="0" i="1" lang="es-ES" sz="2400" spc="-1" strike="noStrike">
                <a:solidFill>
                  <a:srgbClr val="dddddd"/>
                </a:solidFill>
                <a:latin typeface="Times New Roman"/>
              </a:rPr>
              <a:t>v</a:t>
            </a: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ddddd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ddddd"/>
                </a:solidFill>
                <a:latin typeface="Times New Roman"/>
              </a:rPr>
              <a:t>Población de 100 habitantes distribuidos de la siguiente maner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4419720"/>
          <a:ext cx="5848200" cy="16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4419720"/>
                    <a:ext cx="58482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685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 curva de punto fijo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h/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28600" y="1219320"/>
          <a:ext cx="6553080" cy="51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6553080" cy="51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70102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Las curvas del punto fijo son muy planas, con leve concavidad a la altura de la intersección con la recta x=y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1420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91440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orma de curva: dependencia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8600" y="1447920"/>
          <a:ext cx="6172200" cy="481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172200" cy="481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705720" y="2133720"/>
            <a:ext cx="220968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e producen desplazamientos en las curvas de cada cluster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s soluciones dependen fuertemente de </a:t>
            </a:r>
            <a:r>
              <a:rPr b="0" lang="es-E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produce modificación a la forma de la curva.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Convergencia no se alterad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28600" y="685800"/>
            <a:ext cx="7238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 de parti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0" y="1219320"/>
          <a:ext cx="701028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701028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7238880" y="2209680"/>
            <a:ext cx="1905120" cy="335304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No se observa dependencia del punto de partida</a:t>
            </a:r>
            <a:br>
              <a:rPr sz="1800"/>
            </a:b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Solución sólo depende de los parámetros de postura 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01096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previousslide"/>
          </p:cNvPr>
          <p:cNvSpPr/>
          <p:nvPr/>
        </p:nvSpPr>
        <p:spPr>
          <a:xfrm>
            <a:off x="228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04920" y="914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</a:t>
            </a:r>
            <a:r>
              <a:rPr b="0" lang="en-US" sz="2400" spc="-1" strike="noStrike" baseline="-25000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en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228600" y="1447920"/>
          <a:ext cx="662940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62940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010280" y="1905120"/>
            <a:ext cx="1905120" cy="40384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Aumenta factor de escala, modelo más determinístico, probabilidades tienden a 1 o 0;  modelo “todo o nada”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07720" y="228600"/>
            <a:ext cx="45378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Demand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emanda </a:t>
            </a:r>
            <a:br>
              <a:rPr sz="36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52680" y="533520"/>
            <a:ext cx="2438640" cy="76176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828800" y="2532240"/>
                <a:ext cx="386388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018840" y="3692520"/>
            <a:ext cx="232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Atributos zonal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17760" y="297180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Restricción de Ingre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0" y="441972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144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2286000"/>
            <a:ext cx="2133720" cy="37339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Gráfico con valores de factores de escala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y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 iguales a 1. Iteraciones parten todas desde 0.10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Convergencia es suave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abilidad en un número bajo de iteraciones</a:t>
            </a:r>
            <a:br>
              <a:rPr sz="1800"/>
            </a:b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04920" y="1447920"/>
          <a:ext cx="6411960" cy="467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6411960" cy="46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20428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990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Dependencia de solución P</a:t>
            </a:r>
            <a:r>
              <a:rPr b="0" lang="es-ES_tradnl" sz="2400" spc="-1" strike="noStrike" baseline="-25000">
                <a:solidFill>
                  <a:srgbClr val="ffcc00"/>
                </a:solidFill>
                <a:latin typeface="Times New Roman"/>
              </a:rPr>
              <a:t>vi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2666880"/>
            <a:ext cx="1905120" cy="34290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Resultado similar a Ph/vi, caso “todo o nada” con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 creciente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1550880"/>
          <a:ext cx="662940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0880"/>
                    <a:ext cx="662940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04920" y="7621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1447920"/>
          <a:ext cx="6324480" cy="473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324480" cy="47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1680" y="3048120"/>
            <a:ext cx="2133720" cy="2971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La solución es independiente del punto de partida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Esto ocurre también para el resto de las opciones vi.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ste comportamiento ocurre para valores d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inferiores a 1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Que ocurre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&gt;1?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1.5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1509840"/>
          <a:ext cx="6477120" cy="472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9840"/>
                    <a:ext cx="647712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2743200"/>
            <a:ext cx="2133720" cy="213372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Al aumentar </a:t>
            </a:r>
            <a:r>
              <a:rPr b="0" lang="en-US" sz="1800" spc="-1" strike="noStrike">
                <a:solidFill>
                  <a:srgbClr val="f8f8f8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las soluciones dependen del punto de partida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 -Igual se obtiene convergenci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2201040" y="228600"/>
            <a:ext cx="41493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Ofert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2286000"/>
            <a:ext cx="1904760" cy="32004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Se ratifica lo observado. 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En elecciones discretas determinísiticas se pierde independencia de punto de partid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28600" y="9144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ependencia de solución en puntos iniciales: </a:t>
            </a:r>
            <a:r>
              <a:rPr b="0" lang="en-US" sz="24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" y="7621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Forma de las curvas que describe el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 para cada cluster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6600" y="2514600"/>
            <a:ext cx="1828800" cy="380988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del punto fijo es similar para todos los clusters y representa la conocida forma de la logsuma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228600" y="1447920"/>
          <a:ext cx="65530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65530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0164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ambios en forma de curva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frente a cambios en </a:t>
            </a:r>
            <a:r>
              <a:rPr b="0" lang="es-ES_tradnl" sz="2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1235160"/>
          <a:ext cx="6705720" cy="50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35160"/>
                    <a:ext cx="6705720" cy="50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7010280" y="2209680"/>
            <a:ext cx="190512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- La forma de la curva que describe al punto fjjo b1 cambia para distintos valores  de </a:t>
            </a:r>
            <a:r>
              <a:rPr b="0" lang="es-ES_tradnl" sz="1800" spc="-1" strike="noStrike">
                <a:solidFill>
                  <a:srgbClr val="f8f8f8"/>
                </a:solidFill>
                <a:latin typeface="Symbol"/>
                <a:ea typeface="Symbol"/>
              </a:rPr>
              <a:t></a:t>
            </a:r>
            <a:br>
              <a:rPr sz="1800"/>
            </a:br>
            <a:r>
              <a:rPr b="0" lang="es-ES_tradnl" sz="1800" spc="-1" strike="noStrike">
                <a:solidFill>
                  <a:srgbClr val="f8f8f8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f8f8f8"/>
                </a:solidFill>
                <a:latin typeface="Arial"/>
              </a:rPr>
              <a:t>No se observa variación significativa en la solución 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609480"/>
            <a:ext cx="3962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Convergencia de punto fijo </a:t>
            </a:r>
            <a:r>
              <a:rPr b="0" lang="es-ES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es-ES" sz="2400" spc="-1" strike="noStrike" baseline="30000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380880" y="1066680"/>
          <a:ext cx="6553440" cy="524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6553440" cy="52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/>
          <p:nvPr/>
        </p:nvSpPr>
        <p:spPr>
          <a:xfrm>
            <a:off x="7086600" y="2057400"/>
            <a:ext cx="1828800" cy="4114800"/>
          </a:xfrm>
          <a:prstGeom prst="rect">
            <a:avLst/>
          </a:pr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En tercera iteración converge para  todos los clusters. </a:t>
            </a:r>
            <a:br>
              <a:rPr sz="1800"/>
            </a:br>
            <a:r>
              <a:rPr b="0" lang="en-US" sz="1800" spc="-1" strike="noStrike">
                <a:solidFill>
                  <a:srgbClr val="f8f8f8"/>
                </a:solidFill>
                <a:latin typeface="Arial"/>
              </a:rPr>
              <a:t>- Se observa el mismo comportamiento partiendo de distintos puntos iniciales.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69560" y="228600"/>
            <a:ext cx="460800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imulación Punto Fijo de Equilibri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62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mate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 - cort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371600" y="1981080"/>
                <a:ext cx="41403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: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U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4686480"/>
                <a:ext cx="3295440" cy="20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330200" y="3581280"/>
                <a:ext cx="52182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312408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4191120"/>
            <a:ext cx="0" cy="4572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6095880"/>
            <a:ext cx="914400" cy="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638680" y="5773680"/>
                <a:ext cx="33912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quilibrio</a:t>
            </a: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Localización residencial: largo plazo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33520" y="4038480"/>
                <a:ext cx="457200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323040" y="3191040"/>
                <a:ext cx="17683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5105520" y="2438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6483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49920" y="5410080"/>
                <a:ext cx="297972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U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x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124080" y="152280"/>
            <a:ext cx="2743200" cy="7621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62920" y="4038480"/>
            <a:ext cx="0" cy="1371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936720" y="1905120"/>
                <a:ext cx="416700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5715000" y="2438280"/>
            <a:ext cx="0" cy="2210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3657600"/>
            <a:ext cx="6094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DEMAND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59080" y="3352680"/>
                <a:ext cx="51274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: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gv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/>
                                  <m:den/>
                                </m:f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g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/>
                                      <m:den/>
                                    </m:f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92400" y="2362320"/>
                <a:ext cx="580860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,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cc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att</m:t>
                    </m:r>
                    <m:r>
                      <m:t xml:space="preserve">)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746640" y="23623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upuesto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743200" y="5548320"/>
                <a:ext cx="422928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40640" y="563868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1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04160" y="5592600"/>
            <a:ext cx="98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h/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5867280"/>
            <a:ext cx="83844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693880" y="17002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19280" y="2662200"/>
                <a:ext cx="5904000" cy="357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λ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∈</m:t>
                            </m:r>
                            <m:r>
                              <m:t xml:space="preserve">V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≤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∀</m:t>
                            </m:r>
                            <m:r>
                              <m:t xml:space="preserve">k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∈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936720" y="1773360"/>
                <a:ext cx="665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lm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87400" y="2822400"/>
                <a:ext cx="292896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m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f>
                          <m:num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j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∂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lm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l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92000" y="3790800"/>
                <a:ext cx="39960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λ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π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294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735520" y="3591000"/>
                <a:ext cx="274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λα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5740560" y="4087800"/>
                <a:ext cx="27921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λρ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[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411280" y="5078520"/>
                <a:ext cx="40672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λ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λ</m:t>
                            </m:r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π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'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Enfoque estocástico: OFERT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693880" y="1981080"/>
                <a:ext cx="323064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14600" y="5334120"/>
                <a:ext cx="41911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/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/>
                          <m:den/>
                        </m:f>
                        <m:r>
                          <m:t xml:space="preserve">⋅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⋅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04200" y="54864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Punto fijo 2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33080" y="5388120"/>
            <a:ext cx="75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S</a:t>
            </a:r>
            <a:r>
              <a:rPr b="0" i="1" lang="es-ES_tradnl" sz="3200" spc="-1" strike="noStrike" baseline="-25000">
                <a:solidFill>
                  <a:srgbClr val="dddddd"/>
                </a:solidFill>
                <a:latin typeface="Times New Roman"/>
              </a:rPr>
              <a:t>vi</a:t>
            </a:r>
            <a:r>
              <a:rPr b="0" i="1" lang="es-ES_tradnl" sz="3200" spc="-1" strike="noStrike">
                <a:solidFill>
                  <a:srgbClr val="dddddd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05720" y="5715000"/>
            <a:ext cx="761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4582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22860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432080" y="2871720"/>
                <a:ext cx="650232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P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í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∀</m:t>
                        </m:r>
                        <m:r>
                          <m:t xml:space="preserve">v</m:t>
                        </m:r>
                        <m:r>
                          <m:t xml:space="preserve">'</m:t>
                        </m:r>
                        <m:r>
                          <m:t xml:space="preserve">i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S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λ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λ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S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Restricciones de oferta</a:t>
            </a:r>
            <a:br>
              <a:rPr sz="4400"/>
            </a:br>
            <a:r>
              <a:rPr b="0" lang="es-CL" sz="3600" spc="-1" strike="noStrike">
                <a:solidFill>
                  <a:srgbClr val="ffcc00"/>
                </a:solidFill>
                <a:latin typeface="Times New Roman"/>
              </a:rPr>
              <a:t>Planes reguladores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332000" y="2276640"/>
                <a:ext cx="615636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π</m:t>
                        </m:r>
                        <m:sSub>
                          <m:e>
                            <m:r>
                              <m:t xml:space="preserve">'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γ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3411720" y="3140640"/>
            <a:ext cx="39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Times New Roman"/>
              </a:rPr>
              <a:t>MART algorithm (Fang et. al. 1997)</a:t>
            </a:r>
            <a:r>
              <a:rPr b="0" lang="es-ES_tradnl" sz="20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932360" y="37893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λγ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i</m:t>
                        </m:r>
                      </m:sub>
                      <m:sup>
                        <m:bar>
                          <m:barPr>
                            <m:pos m:val="top"/>
                          </m:barPr>
                          <m:e>
                            <m:r>
                              <m:t xml:space="preserve">k</m:t>
                            </m:r>
                          </m:e>
                        </m:ba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863640" y="3809880"/>
            <a:ext cx="402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dddddd"/>
                </a:solidFill>
                <a:latin typeface="Times New Roman"/>
              </a:rPr>
              <a:t>Algoritmo punto fijo: multiplicar por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73240" y="4437000"/>
                <a:ext cx="6746760" cy="17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eqArr>
                          <m:e>
                            <m:sSubSup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k</m:t>
                                    </m:r>
                                  </m:e>
                                </m:bar>
                              </m:sup>
                            </m:sSubSup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λa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bar>
                                  </m:sup>
                                </m:sSub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S</m:t>
                                    </m:r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</m:den>
                                </m:f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j</m:t>
                                    </m:r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acc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t xml:space="preserve">λ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Sup>
                                      <m:e>
                                        <m:r>
                                          <m:t xml:space="preserve">π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j</m:t>
                                        </m:r>
                                      </m:sub>
                                      <m:sup>
                                        <m:r>
                                          <m:t xml:space="preserve">'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γ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ba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π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</m:e>
                            </m:d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ith  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π</m:t>
                                </m:r>
                              </m:e>
                            </m:acc>
                          </m:e>
                        </m:eqAr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</m:e>
                        </m:nary>
                        <m:r>
                          <m:t xml:space="preserve">λ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'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k</m:t>
                                </m:r>
                              </m:e>
                            </m:bar>
                          </m:sup>
                        </m:sSubSup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137520" y="52293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dddddd"/>
                </a:solidFill>
                <a:latin typeface="Times New Roman"/>
              </a:rPr>
              <a:t>Punto fijo 3: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1T14:01:24Z</dcterms:created>
  <dc:creator>F M</dc:creator>
  <dc:description/>
  <dc:language>en-US</dc:language>
  <cp:lastModifiedBy>fmartine</cp:lastModifiedBy>
  <dcterms:modified xsi:type="dcterms:W3CDTF">2006-11-06T13:08:47Z</dcterms:modified>
  <cp:revision>25</cp:revision>
  <dc:subject/>
  <dc:title>Modelo de Equilibrio en Localización Urbana: Comportamiento Idiosincrático de Agentes</dc:title>
</cp:coreProperties>
</file>