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B2E-114C-4EE7-99C0-4A2C1B75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9D7-DE37-49C2-8967-E0E4EC98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C7D-A80F-4831-98EE-0B4A1BFA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C4E-0FC4-4DC3-AFBF-19ED4CC0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4F5-7F33-4946-8911-582E0F31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151-0F88-4527-AFD2-B020664C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70A-EAE7-4068-89B5-F603EE25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27D-2AFC-4868-BDAC-D39178DB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161-10AF-4E65-9091-6AEAC34A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FF4-ABF1-4B3B-BCB8-C1A97B0E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B57-7615-421C-A100-1778C5CF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F47-29FE-49CD-8676-F2F1476D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1DB7-9F12-4D82-A0B7-EED6A2F97636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delo de Equilibrio en Localización Urbana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RB&amp;SM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omportamiento Idiosincrásico de Agent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rancisco Martínez y Rodrigo Henríque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p. Ingeniería Civil - Transport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EQUILIBR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200" y="54100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4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666880" y="2028960"/>
                <a:ext cx="4572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H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616120" y="3733920"/>
                <a:ext cx="45468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*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r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52960" y="5257800"/>
                <a:ext cx="3317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707076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7520" y="525780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dddddd"/>
                </a:solidFill>
                <a:latin typeface="Times New Roman"/>
              </a:rPr>
              <a:t>1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5562720"/>
            <a:ext cx="10670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REN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21000" y="233856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438280" y="3427560"/>
                <a:ext cx="44262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362320" y="4853160"/>
                <a:ext cx="60195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RESTRICCION DE INGRES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000" y="32767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62320" y="2143080"/>
                <a:ext cx="6019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381400" y="3208320"/>
                <a:ext cx="38289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405160" y="3990960"/>
                <a:ext cx="3240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4880" y="40798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juste de rent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365200" y="4876920"/>
                <a:ext cx="6091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asignado a 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44680" y="5691240"/>
                <a:ext cx="3921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74520" y="586728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Gasto localizad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logit </a:t>
            </a:r>
            <a:br>
              <a:rPr sz="4400"/>
            </a:br>
            <a:r>
              <a:rPr b="0" lang="es-ES_tradnl" sz="3600" spc="-1" strike="noStrike">
                <a:solidFill>
                  <a:srgbClr val="ffcc00"/>
                </a:solidFill>
                <a:latin typeface="Times New Roman"/>
              </a:rPr>
              <a:t>Sistemas de puntos fij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8600" y="2057400"/>
                <a:ext cx="441972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2031840"/>
                <a:ext cx="4233960" cy="178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95280" y="4114800"/>
                <a:ext cx="662328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200400" y="6095880"/>
            <a:ext cx="2971800" cy="459720"/>
          </a:xfrm>
          <a:prstGeom prst="rect">
            <a:avLst/>
          </a:prstGeom>
          <a:solidFill>
            <a:srgbClr val="4d4d4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H*, U*, S*, r*, x* 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80988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6324480"/>
            <a:ext cx="2438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324480"/>
            <a:ext cx="2057400" cy="0"/>
          </a:xfrm>
          <a:prstGeom prst="line">
            <a:avLst/>
          </a:prstGeom>
          <a:ln w="93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229600" y="380952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5867280"/>
            <a:ext cx="0" cy="22860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5880" y="41400"/>
            <a:ext cx="164844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..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ULACIONE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Especificación de la Función de Postur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l hecho de que las probabilidades de localización sean dependientes entre ellas, lo mismo que las probabilidades de oferta, se debe a la especificación del término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e la función de postura. En este trabajo se utiliza la forma lineal para esta componente de la postura, con la siguiente especificación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905120" y="3733920"/>
                <a:ext cx="5410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´'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838080" y="4800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ond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Zh 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el efecto de las externalidades de localización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Xvi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las externalidades debidas a los tipos de oferta presentes en cada zona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ulación de Puntos Fij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jercicio piloto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mensiones: 4 clusters de agentes demandante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h)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; 5 zon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y 2 tipos de viviend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blación de 100 habitantes distribuidos de la siguiente mane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00200" y="4419720"/>
          <a:ext cx="5848200" cy="166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19720"/>
                    <a:ext cx="584820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685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 curva de punto fijo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h/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28600" y="1219320"/>
          <a:ext cx="6553080" cy="51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655308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70102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Las curvas del punto fijo son muy planas, con leve concavidad a la altura de la intersección con la recta x=y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1420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9144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orma de curva: dependencia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8600" y="1447920"/>
          <a:ext cx="6172200" cy="48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1722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705720" y="2133720"/>
            <a:ext cx="220968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e producen desplazamientos en las curvas de cada cluster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s soluciones dependen fuertemente de </a:t>
            </a:r>
            <a:r>
              <a:rPr b="0" lang="es-ES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produce modificación a la forma de la curva.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Convergencia no se alterada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68580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 de parti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1219320"/>
          <a:ext cx="701028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70102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72388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observa dependencia del punto de partida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olución sólo depende de los parámetros de postura 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1096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228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9144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n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1447920"/>
          <a:ext cx="66294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6294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010280" y="1905120"/>
            <a:ext cx="1905120" cy="4038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Aumenta factor de escala, modelo más determinístico, probabilidades tienden a 1 o 0;  modelo “todo o nada”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manda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533520"/>
            <a:ext cx="2438640" cy="7617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828800" y="2532240"/>
                <a:ext cx="3863880" cy="25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018840" y="36925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tributos zonal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7760" y="297180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estricción de Ingres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0" y="44197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91440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2286000"/>
            <a:ext cx="2133720" cy="3733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Gráfico con valores de factores de escala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 iguales a 1. Iteraciones parten todas desde 0.10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Convergencia es suave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stabilidad en un número bajo de iteraciones</a:t>
            </a:r>
            <a:br>
              <a:rPr sz="1800"/>
            </a:b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1447920"/>
          <a:ext cx="6411960" cy="467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6411960" cy="46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20428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990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pendencia de solución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2666880"/>
            <a:ext cx="1905120" cy="34290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Resultado similar a Ph/vi, caso “todo o nada” con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 creciente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1550880"/>
          <a:ext cx="662940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50880"/>
                    <a:ext cx="662940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7621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1447920"/>
          <a:ext cx="6324480" cy="47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3244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81680" y="3048120"/>
            <a:ext cx="2133720" cy="2971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La solución es independiente del punto de partida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Esto ocurre también para el resto de las opciones vi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ste comportamiento ocurre para valores d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inferiores a 1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 ocurr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&gt;1?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.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1509840"/>
          <a:ext cx="6477120" cy="472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09840"/>
                    <a:ext cx="647712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2743200"/>
            <a:ext cx="2133720" cy="21337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Al aumentar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las soluciones dependen del punto de partida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-Igual se obtiene convergenci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2286000"/>
            <a:ext cx="1904760" cy="32004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Se ratifica lo observado. 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En elecciones discretas determinísiticas se pierde independencia de punto de partid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" y="762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s curvas que describe el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 para cada clust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2514600"/>
            <a:ext cx="1828800" cy="38098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del punto fijo es similar para todos los clusters y representa la conocida forma de la logsum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0164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mbios en forma de curva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frente a cambios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1235160"/>
          <a:ext cx="6705720" cy="508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5160"/>
                    <a:ext cx="6705720" cy="50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7010280" y="2209680"/>
            <a:ext cx="190512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que describe al punto fjjo b1 cambia para distintos valores  de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No se observa variación significativa en la solución 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609480"/>
            <a:ext cx="396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</a:t>
            </a:r>
            <a:r>
              <a:rPr b="0" lang="es-ES" sz="2400" spc="-1" strike="noStrike" baseline="30000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80880" y="1066680"/>
          <a:ext cx="6553440" cy="52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655344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7086600" y="2057400"/>
            <a:ext cx="182880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n tercera iteración converge para  todos los clusters. 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Se observa el mismo comportamiento partiendo de distintos puntos iniciales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mate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 - cort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71600" y="1981080"/>
                <a:ext cx="41403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47920" y="4686480"/>
                <a:ext cx="32954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0200" y="3581280"/>
                <a:ext cx="52182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312408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419112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6095880"/>
            <a:ext cx="9144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638680" y="5773680"/>
                <a:ext cx="3391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quilibrio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: larg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3520" y="4038480"/>
                <a:ext cx="45720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e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323040" y="3191040"/>
                <a:ext cx="17683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5105520" y="2438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4648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49920" y="5410080"/>
                <a:ext cx="29797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038480"/>
            <a:ext cx="0" cy="137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36720" y="1905120"/>
                <a:ext cx="41670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5715000" y="2438280"/>
            <a:ext cx="0" cy="2210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3657600"/>
            <a:ext cx="609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DEMAND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59080" y="3352680"/>
                <a:ext cx="512748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/>
                                  <m:den/>
                                </m:f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/>
                                      <m:den/>
                                    </m:f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92400" y="236232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743200" y="5548320"/>
                <a:ext cx="4229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40640" y="56386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1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04160" y="5592600"/>
            <a:ext cx="98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h/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5867280"/>
            <a:ext cx="8384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93880" y="1700280"/>
                <a:ext cx="3230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19280" y="2662200"/>
                <a:ext cx="5904000" cy="35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∈</m:t>
                            </m:r>
                            <m:r>
                              <m:t xml:space="preserve">V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936720" y="1773360"/>
                <a:ext cx="665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lm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m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87400" y="2822400"/>
                <a:ext cx="29289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lm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92000" y="3790800"/>
                <a:ext cx="39960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λ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35520" y="3591000"/>
                <a:ext cx="2741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λ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740560" y="4087800"/>
                <a:ext cx="2792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λ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411280" y="5078520"/>
                <a:ext cx="40672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π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693880" y="1981080"/>
                <a:ext cx="3230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14600" y="5334120"/>
                <a:ext cx="4191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200" y="54864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2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3080" y="5388120"/>
            <a:ext cx="75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5715000"/>
            <a:ext cx="761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32080" y="2871720"/>
                <a:ext cx="6502320" cy="22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í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S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Restricciones de oferta</a:t>
            </a:r>
            <a:br>
              <a:rPr sz="4400"/>
            </a:br>
            <a:r>
              <a:rPr b="0" lang="es-CL" sz="3600" spc="-1" strike="noStrike">
                <a:solidFill>
                  <a:srgbClr val="ffcc00"/>
                </a:solidFill>
                <a:latin typeface="Times New Roman"/>
              </a:rPr>
              <a:t>Planes regul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32000" y="2276640"/>
                <a:ext cx="6156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λ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411720" y="3140640"/>
            <a:ext cx="39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MART algorithm (Fang et. al. 1997)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932360" y="3789360"/>
                <a:ext cx="1295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λγ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bar>
                          <m:barPr>
                            <m:pos m:val="top"/>
                          </m:barPr>
                          <m:e>
                            <m:r>
                              <m:t xml:space="preserve">k</m:t>
                            </m:r>
                          </m:e>
                        </m:ba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  <m:sup>
                        <m:bar>
                          <m:barPr>
                            <m:pos m:val="top"/>
                          </m:barPr>
                          <m:e>
                            <m:r>
                              <m:t xml:space="preserve">k</m:t>
                            </m:r>
                          </m:e>
                        </m:ba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863640" y="3809880"/>
            <a:ext cx="40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ddddd"/>
                </a:solidFill>
                <a:latin typeface="Times New Roman"/>
              </a:rPr>
              <a:t>Algoritmo punto fijo: multiplicar por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73240" y="4437000"/>
                <a:ext cx="674676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Sup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k</m:t>
                                    </m:r>
                                  </m:e>
                                </m:bar>
                              </m:sup>
                            </m:sSubSup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λ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bar>
                                  </m:sup>
                                </m:sSub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acc>
                                      </m:sup>
                                    </m:sSubSup>
                                  </m:den>
                                </m:f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j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acc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j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ith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e>
                        </m:nary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sup>
                        </m:sSubSup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sup>
                        </m:sSub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37520" y="52293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unto fijo 3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4:01:24Z</dcterms:created>
  <dc:creator>F M</dc:creator>
  <dc:description/>
  <dc:language>en-US</dc:language>
  <cp:lastModifiedBy>fmartine</cp:lastModifiedBy>
  <dcterms:modified xsi:type="dcterms:W3CDTF">2006-11-06T13:08:47Z</dcterms:modified>
  <cp:revision>25</cp:revision>
  <dc:subject/>
  <dc:title>Modelo de Equilibrio en Localización Urbana: Comportamiento Idiosincrático de Agentes</dc:title>
</cp:coreProperties>
</file>