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1A15-8C56-4E01-97CD-0C85359A9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556F-9CDE-4333-BCA8-3982C8AA1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70C3-B12C-4E6C-AF32-A7F94886A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3E8E-5FF2-4EC4-983D-8AA32ADDF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0988F-42DF-4969-A3A5-4D0B155C4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5541F-5799-4EC7-9430-0A6B7B4DD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41133-C699-4865-A443-B0AEDE7B5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1ECB4-82A7-4B78-8D15-21E517964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5748E-3A96-49EB-91CD-7338D7F63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0896F-B7E6-4335-BF03-2452B5BAA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821F3-24A4-42A2-898A-47F6D8C1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124D-8FA9-4E6D-8E67-A53A79C6E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5B45D-1815-401C-B7A2-73424E8B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B695B-9CBC-46EB-8C71-1521CB5F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0C47F-A263-4290-858F-F2425C7DE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C9334-49B5-4477-98ED-31E79353E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9D05E-C609-4E8B-A429-4EBE688EE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0D52-36BE-4C6E-B09D-06A322766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2D94-ABA8-4461-A752-EA3841257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9822-0032-43EF-901B-B5E54361E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2F3A-FEBE-4CCB-A8AD-EF2A63B19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8582-D9EF-4688-B48B-66AC2064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0B76-62F1-41A6-8D40-F2BEBE97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088B-FEA5-4576-A010-20177F35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0A6C1-137E-4231-B6AA-6C9D6848ABFB}" type="slidenum">
              <a:rPr b="0" lang="es-MX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97876-038D-45CB-8372-E72D78C193BC}" type="slidenum">
              <a:rPr b="0" lang="es-MX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4572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I 73A CAPITULO 4.2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MODELAMIENTO DE OFERTA INMOBILIARIA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rancisco Martínez 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55840" y="4740120"/>
            <a:ext cx="275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Competencia irrestrict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0160" y="2394000"/>
            <a:ext cx="6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aeaea"/>
                </a:solidFill>
                <a:latin typeface="Verdana"/>
              </a:rPr>
              <a:t>s.a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95280" y="3581280"/>
            <a:ext cx="34290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724280" y="1752480"/>
            <a:ext cx="0" cy="18288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02400" y="1371600"/>
            <a:ext cx="246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eaeaea"/>
                </a:solidFill>
                <a:uFillTx/>
                <a:latin typeface="Verdana"/>
              </a:rPr>
              <a:t>Caso 3: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eaeaea"/>
                </a:solidFill>
                <a:uFillTx/>
                <a:latin typeface="Verdana"/>
              </a:rPr>
              <a:t>Desarrollador Inmobiliario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689080" y="3187800"/>
            <a:ext cx="24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aeaea"/>
                </a:solidFill>
                <a:latin typeface="Verdana"/>
              </a:rPr>
              <a:t>Productor únic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1468440" y="1676520"/>
                <a:ext cx="26272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HD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k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k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244520" y="2333520"/>
                <a:ext cx="307512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HD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k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k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k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i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c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i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2233440" y="2971800"/>
                <a:ext cx="139860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ki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404640" y="3886200"/>
                <a:ext cx="437220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HD</m:t>
                            </m:r>
                          </m:sup>
                        </m:sSup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k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ki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v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411120" y="4765680"/>
                <a:ext cx="44355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k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v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c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i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1882800" y="5950080"/>
                <a:ext cx="618480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  <m:sup>
                        <m:r>
                          <m:t xml:space="preserve">e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γ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k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e</m:t>
                                        </m:r>
                                      </m:sup>
                                    </m:sSubSup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k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d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5748480" y="4876920"/>
                <a:ext cx="13176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k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5593320" y="396252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aeaea"/>
                </a:solidFill>
                <a:latin typeface="Verdana"/>
              </a:rPr>
              <a:t>Equilibri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92720" y="2638440"/>
            <a:ext cx="3600360" cy="503280"/>
          </a:xfrm>
          <a:prstGeom prst="rect">
            <a:avLst/>
          </a:prstGeom>
          <a:solidFill>
            <a:srgbClr val="333333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eaeaea"/>
                </a:solidFill>
                <a:latin typeface="Times New Roman"/>
              </a:rPr>
              <a:t>X</a:t>
            </a:r>
            <a:r>
              <a:rPr b="0" i="1" lang="es-MX" sz="2400" spc="-1" strike="noStrike" baseline="-25000">
                <a:solidFill>
                  <a:srgbClr val="eaeaea"/>
                </a:solidFill>
                <a:latin typeface="Times New Roman"/>
              </a:rPr>
              <a:t>ki</a:t>
            </a:r>
            <a:r>
              <a:rPr b="0" i="1" lang="es-MX" sz="2400" spc="-1" strike="noStrike">
                <a:solidFill>
                  <a:srgbClr val="eaeaea"/>
                </a:solidFill>
                <a:latin typeface="Times New Roman"/>
              </a:rPr>
              <a:t>: número lotes tipo k en 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odelos No Restringido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22400" y="2664000"/>
            <a:ext cx="1851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022400" y="2664000"/>
            <a:ext cx="1990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022400" y="2664000"/>
            <a:ext cx="2878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22400" y="2664000"/>
            <a:ext cx="1851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022400" y="2664000"/>
            <a:ext cx="1990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022400" y="2664000"/>
            <a:ext cx="2878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022400" y="2664000"/>
            <a:ext cx="1851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22400" y="2664000"/>
            <a:ext cx="1990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457200" y="1870200"/>
          <a:ext cx="8496360" cy="4530600"/>
        </p:xfrm>
        <a:graphic>
          <a:graphicData uri="http://schemas.openxmlformats.org/drawingml/2006/table">
            <a:tbl>
              <a:tblPr/>
              <a:tblGrid>
                <a:gridCol w="730080"/>
                <a:gridCol w="2725920"/>
                <a:gridCol w="2448000"/>
                <a:gridCol w="2592360"/>
              </a:tblGrid>
              <a:tr h="113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ropía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annon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nancia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erta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LO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13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L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550880" y="3338640"/>
                <a:ext cx="21322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L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371600" y="4419720"/>
                <a:ext cx="24480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D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984480" y="3338640"/>
                <a:ext cx="230508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c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984480" y="4419720"/>
                <a:ext cx="237672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i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c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3984480" y="5570640"/>
                <a:ext cx="237672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k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k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k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c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ki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HD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6705720" y="3260880"/>
                <a:ext cx="190188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6737400" y="4437000"/>
                <a:ext cx="183816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</m:t>
                                    </m:r>
                                  </m:sub>
                                </m:sSub>
                              </m:e>
                            </m:d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6527880" y="5465880"/>
                <a:ext cx="22590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k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k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ki</m:t>
                                    </m:r>
                                  </m:sub>
                                </m:sSub>
                              </m:e>
                            </m:d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1219320" y="5570640"/>
                <a:ext cx="26636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HD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k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k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k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2352600" y="1022400"/>
            <a:ext cx="43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s-CL" sz="2400" spc="-1" strike="noStrike">
                <a:solidFill>
                  <a:srgbClr val="eaeaea"/>
                </a:solidFill>
                <a:latin typeface="Verdana"/>
              </a:rPr>
              <a:t>Todo lo producido se vende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odelos Restringido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30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33560" y="2698920"/>
            <a:ext cx="1850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33560" y="2698920"/>
            <a:ext cx="1990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033560" y="2698920"/>
            <a:ext cx="2878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033560" y="2698920"/>
            <a:ext cx="1850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033560" y="2698920"/>
            <a:ext cx="1990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3560" y="2698920"/>
            <a:ext cx="2878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033560" y="2698920"/>
            <a:ext cx="1850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033560" y="2698920"/>
            <a:ext cx="1990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5535720" y="2276640"/>
                <a:ext cx="3000240" cy="11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S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 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0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</m:e>
                                </m:d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S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5504040" y="4638600"/>
                <a:ext cx="334944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S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S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 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p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</m:e>
                                </m:d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237960" y="2563920"/>
                <a:ext cx="395460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!/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  <m:r>
                              <m:t xml:space="preserve">!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r>
                              <m:t xml:space="preserve">!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271440" y="4668840"/>
                <a:ext cx="396720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num>
                              <m:den>
                                <m:nary>
                                  <m:naryPr>
                                    <m:chr m:val="∏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P</m:t>
                                        </m:r>
                                      </m:sup>
                                    </m:sSubSup>
                                    <m:r>
                                      <m:t xml:space="preserve">!</m:t>
                                    </m:r>
                                  </m:e>
                                </m:nary>
                              </m:den>
                            </m:f>
                          </m:e>
                        </m:nary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(</m:t>
                                </m:r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S</m:t>
                                    </m:r>
                                  </m:sup>
                                </m:sSubSup>
                                <m:r>
                                  <m:t xml:space="preserve">)</m:t>
                                </m:r>
                                <m:r>
                                  <m:t xml:space="preserve">!</m:t>
                                </m:r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S</m:t>
                                    </m:r>
                                  </m:sup>
                                </m:sSubSup>
                                <m:r>
                                  <m:t xml:space="preserve">!</m:t>
                                </m:r>
                              </m:den>
                            </m:f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1754640" y="838080"/>
            <a:ext cx="569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s-CL" sz="2400" spc="-1" strike="noStrike">
                <a:solidFill>
                  <a:srgbClr val="eaeaea"/>
                </a:solidFill>
                <a:latin typeface="Verdana"/>
              </a:rPr>
              <a:t>Sólo parte de los producido se vende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aeaea"/>
                </a:solidFill>
                <a:latin typeface="Verdana"/>
              </a:rPr>
              <a:t>Entropía de Fermi-Dirac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427640" y="2924280"/>
            <a:ext cx="5760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356000" y="5013360"/>
            <a:ext cx="6476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12920" y="1982880"/>
            <a:ext cx="39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eaeaea"/>
                </a:solidFill>
                <a:latin typeface="Verdana"/>
              </a:rPr>
              <a:t>Entropía de vender x</a:t>
            </a:r>
            <a:r>
              <a:rPr b="0" lang="es-MX" sz="1800" spc="-1" strike="noStrike" baseline="30000">
                <a:solidFill>
                  <a:srgbClr val="eaeaea"/>
                </a:solidFill>
                <a:latin typeface="Verdana"/>
              </a:rPr>
              <a:t>s</a:t>
            </a:r>
            <a:r>
              <a:rPr b="0" lang="es-MX" sz="1800" spc="-1" strike="noStrike">
                <a:solidFill>
                  <a:srgbClr val="eaeaea"/>
                </a:solidFill>
                <a:latin typeface="Verdana"/>
              </a:rPr>
              <a:t> menor que</a:t>
            </a:r>
            <a:r>
              <a:rPr b="0" lang="es-MX" sz="1800" spc="-1" strike="noStrike" baseline="30000">
                <a:solidFill>
                  <a:srgbClr val="eaeaea"/>
                </a:solidFill>
                <a:latin typeface="Verdana"/>
              </a:rPr>
              <a:t> </a:t>
            </a:r>
            <a:r>
              <a:rPr b="0" lang="es-MX" sz="1800" spc="-1" strike="noStrike">
                <a:solidFill>
                  <a:srgbClr val="eaeaea"/>
                </a:solidFill>
                <a:latin typeface="Verdana"/>
              </a:rPr>
              <a:t>x</a:t>
            </a:r>
            <a:r>
              <a:rPr b="0" lang="es-MX" sz="1800" spc="-1" strike="noStrike" baseline="30000">
                <a:solidFill>
                  <a:srgbClr val="eaeaea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91760" y="3782880"/>
            <a:ext cx="556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eaeaea"/>
                </a:solidFill>
                <a:latin typeface="Verdana"/>
              </a:rPr>
              <a:t>Entropía de vender </a:t>
            </a:r>
            <a:r>
              <a:rPr b="0" i="1" lang="es-MX" sz="1800" spc="-1" strike="noStrike">
                <a:solidFill>
                  <a:srgbClr val="eaeaea"/>
                </a:solidFill>
                <a:latin typeface="Verdana"/>
              </a:rPr>
              <a:t>x</a:t>
            </a:r>
            <a:r>
              <a:rPr b="0" i="1" lang="es-MX" sz="1800" spc="-1" strike="noStrike" baseline="30000">
                <a:solidFill>
                  <a:srgbClr val="eaeaea"/>
                </a:solidFill>
                <a:latin typeface="Verdana"/>
              </a:rPr>
              <a:t>s</a:t>
            </a:r>
            <a:r>
              <a:rPr b="0" lang="es-MX" sz="1800" spc="-1" strike="noStrike">
                <a:solidFill>
                  <a:srgbClr val="eaeaea"/>
                </a:solidFill>
                <a:latin typeface="Verdana"/>
              </a:rPr>
              <a:t> menor que</a:t>
            </a:r>
            <a:r>
              <a:rPr b="0" lang="es-MX" sz="1800" spc="-1" strike="noStrike" baseline="30000">
                <a:solidFill>
                  <a:srgbClr val="eaeaea"/>
                </a:solidFill>
                <a:latin typeface="Verdana"/>
              </a:rPr>
              <a:t> </a:t>
            </a:r>
            <a:r>
              <a:rPr b="0" lang="es-MX" sz="1800" spc="-1" strike="noStrike">
                <a:solidFill>
                  <a:srgbClr val="eaeaea"/>
                </a:solidFill>
                <a:latin typeface="Verdana"/>
              </a:rPr>
              <a:t>la producción </a:t>
            </a:r>
            <a:r>
              <a:rPr b="0" i="1" lang="es-MX" sz="1800" spc="-1" strike="noStrike">
                <a:solidFill>
                  <a:srgbClr val="eaeaea"/>
                </a:solidFill>
                <a:latin typeface="Verdana"/>
              </a:rPr>
              <a:t>x</a:t>
            </a:r>
            <a:r>
              <a:rPr b="0" i="1" lang="es-MX" sz="1800" spc="-1" strike="noStrike" baseline="30000">
                <a:solidFill>
                  <a:srgbClr val="eaeaea"/>
                </a:solidFill>
                <a:latin typeface="Verdana"/>
              </a:rPr>
              <a:t>P</a:t>
            </a:r>
            <a:r>
              <a:rPr b="0" lang="es-MX" sz="1800" spc="-1" strike="noStrike">
                <a:solidFill>
                  <a:srgbClr val="eaeaea"/>
                </a:solidFill>
                <a:latin typeface="Verdana"/>
              </a:rPr>
              <a:t>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eaeaea"/>
                </a:solidFill>
                <a:latin typeface="Verdana"/>
              </a:rPr>
              <a:t>y que la producción sea menor que </a:t>
            </a:r>
            <a:r>
              <a:rPr b="0" i="1" lang="es-MX" sz="1800" spc="-1" strike="noStrike">
                <a:solidFill>
                  <a:srgbClr val="eaeaea"/>
                </a:solidFill>
                <a:latin typeface="Verdana"/>
              </a:rPr>
              <a:t>x</a:t>
            </a:r>
            <a:r>
              <a:rPr b="0" i="1" lang="es-MX" sz="1800" spc="-1" strike="noStrike" baseline="30000">
                <a:solidFill>
                  <a:srgbClr val="eaeaea"/>
                </a:solidFill>
                <a:latin typeface="Verdana"/>
              </a:rPr>
              <a:t>0</a:t>
            </a:r>
            <a:r>
              <a:rPr b="0" lang="es-MX" sz="1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odelos Restringido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30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033560" y="2698920"/>
            <a:ext cx="1850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033560" y="2698920"/>
            <a:ext cx="1990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033560" y="2698920"/>
            <a:ext cx="2878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033560" y="2698920"/>
            <a:ext cx="1850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033560" y="2698920"/>
            <a:ext cx="1990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033560" y="2698920"/>
            <a:ext cx="2878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33560" y="2698920"/>
            <a:ext cx="1850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033560" y="2698920"/>
            <a:ext cx="1990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5437080" y="2276640"/>
                <a:ext cx="3197160" cy="11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L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S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 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0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</m:e>
                                </m:d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S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5465880" y="3780000"/>
                <a:ext cx="3427200" cy="109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i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sSub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</m:t>
                                    </m:r>
                                  </m:sub>
                                  <m:sup>
                                    <m:r>
                                      <m:t xml:space="preserve">S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</m:t>
                                    </m:r>
                                  </m:sub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</m:t>
                                    </m:r>
                                  </m:sub>
                                  <m:sup>
                                    <m:r>
                                      <m:t xml:space="preserve">S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 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i</m:t>
                                        </m:r>
                                      </m:sub>
                                      <m:sup>
                                        <m:r>
                                          <m:t xml:space="preserve">p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i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</m:e>
                                </m:d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5713560" y="5157720"/>
                <a:ext cx="3430440" cy="12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HD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</m:t>
                                    </m:r>
                                  </m:sub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v</m:t>
                                    </m:r>
                                  </m:sub>
                                  <m:sup/>
                                  <m:e>
                                    <m:sSub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ki</m:t>
                                        </m:r>
                                      </m:sub>
                                      <m:sup>
                                        <m:r>
                                          <m:t xml:space="preserve">P</m:t>
                                        </m:r>
                                      </m:sup>
                                    </m:sSubSup>
                                  </m:e>
                                </m:nary>
                              </m:e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i</m:t>
                                        </m:r>
                                      </m:sub>
                                      <m:sup>
                                        <m:r>
                                          <m:t xml:space="preserve">P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v</m:t>
                                        </m:r>
                                      </m:sub>
                                      <m:sup/>
                                      <m:e>
                                        <m:sSubSup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vki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P</m:t>
                                            </m:r>
                                          </m:sup>
                                        </m:sSubSup>
                                      </m:e>
                                    </m:nary>
                                  </m:e>
                                </m:d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nary>
                      </m:e>
                      <m:e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ki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ki</m:t>
                                    </m:r>
                                  </m:sub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ki</m:t>
                                    </m:r>
                                  </m:sub>
                                  <m:sup>
                                    <m:r>
                                      <m:t xml:space="preserve">S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 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ki</m:t>
                                        </m:r>
                                      </m:sub>
                                      <m:sup>
                                        <m:r>
                                          <m:t xml:space="preserve">P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ki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</m:e>
                                </m:d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nary>
                      </m:e>
                      <m:e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ki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ki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ki</m:t>
                                    </m:r>
                                  </m:sub>
                                  <m:sup>
                                    <m:r>
                                      <m:t xml:space="preserve">S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82440" y="2563920"/>
                <a:ext cx="426744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L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!/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  <m:r>
                              <m:t xml:space="preserve">!</m:t>
                            </m:r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r>
                              <m:t xml:space="preserve">!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6443640" y="6410160"/>
                <a:ext cx="174312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ki</m:t>
                            </m:r>
                          </m:sub>
                          <m:sup>
                            <m:r>
                              <m:t xml:space="preserve">P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c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k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i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ki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k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i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250920" y="3967200"/>
                <a:ext cx="37242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D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num>
                              <m:den>
                                <m:nary>
                                  <m:naryPr>
                                    <m:chr m:val="∏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Sup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k</m:t>
                                        </m:r>
                                      </m:sub>
                                      <m:sup>
                                        <m:r>
                                          <m:t xml:space="preserve">P</m:t>
                                        </m:r>
                                      </m:sup>
                                    </m:sSubSup>
                                    <m:r>
                                      <m:t xml:space="preserve">!</m:t>
                                    </m:r>
                                  </m:e>
                                </m:nary>
                              </m:den>
                            </m:f>
                          </m:e>
                        </m:nary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k</m:t>
                                    </m:r>
                                  </m:sub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(</m:t>
                                </m:r>
                                <m:sSub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k</m:t>
                                    </m:r>
                                  </m:sub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k</m:t>
                                    </m:r>
                                  </m:sub>
                                  <m:sup>
                                    <m:r>
                                      <m:t xml:space="preserve">S</m:t>
                                    </m:r>
                                  </m:sup>
                                </m:sSubSup>
                                <m:r>
                                  <m:t xml:space="preserve">)</m:t>
                                </m:r>
                                <m:r>
                                  <m:t xml:space="preserve">!</m:t>
                                </m:r>
                                <m:sSub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k</m:t>
                                    </m:r>
                                  </m:sub>
                                  <m:sup>
                                    <m:r>
                                      <m:t xml:space="preserve">S</m:t>
                                    </m:r>
                                  </m:sup>
                                </m:sSubSup>
                                <m:r>
                                  <m:t xml:space="preserve">!</m:t>
                                </m:r>
                              </m:den>
                            </m:f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1754640" y="838080"/>
            <a:ext cx="569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s-CL" sz="2400" spc="-1" strike="noStrike">
                <a:solidFill>
                  <a:srgbClr val="eaeaea"/>
                </a:solidFill>
                <a:latin typeface="Verdana"/>
              </a:rPr>
              <a:t>Sólo parte de los producido se vende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aeaea"/>
                </a:solidFill>
                <a:latin typeface="Verdana"/>
              </a:rPr>
              <a:t>Entropía de Fermi-Dirac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250920" y="5315040"/>
                <a:ext cx="482580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D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  <m:sup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</m:t>
                                    </m:r>
                                  </m:sub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bSup>
                              </m:num>
                              <m:den>
                                <m:nary>
                                  <m:naryPr>
                                    <m:chr m:val="∏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(</m:t>
                                    </m:r>
                                    <m:sSubSup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k</m:t>
                                        </m:r>
                                      </m:sub>
                                      <m:sup>
                                        <m:r>
                                          <m:t xml:space="preserve">P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sSubSup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vki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P</m:t>
                                            </m:r>
                                          </m:sup>
                                        </m:sSubSup>
                                      </m:e>
                                    </m:nary>
                                    <m:r>
                                      <m:t xml:space="preserve">)</m:t>
                                    </m:r>
                                    <m:r>
                                      <m:t xml:space="preserve">!</m:t>
                                    </m:r>
                                    <m:sSub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ki</m:t>
                                        </m:r>
                                      </m:sub>
                                      <m:sup>
                                        <m:r>
                                          <m:t xml:space="preserve">P</m:t>
                                        </m:r>
                                      </m:sup>
                                    </m:sSubSup>
                                    <m:r>
                                      <m:t xml:space="preserve">!</m:t>
                                    </m:r>
                                  </m:e>
                                </m:nary>
                              </m:den>
                            </m:f>
                          </m:e>
                        </m:nary>
                        <m:d>
                          <m:dPr>
                            <m:begChr m:val="{"/>
                            <m:endChr m:val="}"/>
                          </m:dPr>
                          <m:e>
                            <m:nary>
                              <m:naryPr>
                                <m:chr m:val="∏"/>
                                <m:supHide m:val="1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ki</m:t>
                                </m:r>
                              </m:sub>
                              <m:sup/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ki</m:t>
                                        </m:r>
                                      </m:sub>
                                      <m:sup>
                                        <m:r>
                                          <m:t xml:space="preserve">P</m:t>
                                        </m:r>
                                      </m:sup>
                                    </m:sSubSup>
                                  </m:num>
                                  <m:den>
                                    <m:r>
                                      <m:t xml:space="preserve">(</m:t>
                                    </m:r>
                                    <m:sSub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i</m:t>
                                        </m:r>
                                      </m:sub>
                                      <m:sup>
                                        <m:r>
                                          <m:t xml:space="preserve">P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ki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  <m:r>
                                      <m:t xml:space="preserve">)</m:t>
                                    </m:r>
                                    <m:r>
                                      <m:t xml:space="preserve">!</m:t>
                                    </m:r>
                                    <m:sSub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ki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  <m:r>
                                      <m:t xml:space="preserve">!</m:t>
                                    </m:r>
                                  </m:den>
                                </m:f>
                              </m:e>
                            </m:nary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9" name=""/>
          <p:cNvSpPr/>
          <p:nvPr/>
        </p:nvSpPr>
        <p:spPr>
          <a:xfrm>
            <a:off x="4427640" y="2924280"/>
            <a:ext cx="5760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284720" y="4365720"/>
            <a:ext cx="6476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219640" y="5661000"/>
            <a:ext cx="28908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500"/>
                            </p:stCondLst>
                            <p:childTnLst>
                              <p:par>
                                <p:cTn id="1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odelos Restringido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30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033560" y="2698920"/>
            <a:ext cx="1850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033560" y="2698920"/>
            <a:ext cx="1990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033560" y="2698920"/>
            <a:ext cx="2878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033560" y="2698920"/>
            <a:ext cx="1850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033560" y="2698920"/>
            <a:ext cx="1990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033560" y="2698920"/>
            <a:ext cx="2878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033560" y="2698920"/>
            <a:ext cx="1850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033560" y="2698920"/>
            <a:ext cx="1990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179280" y="1484280"/>
            <a:ext cx="8964720" cy="4916520"/>
            <a:chOff x="179280" y="1484280"/>
            <a:chExt cx="8964720" cy="4916520"/>
          </a:xfrm>
        </p:grpSpPr>
        <p:sp>
          <p:nvSpPr>
            <p:cNvPr id="349" name=""/>
            <p:cNvSpPr/>
            <p:nvPr/>
          </p:nvSpPr>
          <p:spPr>
            <a:xfrm>
              <a:off x="6408720" y="4970520"/>
              <a:ext cx="2735280" cy="14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825720" y="4970520"/>
              <a:ext cx="2583000" cy="14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949320" y="4970520"/>
              <a:ext cx="2876400" cy="14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79280" y="4970520"/>
              <a:ext cx="770040" cy="14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eaeaea"/>
                  </a:solidFill>
                  <a:latin typeface="Verdana"/>
                </a:rPr>
                <a:t>HD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408720" y="3695760"/>
              <a:ext cx="2735280" cy="12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825720" y="3695760"/>
              <a:ext cx="2583000" cy="12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949320" y="3695760"/>
              <a:ext cx="2876400" cy="12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79280" y="3695760"/>
              <a:ext cx="770040" cy="12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eaeaea"/>
                  </a:solidFill>
                  <a:latin typeface="Verdana"/>
                </a:rPr>
                <a:t>LD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408720" y="2419560"/>
              <a:ext cx="2735280" cy="12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825720" y="2419560"/>
              <a:ext cx="2583000" cy="12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949320" y="2419560"/>
              <a:ext cx="2876400" cy="12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79280" y="2419560"/>
              <a:ext cx="770040" cy="12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eaeaea"/>
                  </a:solidFill>
                  <a:latin typeface="Verdana"/>
                </a:rPr>
                <a:t>LO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408720" y="1484280"/>
              <a:ext cx="2735280" cy="9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ferta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ducida (P), Vendida (S)</a:t>
              </a:r>
              <a:endParaRPr b="0" lang="en-US" sz="16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825720" y="1484280"/>
              <a:ext cx="2583000" cy="9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anancia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949320" y="1484280"/>
              <a:ext cx="2876400" cy="9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ntropía 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ermi Dirac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79280" y="1484280"/>
              <a:ext cx="770040" cy="9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79280" y="1484280"/>
              <a:ext cx="8964720" cy="0"/>
            </a:xfrm>
            <a:prstGeom prst="line">
              <a:avLst/>
            </a:prstGeom>
            <a:ln cap="sq"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79280" y="2419560"/>
              <a:ext cx="8964720" cy="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79280" y="3695760"/>
              <a:ext cx="8964720" cy="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79280" y="4970520"/>
              <a:ext cx="8964720" cy="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9280" y="6400800"/>
              <a:ext cx="8964720" cy="0"/>
            </a:xfrm>
            <a:prstGeom prst="line">
              <a:avLst/>
            </a:prstGeom>
            <a:ln cap="sq"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79280" y="1484280"/>
              <a:ext cx="0" cy="4916520"/>
            </a:xfrm>
            <a:prstGeom prst="line">
              <a:avLst/>
            </a:prstGeom>
            <a:ln cap="sq"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949320" y="1484280"/>
              <a:ext cx="0" cy="491652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825720" y="1484280"/>
              <a:ext cx="0" cy="491652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408720" y="1484280"/>
              <a:ext cx="0" cy="491652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9144000" y="1484280"/>
              <a:ext cx="0" cy="4916520"/>
            </a:xfrm>
            <a:prstGeom prst="line">
              <a:avLst/>
            </a:prstGeom>
            <a:ln cap="sq"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966960" y="2438280"/>
                <a:ext cx="2766960" cy="119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S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 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0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</m:e>
                                </m:d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nary>
                      </m:e>
                      <m:e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S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971640" y="3733920"/>
                <a:ext cx="266364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i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sSub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</m:t>
                                    </m:r>
                                  </m:sub>
                                  <m:sup>
                                    <m:r>
                                      <m:t xml:space="preserve">S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nary>
                      </m:e>
                      <m:e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</m:t>
                                    </m:r>
                                  </m:sub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</m:t>
                                    </m:r>
                                  </m:sub>
                                  <m:sup>
                                    <m:r>
                                      <m:t xml:space="preserve">S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 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i</m:t>
                                        </m:r>
                                      </m:sub>
                                      <m:sup>
                                        <m:r>
                                          <m:t xml:space="preserve">p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i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</m:e>
                                </m:d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990720" y="5102280"/>
                <a:ext cx="281916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HD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</m:t>
                                    </m:r>
                                  </m:sub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v</m:t>
                                    </m:r>
                                  </m:sub>
                                  <m:sup/>
                                  <m:e>
                                    <m:sSub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ki</m:t>
                                        </m:r>
                                      </m:sub>
                                      <m:sup>
                                        <m:r>
                                          <m:t xml:space="preserve">P</m:t>
                                        </m:r>
                                      </m:sup>
                                    </m:sSubSup>
                                  </m:e>
                                </m:nary>
                              </m:e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i</m:t>
                                        </m:r>
                                      </m:sub>
                                      <m:sup>
                                        <m:r>
                                          <m:t xml:space="preserve">P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v</m:t>
                                        </m:r>
                                      </m:sub>
                                      <m:sup/>
                                      <m:e>
                                        <m:sSubSup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vki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P</m:t>
                                            </m:r>
                                          </m:sup>
                                        </m:sSubSup>
                                      </m:e>
                                    </m:nary>
                                  </m:e>
                                </m:d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nary>
                      </m:e>
                      <m:e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ki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ki</m:t>
                                    </m:r>
                                  </m:sub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ki</m:t>
                                    </m:r>
                                  </m:sub>
                                  <m:sup>
                                    <m:r>
                                      <m:t xml:space="preserve">S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 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ki</m:t>
                                        </m:r>
                                      </m:sub>
                                      <m:sup>
                                        <m:r>
                                          <m:t xml:space="preserve">P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ki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</m:e>
                                </m:d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nary>
                      </m:e>
                      <m:e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ki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ki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ki</m:t>
                                    </m:r>
                                  </m:sub>
                                  <m:sup>
                                    <m:r>
                                      <m:t xml:space="preserve">S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3854520" y="2459160"/>
                <a:ext cx="2503440" cy="12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S</m:t>
                                    </m:r>
                                  </m:sup>
                                </m:sSub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e>
                      <m:e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S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L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3886200" y="5105520"/>
                <a:ext cx="2448000" cy="94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ki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ki</m:t>
                                    </m:r>
                                  </m:sub>
                                  <m:sup>
                                    <m:r>
                                      <m:t xml:space="preserve">S</m:t>
                                    </m:r>
                                  </m:sup>
                                </m:sSubSup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k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ki</m:t>
                                    </m:r>
                                  </m:sub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b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k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  <m:e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ki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ki</m:t>
                                    </m:r>
                                  </m:sub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ki</m:t>
                                    </m:r>
                                  </m:sub>
                                  <m:sup>
                                    <m:r>
                                      <m:t xml:space="preserve">S</m:t>
                                    </m:r>
                                  </m:sup>
                                </m:sSubSup>
                              </m:e>
                            </m:d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HD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6400800" y="2743200"/>
                <a:ext cx="262728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o</m:t>
                        </m:r>
                      </m:sup>
                    </m:sSubSup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Ι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num>
                      <m:den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γ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Ι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d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6400800" y="4432320"/>
                <a:ext cx="266688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γ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6400800" y="3805200"/>
                <a:ext cx="274320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6443640" y="5722920"/>
                <a:ext cx="270036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ki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ki</m:t>
                                </m:r>
                              </m:sub>
                              <m:sup>
                                <m:r>
                                  <m:t xml:space="preserve">P</m:t>
                                </m:r>
                              </m:sup>
                            </m:sSubSup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ki</m:t>
                                </m:r>
                              </m:sub>
                              <m:sup>
                                <m:r>
                                  <m:t xml:space="preserve">P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ki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</m:e>
                        </m:d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</m:sub>
                          <m:sup/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ki</m:t>
                                        </m:r>
                                      </m:sub>
                                      <m:sup>
                                        <m:r>
                                          <m:t xml:space="preserve">P</m:t>
                                        </m:r>
                                      </m:sup>
                                    </m:sSubSup>
                                  </m:e>
                                </m:d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ki</m:t>
                                        </m:r>
                                      </m:sub>
                                      <m:sup>
                                        <m:r>
                                          <m:t xml:space="preserve">P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ki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</m:d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6443640" y="5029200"/>
                <a:ext cx="27003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ki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limLow>
                      <m:e/>
                      <m:lim/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ki</m:t>
                                </m:r>
                              </m:sub>
                              <m:sup>
                                <m:r>
                                  <m:t xml:space="preserve">P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ki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</m:e>
                        </m:d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</m:sub>
                          <m:sup/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ki</m:t>
                                        </m:r>
                                      </m:sub>
                                      <m:sup>
                                        <m:r>
                                          <m:t xml:space="preserve">P</m:t>
                                        </m:r>
                                      </m:sup>
                                    </m:sSubSup>
                                  </m:e>
                                </m:d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ki</m:t>
                                        </m:r>
                                      </m:sub>
                                      <m:sup>
                                        <m:r>
                                          <m:t xml:space="preserve">P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ki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</m:d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6443640" y="6410160"/>
                <a:ext cx="174312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ki</m:t>
                            </m:r>
                          </m:sub>
                          <m:sup>
                            <m:r>
                              <m:t xml:space="preserve">P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c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k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i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ki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k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i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3886200" y="3805200"/>
                <a:ext cx="243828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</m:t>
                                    </m:r>
                                  </m:sub>
                                  <m:sup>
                                    <m:r>
                                      <m:t xml:space="preserve">S</m:t>
                                    </m:r>
                                  </m:sup>
                                </m:sSubSup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</m:t>
                                    </m:r>
                                  </m:sub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bSup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</m:t>
                                    </m:r>
                                  </m:sub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bSup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e>
                      <m:e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i</m:t>
                                    </m:r>
                                  </m:sub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</m:t>
                                    </m:r>
                                  </m:sub>
                                  <m:sup>
                                    <m:r>
                                      <m:t xml:space="preserve">S</m:t>
                                    </m:r>
                                  </m:sup>
                                </m:sSubSup>
                              </m:e>
                            </m:d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7" name=""/>
          <p:cNvSpPr/>
          <p:nvPr/>
        </p:nvSpPr>
        <p:spPr>
          <a:xfrm>
            <a:off x="1754640" y="838080"/>
            <a:ext cx="569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s-CL" sz="2400" spc="-1" strike="noStrike">
                <a:solidFill>
                  <a:srgbClr val="eaeaea"/>
                </a:solidFill>
                <a:latin typeface="Verdana"/>
              </a:rPr>
              <a:t>Sólo parte de los producido se vende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500"/>
                            </p:stCondLst>
                            <p:childTnLst>
                              <p:par>
                                <p:cTn id="1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500"/>
                            </p:stCondLst>
                            <p:childTnLst>
                              <p:par>
                                <p:cTn id="1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500"/>
                            </p:stCondLst>
                            <p:childTnLst>
                              <p:par>
                                <p:cTn id="1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Propiedades económic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22507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Verdana"/>
              </a:rPr>
              <a:t>Función objetivo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CL" sz="2400" spc="-1" strike="noStrike">
                <a:solidFill>
                  <a:srgbClr val="eaeaea"/>
                </a:solidFill>
                <a:latin typeface="Verdana"/>
              </a:rPr>
              <a:t>maximizar profit esperado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Verdana"/>
              </a:rPr>
              <a:t>Lema de Hotelling: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aeaea"/>
                </a:solidFill>
                <a:latin typeface="Verdana"/>
              </a:rPr>
              <a:t>la función de oferta es igual a la derivada (precio) del profit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quilibrio: 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existencia y unicidad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1116000" y="1692360"/>
                <a:ext cx="165564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94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1187280" y="3405240"/>
                <a:ext cx="16560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k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96" name=""/>
          <p:cNvSpPr/>
          <p:nvPr/>
        </p:nvSpPr>
        <p:spPr>
          <a:xfrm>
            <a:off x="971640" y="1197000"/>
            <a:ext cx="58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Verdana"/>
              </a:rPr>
              <a:t>Modelos no Restringidos: </a:t>
            </a:r>
            <a:r>
              <a:rPr b="0" lang="es-ES_tradnl" sz="1600" spc="-1" strike="noStrike">
                <a:solidFill>
                  <a:srgbClr val="eaeaea"/>
                </a:solidFill>
                <a:latin typeface="Verdana"/>
              </a:rPr>
              <a:t>todo se vende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1116000" y="2421000"/>
                <a:ext cx="77770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e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e</m:t>
                                    </m:r>
                                  </m:sup>
                                </m:sSubSup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9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1187280" y="4149720"/>
                <a:ext cx="770580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  <m:sup>
                        <m:r>
                          <m:t xml:space="preserve">e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c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i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k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ki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γ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01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1187280" y="5157720"/>
                <a:ext cx="207972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f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e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−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e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7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3635280" y="5013360"/>
                <a:ext cx="108108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e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e</m:t>
                            </m:r>
                          </m:sup>
                        </m:sSubSup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5003640" y="5084640"/>
                <a:ext cx="244800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e</m:t>
                            </m:r>
                          </m:sup>
                        </m:sSubSup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sub>
                    </m:sSub>
                    <m:r>
                      <m:t xml:space="preserve">f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e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0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971640" y="587700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Verdana"/>
              </a:rPr>
              <a:t>Existencia de equilibri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4211640" y="5808600"/>
                <a:ext cx="26640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e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Puntos fijo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308320" y="2438280"/>
            <a:ext cx="0" cy="297180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308320" y="5410080"/>
            <a:ext cx="4800600" cy="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2308320" y="2666880"/>
            <a:ext cx="3276360" cy="27432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3809880" y="1371600"/>
                <a:ext cx="135576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e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e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9" name=""/>
          <p:cNvSpPr/>
          <p:nvPr/>
        </p:nvSpPr>
        <p:spPr>
          <a:xfrm>
            <a:off x="7177680" y="5289480"/>
            <a:ext cx="3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eaeaea"/>
                </a:solidFill>
                <a:latin typeface="Verdana"/>
              </a:rPr>
              <a:t>p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597320" y="220968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aeaea"/>
                </a:solidFill>
                <a:latin typeface="Verdana"/>
              </a:rPr>
              <a:t>f(p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627160" y="249552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eaeaea"/>
                </a:solidFill>
                <a:latin typeface="Verdana"/>
              </a:rPr>
              <a:t>y=x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4038480" y="4354560"/>
                <a:ext cx="108108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e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e</m:t>
                            </m:r>
                          </m:sup>
                        </m:sSubSup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3" name=""/>
          <p:cNvSpPr/>
          <p:nvPr/>
        </p:nvSpPr>
        <p:spPr>
          <a:xfrm>
            <a:off x="2308320" y="3581280"/>
            <a:ext cx="3429000" cy="2514600"/>
          </a:xfrm>
          <a:custGeom>
            <a:avLst/>
            <a:gdLst/>
            <a:ahLst/>
            <a:rect l="l" t="t" r="r" b="b"/>
            <a:pathLst>
              <a:path w="2160" h="1584">
                <a:moveTo>
                  <a:pt x="0" y="0"/>
                </a:moveTo>
                <a:cubicBezTo>
                  <a:pt x="144" y="100"/>
                  <a:pt x="288" y="200"/>
                  <a:pt x="384" y="288"/>
                </a:cubicBezTo>
                <a:cubicBezTo>
                  <a:pt x="480" y="376"/>
                  <a:pt x="528" y="424"/>
                  <a:pt x="576" y="528"/>
                </a:cubicBezTo>
                <a:cubicBezTo>
                  <a:pt x="624" y="632"/>
                  <a:pt x="608" y="816"/>
                  <a:pt x="672" y="912"/>
                </a:cubicBezTo>
                <a:cubicBezTo>
                  <a:pt x="736" y="1008"/>
                  <a:pt x="792" y="1032"/>
                  <a:pt x="960" y="1104"/>
                </a:cubicBezTo>
                <a:cubicBezTo>
                  <a:pt x="1128" y="1176"/>
                  <a:pt x="1480" y="1264"/>
                  <a:pt x="1680" y="1344"/>
                </a:cubicBezTo>
                <a:cubicBezTo>
                  <a:pt x="1880" y="1424"/>
                  <a:pt x="2020" y="1504"/>
                  <a:pt x="2160" y="1584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4889520" y="6056280"/>
                <a:ext cx="244800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e</m:t>
                            </m:r>
                          </m:sup>
                        </m:sSubSup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sub>
                    </m:sSub>
                    <m:r>
                      <m:t xml:space="preserve">f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e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838080" y="3432240"/>
                <a:ext cx="137160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e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6" name=""/>
          <p:cNvSpPr/>
          <p:nvPr/>
        </p:nvSpPr>
        <p:spPr>
          <a:xfrm>
            <a:off x="3146400" y="4495680"/>
            <a:ext cx="228600" cy="228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quilibrio: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xistencia y unicida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900000" y="1413000"/>
            <a:ext cx="71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Verdana"/>
              </a:rPr>
              <a:t>Modelos Restringidos: </a:t>
            </a:r>
            <a:r>
              <a:rPr b="0" lang="es-ES_tradnl" sz="1600" spc="-1" strike="noStrike">
                <a:solidFill>
                  <a:srgbClr val="eaeaea"/>
                </a:solidFill>
                <a:latin typeface="Verdana"/>
              </a:rPr>
              <a:t>sólo parte de lo producido se vende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1042920" y="1989000"/>
                <a:ext cx="187164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>
                            <m:r>
                              <m:t xml:space="preserve">P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sSubSup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36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1042920" y="2617920"/>
                <a:ext cx="795672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Sup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o</m:t>
                        </m:r>
                      </m:sup>
                    </m:sSubSup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e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Ι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e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Ι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den>
                    </m:f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γ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i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p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e</m:t>
                                        </m:r>
                                      </m:sup>
                                    </m:sSubSup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bar>
                                          <m:barPr>
                                            <m:pos m:val="top"/>
                                          </m:barPr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</m:ba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i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p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e</m:t>
                                        </m:r>
                                      </m:sup>
                                    </m:sSubSup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d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38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990720" y="3733920"/>
                <a:ext cx="151272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ki</m:t>
                            </m:r>
                          </m:sub>
                          <m:sup>
                            <m:r>
                              <m:t xml:space="preserve">P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990720" y="4419720"/>
                <a:ext cx="734508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  <m:sup>
                        <m:r>
                          <m:t xml:space="preserve">e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γ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ki</m:t>
                                    </m:r>
                                  </m:sub>
                                </m:sSub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ki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φ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d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41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1187280" y="5380200"/>
                <a:ext cx="164016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g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e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3132000" y="5410080"/>
                <a:ext cx="144000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e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e</m:t>
                            </m:r>
                          </m:sup>
                        </m:sSubSup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4932360" y="5410080"/>
                <a:ext cx="223200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e</m:t>
                            </m:r>
                          </m:sup>
                        </m:sSubSup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sub>
                    </m:sSub>
                    <m:r>
                      <m:t xml:space="preserve">g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e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6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71640" y="611028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Verdana"/>
              </a:rPr>
              <a:t>Existencia de equilibri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4211640" y="6086520"/>
                <a:ext cx="265284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e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Lem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243000" y="3586320"/>
          <a:ext cx="8505720" cy="203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000" y="3586320"/>
                    <a:ext cx="8505720" cy="20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3" name=""/>
          <p:cNvSpPr/>
          <p:nvPr/>
        </p:nvSpPr>
        <p:spPr>
          <a:xfrm>
            <a:off x="958680" y="2009880"/>
            <a:ext cx="727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La condición necesaria y suficiente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de existencia de equilibrio único es que exista exceso de oferta a precios nulo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4572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MX" sz="3200" spc="-1" strike="noStrike">
                <a:solidFill>
                  <a:srgbClr val="ffffcc"/>
                </a:solidFill>
                <a:latin typeface="Arial"/>
              </a:rPr>
              <a:t>MODELOS ENTRÓPICOS PARA OFERTA RESIDENCIAL:</a:t>
            </a:r>
            <a:br>
              <a:rPr sz="3200"/>
            </a:br>
            <a:r>
              <a:rPr b="0" lang="es-MX" sz="3200" spc="-1" strike="noStrike">
                <a:solidFill>
                  <a:srgbClr val="ffffcc"/>
                </a:solidFill>
                <a:latin typeface="Arial"/>
              </a:rPr>
              <a:t> ALGORITMOS DE SOLUCIÓN Y APLICACIÓN DE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Francisco Martínez </a:t>
            </a:r>
            <a:br>
              <a:rPr sz="2400"/>
            </a:b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(John Roy, Carlos Jara)</a:t>
            </a:r>
            <a:br>
              <a:rPr sz="2400"/>
            </a:b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Universidad de Chile</a:t>
            </a:r>
            <a:br>
              <a:rPr sz="3200"/>
            </a:br>
            <a:br>
              <a:rPr sz="3200"/>
            </a:b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55840" y="4740120"/>
            <a:ext cx="275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lgoritmos Calibració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322200" y="3213000"/>
                <a:ext cx="8559720" cy="316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odelo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stringidos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L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 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lgoritmo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ar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uncione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ntrópicas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AR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nvergencia</m:t>
                        </m:r>
                        <m:r>
                          <m:t xml:space="preserve"> 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segurada pero NO 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el signo de α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Modelo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stringidos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L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P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P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</m:e>
                        </m:nary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 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lgoritmo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ar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uncione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nvexas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étod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o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ultiplicadores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nvergencia</m:t>
                        </m:r>
                        <m:r>
                          <m:t xml:space="preserve"> 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pende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el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unto inicial cercano a solució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ba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57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152280" y="2157480"/>
                <a:ext cx="87505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α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γ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r</m:t>
                            </m:r>
                          </m:e>
                        </m:ba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ki</m:t>
                        </m:r>
                      </m:sub>
                    </m:sSub>
                    <m:r>
                      <m:t xml:space="preserve">,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bar>
                    <m:r>
                      <m:t xml:space="preserve">,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</m:e>
                    </m:bar>
                    <m:r>
                      <m:t xml:space="preserve">,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ki</m:t>
                            </m:r>
                          </m:sub>
                        </m:sSub>
                      </m:e>
                    </m:bar>
                    <m:r>
                      <m:t xml:space="preserve">,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O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D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HD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9" name=""/>
          <p:cNvSpPr/>
          <p:nvPr/>
        </p:nvSpPr>
        <p:spPr>
          <a:xfrm>
            <a:off x="324000" y="1484280"/>
            <a:ext cx="40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Verdana"/>
              </a:rPr>
              <a:t>Calibració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MAR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762120" y="1676520"/>
                <a:ext cx="190476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e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3994200" y="1847880"/>
                <a:ext cx="33210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463" name=""/>
          <p:cNvGraphicFramePr/>
          <p:nvPr/>
        </p:nvGraphicFramePr>
        <p:xfrm>
          <a:off x="457200" y="2871720"/>
          <a:ext cx="8292960" cy="360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71720"/>
                    <a:ext cx="8292960" cy="36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5" name=""/>
          <p:cNvSpPr/>
          <p:nvPr/>
        </p:nvSpPr>
        <p:spPr>
          <a:xfrm>
            <a:off x="3158640" y="1889280"/>
            <a:ext cx="58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eaeaea"/>
                </a:solidFill>
                <a:latin typeface="Verdana"/>
              </a:rPr>
              <a:t>s.a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lgoritmos complementario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755640" y="2421000"/>
                <a:ext cx="482616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el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stringido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-46836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830160" y="3692520"/>
                <a:ext cx="7402680" cy="25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o</m:t>
                            </m:r>
                          </m:sup>
                        </m:sSubSup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γ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Ι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d>
                          </m:num>
                          <m:den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γ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¯"/>
                                              </m:accPr>
                                              <m:e>
                                                <m:r>
                                                  <m:t xml:space="preserve">p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Ι</m:t>
                                        </m:r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¯"/>
                                              </m:accPr>
                                              <m:e>
                                                <m:r>
                                                  <m:t xml:space="preserve">c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den>
                        </m:f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el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stringido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quiere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noce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antidade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roducida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demá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ivele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recio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2" name=""/>
          <p:cNvSpPr/>
          <p:nvPr/>
        </p:nvSpPr>
        <p:spPr>
          <a:xfrm>
            <a:off x="826920" y="1413000"/>
            <a:ext cx="792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Verdana"/>
              </a:rPr>
              <a:t>Calibración directa a partir de fórmulas explícita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lgoritmos Predicció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838080" y="2422440"/>
                <a:ext cx="530568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p>
                        </m:sSup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α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γ</m:t>
                        </m:r>
                      </m:e>
                    </m:acc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e</m:t>
                            </m:r>
                          </m:sup>
                        </m:sSup>
                      </m:sub>
                    </m:sSub>
                    <m:r>
                      <m:t xml:space="preserve">,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r</m:t>
                            </m:r>
                          </m:e>
                        </m:ba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ki</m:t>
                        </m:r>
                      </m:sub>
                    </m:sSub>
                    <m:r>
                      <m:t xml:space="preserve">,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bar>
                    <m:r>
                      <m:t xml:space="preserve">,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</m:e>
                    </m:bar>
                    <m:r>
                      <m:t xml:space="preserve">,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ki</m:t>
                            </m:r>
                          </m:sub>
                        </m:sSub>
                      </m:e>
                    </m:ba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7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412920" y="4726080"/>
                <a:ext cx="543708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α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γ</m:t>
                        </m:r>
                      </m:e>
                    </m:acc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e</m:t>
                            </m:r>
                          </m:sup>
                        </m:sSup>
                      </m:sub>
                    </m:sSub>
                    <m:r>
                      <m:t xml:space="preserve">,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r</m:t>
                            </m:r>
                          </m:e>
                        </m:ba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ki</m:t>
                        </m:r>
                      </m:sub>
                    </m:sSub>
                    <m:r>
                      <m:t xml:space="preserve">,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bar>
                    <m:r>
                      <m:t xml:space="preserve">,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</m:e>
                    </m:bar>
                    <m:r>
                      <m:t xml:space="preserve">,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ki</m:t>
                            </m:r>
                          </m:sub>
                        </m:sSub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9" name=""/>
          <p:cNvSpPr/>
          <p:nvPr/>
        </p:nvSpPr>
        <p:spPr>
          <a:xfrm>
            <a:off x="468360" y="3716280"/>
            <a:ext cx="40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Symbol"/>
                <a:ea typeface="Symbol"/>
              </a:rPr>
              <a:t></a:t>
            </a:r>
            <a:r>
              <a:rPr b="0" lang="es-ES_tradnl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eaeaea"/>
                </a:solidFill>
                <a:latin typeface="Verdana"/>
              </a:rPr>
              <a:t>Método de Bisecció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Aplicación a Santiago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Verdana"/>
              </a:rPr>
              <a:t>Dimensiones: </a:t>
            </a:r>
            <a:r>
              <a:rPr b="0" i="1" lang="es-MX" sz="2800" spc="-1" strike="noStrike">
                <a:solidFill>
                  <a:srgbClr val="eaeaea"/>
                </a:solidFill>
                <a:latin typeface="Verdana"/>
              </a:rPr>
              <a:t>v</a:t>
            </a:r>
            <a:r>
              <a:rPr b="0" lang="es-MX" sz="2800" spc="-1" strike="noStrike">
                <a:solidFill>
                  <a:srgbClr val="eaeaea"/>
                </a:solidFill>
                <a:latin typeface="Verdana"/>
              </a:rPr>
              <a:t>=3, </a:t>
            </a:r>
            <a:r>
              <a:rPr b="0" i="1" lang="es-MX" sz="2800" spc="-1" strike="noStrike">
                <a:solidFill>
                  <a:srgbClr val="eaeaea"/>
                </a:solidFill>
                <a:latin typeface="Verdana"/>
              </a:rPr>
              <a:t>k</a:t>
            </a:r>
            <a:r>
              <a:rPr b="0" lang="es-MX" sz="2800" spc="-1" strike="noStrike">
                <a:solidFill>
                  <a:srgbClr val="eaeaea"/>
                </a:solidFill>
                <a:latin typeface="Verdana"/>
              </a:rPr>
              <a:t>=5, </a:t>
            </a:r>
            <a:r>
              <a:rPr b="0" i="1" lang="es-MX" sz="2800" spc="-1" strike="noStrike">
                <a:solidFill>
                  <a:srgbClr val="eaeaea"/>
                </a:solidFill>
                <a:latin typeface="Verdana"/>
              </a:rPr>
              <a:t>i</a:t>
            </a:r>
            <a:r>
              <a:rPr b="0" lang="es-MX" sz="2800" spc="-1" strike="noStrike">
                <a:solidFill>
                  <a:srgbClr val="eaeaea"/>
                </a:solidFill>
                <a:latin typeface="Verdana"/>
              </a:rPr>
              <a:t>=34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Verdana"/>
              </a:rPr>
              <a:t>Datos requeridos 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343880" indent="-447840">
              <a:spcBef>
                <a:spcPts val="601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Verdana"/>
              </a:rPr>
              <a:t>Precios de vivienda </a:t>
            </a:r>
            <a:r>
              <a:rPr b="0" i="1" lang="es-MX" sz="2400" spc="-1" strike="noStrike">
                <a:solidFill>
                  <a:srgbClr val="eaeaea"/>
                </a:solidFill>
                <a:latin typeface="Verdana"/>
              </a:rPr>
              <a:t>r</a:t>
            </a:r>
            <a:r>
              <a:rPr b="0" i="1" lang="es-MX" sz="2400" spc="-1" strike="noStrike" baseline="-25000">
                <a:solidFill>
                  <a:srgbClr val="eaeaea"/>
                </a:solidFill>
                <a:latin typeface="Verdana"/>
              </a:rPr>
              <a:t>vki</a:t>
            </a:r>
            <a:r>
              <a:rPr b="0" i="1" lang="es-MX" sz="2400" spc="-1" strike="noStrike" baseline="-25000">
                <a:solidFill>
                  <a:srgbClr val="eaeaea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717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=&gt; EOD 1991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2" marL="1343880" indent="-447840">
              <a:spcBef>
                <a:spcPts val="601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Verdana"/>
              </a:rPr>
              <a:t>Precios de lotes </a:t>
            </a:r>
            <a:r>
              <a:rPr b="0" i="1" lang="es-MX" sz="2400" spc="-1" strike="noStrike">
                <a:solidFill>
                  <a:srgbClr val="eaeaea"/>
                </a:solidFill>
                <a:latin typeface="Verdana"/>
              </a:rPr>
              <a:t>p</a:t>
            </a:r>
            <a:r>
              <a:rPr b="0" i="1" lang="es-MX" sz="2400" spc="-1" strike="noStrike" baseline="-25000">
                <a:solidFill>
                  <a:srgbClr val="eaeaea"/>
                </a:solidFill>
                <a:latin typeface="Verdana"/>
              </a:rPr>
              <a:t>ki</a:t>
            </a:r>
            <a:r>
              <a:rPr b="0" lang="es-MX" sz="2400" spc="-1" strike="noStrike" baseline="-25000">
                <a:solidFill>
                  <a:srgbClr val="eaeaea"/>
                </a:solidFill>
                <a:latin typeface="Verdana"/>
              </a:rPr>
              <a:t> </a:t>
            </a:r>
            <a:r>
              <a:rPr b="0" lang="es-MX" sz="2400" spc="-1" strike="noStrike">
                <a:solidFill>
                  <a:srgbClr val="eaeaea"/>
                </a:solidFill>
                <a:latin typeface="Verdana"/>
              </a:rPr>
              <a:t>y de suelo </a:t>
            </a:r>
            <a:r>
              <a:rPr b="0" i="1" lang="es-MX" sz="2400" spc="-1" strike="noStrike">
                <a:solidFill>
                  <a:srgbClr val="eaeaea"/>
                </a:solidFill>
                <a:latin typeface="Verdana"/>
              </a:rPr>
              <a:t>p</a:t>
            </a:r>
            <a:r>
              <a:rPr b="0" i="1" lang="es-MX" sz="2400" spc="-1" strike="noStrike" baseline="-25000">
                <a:solidFill>
                  <a:srgbClr val="eaeaea"/>
                </a:solidFill>
                <a:latin typeface="Verdana"/>
              </a:rPr>
              <a:t>i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717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=&gt; Análisis trimestral (EMOL)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2" marL="1343880" indent="-447840">
              <a:spcBef>
                <a:spcPts val="601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Verdana"/>
              </a:rPr>
              <a:t>Niveles de ganancia por etap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717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=&gt; Arbitrarios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2" marL="1343880" indent="-447840">
              <a:spcBef>
                <a:spcPts val="601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Verdana"/>
              </a:rPr>
              <a:t>Producción total por etapa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717200" indent="-372960">
              <a:spcBef>
                <a:spcPts val="400"/>
              </a:spcBef>
              <a:buClr>
                <a:srgbClr val="eaeaea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Arbitrarios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lvl="3" marL="1717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4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4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4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4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Resultado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932920" y="1219320"/>
            <a:ext cx="28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Verdana"/>
              </a:rPr>
              <a:t>Modelos no restringido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eaeaea"/>
                </a:solidFill>
                <a:latin typeface="Verdana"/>
              </a:rPr>
              <a:t>Variación del profi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0" y="14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85" name="lotes5_unc" descr=""/>
          <p:cNvPicPr/>
          <p:nvPr/>
        </p:nvPicPr>
        <p:blipFill>
          <a:blip r:embed="rId1"/>
          <a:stretch/>
        </p:blipFill>
        <p:spPr>
          <a:xfrm>
            <a:off x="395280" y="2276640"/>
            <a:ext cx="4084560" cy="3078000"/>
          </a:xfrm>
          <a:prstGeom prst="rect">
            <a:avLst/>
          </a:prstGeom>
          <a:ln w="0">
            <a:noFill/>
          </a:ln>
        </p:spPr>
      </p:pic>
      <p:pic>
        <p:nvPicPr>
          <p:cNvPr id="486" name="delta5i" descr=""/>
          <p:cNvPicPr/>
          <p:nvPr/>
        </p:nvPicPr>
        <p:blipFill>
          <a:blip r:embed="rId2"/>
          <a:stretch/>
        </p:blipFill>
        <p:spPr>
          <a:xfrm>
            <a:off x="4788000" y="2276640"/>
            <a:ext cx="4105080" cy="307944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>
            <a:off x="849600" y="1987560"/>
            <a:ext cx="335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eaeaea"/>
                </a:solidFill>
                <a:latin typeface="Verdana"/>
              </a:rPr>
              <a:t>Lotes producidos dos niveles de profit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217120" y="1981080"/>
            <a:ext cx="142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eaeaea"/>
                </a:solidFill>
                <a:latin typeface="Verdana"/>
              </a:rPr>
              <a:t>Profit por zona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Resultado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381680" y="1295280"/>
            <a:ext cx="573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Verdana"/>
              </a:rPr>
              <a:t>Modelos no restringido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Verdana"/>
              </a:rPr>
              <a:t>variación de precios de equilibrio con nivel de profi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1"/>
          <a:stretch/>
        </p:blipFill>
        <p:spPr>
          <a:xfrm>
            <a:off x="2057400" y="2133720"/>
            <a:ext cx="510840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Resultado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454040" y="1268280"/>
            <a:ext cx="63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Verdana"/>
              </a:rPr>
              <a:t>Modelos restringido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Verdana"/>
              </a:rPr>
              <a:t>Oferta de suelo, fuerte dependencia en oferta inicia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0" y="14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1908000" y="1916280"/>
            <a:ext cx="561348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Resultado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457200" y="235116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539640" y="12682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Verdana"/>
              </a:rPr>
              <a:t>Modelos restringidos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Verdana"/>
              </a:rPr>
              <a:t>Porcentaje de oferta vendida mayor corresponde a precios mayore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2"/>
          <a:stretch/>
        </p:blipFill>
        <p:spPr>
          <a:xfrm>
            <a:off x="4648320" y="2351160"/>
            <a:ext cx="4038480" cy="3029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0" name=""/>
          <p:cNvGraphicFramePr/>
          <p:nvPr/>
        </p:nvGraphicFramePr>
        <p:xfrm>
          <a:off x="1758960" y="5781600"/>
          <a:ext cx="5610240" cy="687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8960" y="5781600"/>
                    <a:ext cx="5610240" cy="6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2" name=""/>
          <p:cNvSpPr/>
          <p:nvPr/>
        </p:nvSpPr>
        <p:spPr>
          <a:xfrm>
            <a:off x="393120" y="5573880"/>
            <a:ext cx="727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eaeaea"/>
                </a:solidFill>
                <a:latin typeface="Arial"/>
              </a:rPr>
              <a:t>Elasticidad oferta-precio crece induce menor stock no vendido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eaeaea"/>
                </a:solidFill>
                <a:latin typeface="Arial"/>
              </a:rPr>
              <a:t>Mayor profit exigido induce mayor stock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Resultado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39640" y="12682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Verdana"/>
              </a:rPr>
              <a:t>Modelos restringidos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Verdana"/>
              </a:rPr>
              <a:t>Precios de equilibrio muy diferentes a originale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1"/>
          <a:stretch/>
        </p:blipFill>
        <p:spPr>
          <a:xfrm>
            <a:off x="1763640" y="2101680"/>
            <a:ext cx="5832720" cy="43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4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9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Verdana"/>
              </a:rPr>
              <a:t>Agentes con comportamiento racional y estocástic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Verdana"/>
              </a:rPr>
              <a:t>Oferta discreta y diferenciable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Verdana"/>
              </a:rPr>
              <a:t>Cadena de producción en equilibrio estático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Verdana"/>
              </a:rPr>
              <a:t>Modelos de oferta entrópico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Verdana"/>
              </a:rPr>
              <a:t>Competencia perfecta e imperfecta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Verdana"/>
              </a:rPr>
              <a:t>Oferentes heterogéneo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Verdana"/>
              </a:rPr>
              <a:t>Modelos usuales de oferta asumen oferta predeterminada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Conclusion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aeaea"/>
                </a:solidFill>
                <a:latin typeface="Verdana"/>
              </a:rPr>
              <a:t>Algoritmos para M&amp;Roy: Caso de competencia y restricciones lineale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aeaea"/>
                </a:solidFill>
                <a:latin typeface="Verdana"/>
              </a:rPr>
              <a:t>Propiedades económicas: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eaeaea"/>
                </a:solidFill>
                <a:latin typeface="Verdana"/>
              </a:rPr>
              <a:t>Maximización profit esperado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eaeaea"/>
                </a:solidFill>
                <a:latin typeface="Verdana"/>
              </a:rPr>
              <a:t>Hotelling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eaeaea"/>
                </a:solidFill>
                <a:latin typeface="Verdana"/>
              </a:rPr>
              <a:t>Relaciones de stock con profit y elasticidad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aeaea"/>
                </a:solidFill>
                <a:latin typeface="Verdana"/>
              </a:rPr>
              <a:t>Entropía de Shannon (No Restringidos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eaeaea"/>
                </a:solidFill>
                <a:latin typeface="Verdana"/>
              </a:rPr>
              <a:t>MART converge solución únic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eaeaea"/>
                </a:solidFill>
                <a:latin typeface="Verdana"/>
              </a:rPr>
              <a:t>Eficiencia permite explorar escenarios de restricciones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aeaea"/>
                </a:solidFill>
                <a:latin typeface="Verdana"/>
              </a:rPr>
              <a:t>Entropía de Fermi-Dirac (Restringidos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eaeaea"/>
                </a:solidFill>
                <a:latin typeface="Verdana"/>
              </a:rPr>
              <a:t>M. Multiplicadores, requiere buen punto inicia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eaeaea"/>
                </a:solidFill>
                <a:latin typeface="Verdana"/>
              </a:rPr>
              <a:t>Convergencia asegurada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1523880" y="-914400"/>
          <a:ext cx="5712120" cy="784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-914400"/>
                    <a:ext cx="5712120" cy="784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cc"/>
                </a:solidFill>
                <a:latin typeface="Arial"/>
              </a:rPr>
              <a:t>Estructura del modelo</a:t>
            </a:r>
            <a:br>
              <a:rPr sz="4000"/>
            </a:b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Martínez-Roy (2002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7520" y="996840"/>
          <a:ext cx="4119840" cy="5711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520" y="996840"/>
                    <a:ext cx="4119840" cy="57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294160" y="2219400"/>
                <a:ext cx="3595680" cy="39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L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≤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γ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⇔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α</m:t>
                            </m:r>
                          </m:den>
                        </m:f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L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π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≤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aximiza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rofi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sperado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ariable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estocástic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Equilibrio restringido o irrestrict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468360" y="1989000"/>
                <a:ext cx="3276720" cy="325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L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≤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γ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α</m:t>
                            </m:r>
                          </m:den>
                        </m:f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L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π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γ</m:t>
                        </m:r>
                        <m:r>
                          <m:t xml:space="preserve">(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4932360" y="2039760"/>
                <a:ext cx="3095640" cy="17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quilibri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rrestricto</m:t>
                        </m:r>
                        <m:r>
                          <m:t xml:space="preserve">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striccione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gualdad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932360" y="3941640"/>
                <a:ext cx="3152880" cy="17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quilibri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stringido</m:t>
                        </m:r>
                        <m:r>
                          <m:t xml:space="preserve">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stricciones desigualdad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≥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4926600" y="5899320"/>
            <a:ext cx="34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33"/>
                </a:solidFill>
                <a:latin typeface="Verdana"/>
              </a:rPr>
              <a:t>Elegir </a:t>
            </a:r>
            <a:r>
              <a:rPr b="0" i="1" lang="es-CL" sz="2400" spc="-1" strike="noStrike">
                <a:solidFill>
                  <a:srgbClr val="333333"/>
                </a:solidFill>
                <a:latin typeface="Verdana"/>
              </a:rPr>
              <a:t>S </a:t>
            </a:r>
            <a:r>
              <a:rPr b="0" lang="es-CL" sz="2400" spc="-1" strike="noStrike">
                <a:solidFill>
                  <a:srgbClr val="333333"/>
                </a:solidFill>
                <a:latin typeface="Verdana"/>
              </a:rPr>
              <a:t>para cada cas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850280" y="1433520"/>
            <a:ext cx="275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 se distribuye en x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5580000" y="2492280"/>
            <a:ext cx="2448000" cy="503280"/>
          </a:xfrm>
          <a:prstGeom prst="rect">
            <a:avLst/>
          </a:prstGeom>
          <a:solidFill>
            <a:srgbClr val="333333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Competencia irrestrict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523880" y="1676520"/>
                <a:ext cx="255276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L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479600" y="2514600"/>
                <a:ext cx="255888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L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c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479600" y="3182760"/>
                <a:ext cx="13399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447920" y="4044960"/>
                <a:ext cx="564516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L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π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447920" y="4952880"/>
                <a:ext cx="350496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L</m:t>
                            </m:r>
                          </m:sup>
                        </m:sSup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560160" y="2394000"/>
            <a:ext cx="6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aeaea"/>
                </a:solidFill>
                <a:latin typeface="Verdana"/>
              </a:rPr>
              <a:t>s.a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95280" y="3886200"/>
            <a:ext cx="34290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724280" y="1752120"/>
            <a:ext cx="0" cy="21337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75120" y="1371600"/>
            <a:ext cx="21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eaeaea"/>
                </a:solidFill>
                <a:uFillTx/>
                <a:latin typeface="Verdana"/>
              </a:rPr>
              <a:t>Caso 1: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eaeaea"/>
                </a:solidFill>
                <a:uFillTx/>
                <a:latin typeface="Verdana"/>
              </a:rPr>
              <a:t>Suelo agrícol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0400" y="3116160"/>
            <a:ext cx="24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aeaea"/>
                </a:solidFill>
                <a:latin typeface="Verdana"/>
              </a:rPr>
              <a:t>Productor únic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92720" y="2492280"/>
            <a:ext cx="3600360" cy="503280"/>
          </a:xfrm>
          <a:prstGeom prst="rect">
            <a:avLst/>
          </a:prstGeom>
          <a:solidFill>
            <a:srgbClr val="333333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eaeaea"/>
                </a:solidFill>
                <a:latin typeface="Times New Roman"/>
              </a:rPr>
              <a:t>x</a:t>
            </a:r>
            <a:r>
              <a:rPr b="0" i="1" lang="es-MX" sz="2400" spc="-1" strike="noStrike" baseline="-25000">
                <a:solidFill>
                  <a:srgbClr val="eaeaea"/>
                </a:solidFill>
                <a:latin typeface="Times New Roman"/>
              </a:rPr>
              <a:t>i</a:t>
            </a:r>
            <a:r>
              <a:rPr b="0" i="1" lang="es-MX" sz="2400" spc="-1" strike="noStrike">
                <a:solidFill>
                  <a:srgbClr val="eaeaea"/>
                </a:solidFill>
                <a:latin typeface="Times New Roman"/>
              </a:rPr>
              <a:t>: m</a:t>
            </a:r>
            <a:r>
              <a:rPr b="0" i="1" lang="es-MX" sz="24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r>
              <a:rPr b="0" i="1" lang="es-MX" sz="2400" spc="-1" strike="noStrike">
                <a:solidFill>
                  <a:srgbClr val="eaeaea"/>
                </a:solidFill>
                <a:latin typeface="Times New Roman"/>
              </a:rPr>
              <a:t> terreno en 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Competencia irrestrict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600200" y="2057400"/>
                <a:ext cx="37908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c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1600200" y="2819520"/>
                <a:ext cx="274320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bar>
                                          <m:barPr>
                                            <m:pos m:val="top"/>
                                          </m:barPr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</m:ba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bar>
                                          <m:barPr>
                                            <m:pos m:val="top"/>
                                          </m:barPr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</m:ba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</m:nary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1638360" y="4408560"/>
                <a:ext cx="315576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600200" y="5322960"/>
                <a:ext cx="42609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c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1447920" y="4038480"/>
            <a:ext cx="5410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46400" y="3357720"/>
            <a:ext cx="24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aeaea"/>
                </a:solidFill>
                <a:latin typeface="Verdana"/>
              </a:rPr>
              <a:t>Productor únic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558040" y="4375080"/>
            <a:ext cx="34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aeaea"/>
                </a:solidFill>
                <a:latin typeface="Verdana"/>
              </a:rPr>
              <a:t>Productor diferenciad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70760" y="1295280"/>
            <a:ext cx="227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eaeaea"/>
                </a:solidFill>
                <a:uFillTx/>
                <a:latin typeface="Verdana"/>
              </a:rPr>
              <a:t>Caso 1: cont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eaeaea"/>
                </a:solidFill>
                <a:uFillTx/>
                <a:latin typeface="Verdana"/>
              </a:rPr>
              <a:t>Suelo agrícola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12000" y="2349360"/>
            <a:ext cx="2592360" cy="503280"/>
          </a:xfrm>
          <a:prstGeom prst="rect">
            <a:avLst/>
          </a:prstGeom>
          <a:solidFill>
            <a:srgbClr val="333333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eaeaea"/>
                </a:solidFill>
                <a:latin typeface="Times New Roman"/>
              </a:rPr>
              <a:t>Q</a:t>
            </a:r>
            <a:r>
              <a:rPr b="0" i="1" lang="es-MX" sz="2400" spc="-1" strike="noStrike" baseline="-25000">
                <a:solidFill>
                  <a:srgbClr val="eaeaea"/>
                </a:solidFill>
                <a:latin typeface="Times New Roman"/>
              </a:rPr>
              <a:t>i</a:t>
            </a:r>
            <a:r>
              <a:rPr b="0" i="1" lang="es-MX" sz="2400" spc="-1" strike="noStrike">
                <a:solidFill>
                  <a:srgbClr val="eaeaea"/>
                </a:solidFill>
                <a:latin typeface="Times New Roman"/>
              </a:rPr>
              <a:t>: terreno en 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Competencia irrestrict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0160" y="2394000"/>
            <a:ext cx="6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aeaea"/>
                </a:solidFill>
                <a:latin typeface="Verdana"/>
              </a:rPr>
              <a:t>s.a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295280" y="3581280"/>
            <a:ext cx="34290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4724280" y="1752480"/>
            <a:ext cx="0" cy="18288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51720" y="1371600"/>
            <a:ext cx="204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eaeaea"/>
                </a:solidFill>
                <a:uFillTx/>
                <a:latin typeface="Verdana"/>
              </a:rPr>
              <a:t>Caso 2: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eaeaea"/>
                </a:solidFill>
                <a:uFillTx/>
                <a:latin typeface="Verdana"/>
              </a:rPr>
              <a:t>Urbanizador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689080" y="3187800"/>
            <a:ext cx="24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aeaea"/>
                </a:solidFill>
                <a:latin typeface="Verdana"/>
              </a:rPr>
              <a:t>Productor únic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600200" y="1676520"/>
                <a:ext cx="23623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D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523880" y="2333520"/>
                <a:ext cx="251460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D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i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c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i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447920" y="2971800"/>
                <a:ext cx="297180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</m:nary>
                    <m:r>
                      <m:t xml:space="preserve"> 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</m:e>
                    </m:nary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57200" y="3886200"/>
                <a:ext cx="426708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</m:sup>
                        </m:sSup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457200" y="4765680"/>
                <a:ext cx="434340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c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i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1547640" y="5805360"/>
                <a:ext cx="614376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e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e</m:t>
                                    </m:r>
                                  </m:sup>
                                </m:sSubSup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5727600" y="4876920"/>
                <a:ext cx="13590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5593320" y="396252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aeaea"/>
                </a:solidFill>
                <a:latin typeface="Verdana"/>
              </a:rPr>
              <a:t>Equilibri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292720" y="2492280"/>
            <a:ext cx="3600360" cy="503280"/>
          </a:xfrm>
          <a:prstGeom prst="rect">
            <a:avLst/>
          </a:prstGeom>
          <a:solidFill>
            <a:srgbClr val="333333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eaeaea"/>
                </a:solidFill>
                <a:latin typeface="Times New Roman"/>
              </a:rPr>
              <a:t>L</a:t>
            </a:r>
            <a:r>
              <a:rPr b="0" i="1" lang="es-MX" sz="2400" spc="-1" strike="noStrike" baseline="-25000">
                <a:solidFill>
                  <a:srgbClr val="eaeaea"/>
                </a:solidFill>
                <a:latin typeface="Times New Roman"/>
              </a:rPr>
              <a:t>ki</a:t>
            </a:r>
            <a:r>
              <a:rPr b="0" i="1" lang="es-MX" sz="2400" spc="-1" strike="noStrike">
                <a:solidFill>
                  <a:srgbClr val="eaeaea"/>
                </a:solidFill>
                <a:latin typeface="Times New Roman"/>
              </a:rPr>
              <a:t>: número lotes tipo k en 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5T13:17:34Z</dcterms:created>
  <dc:creator>Axcesso</dc:creator>
  <dc:description/>
  <dc:language>en-US</dc:language>
  <cp:lastModifiedBy>alumno</cp:lastModifiedBy>
  <dcterms:modified xsi:type="dcterms:W3CDTF">2006-10-23T14:54:45Z</dcterms:modified>
  <cp:revision>73</cp:revision>
  <dc:subject/>
  <dc:title>Esquema de Tesis CI73 M</dc:title>
</cp:coreProperties>
</file>