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9D5-AAC4-448D-8276-59D1EF01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4CF-442E-452B-A4CA-E6C3876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EC9-A10E-441C-B927-0B42413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1FA-435B-49E1-A530-E9FD7066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5106-E8B4-42B2-BED2-210D8EBD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91E2-BE70-4601-9F20-E0ED49A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4CDB-9EF8-4E06-BEE1-1AE8811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97C-17CC-4FEC-A1B0-1FD7DBE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C97-39E0-49B7-9F64-085A606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8D1-D51C-49C2-9C36-E26ED593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459C-DDD2-486E-B371-E97DB52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8C8-C7E0-4ACE-9BC8-399FBD85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09A-0C26-453C-937B-9E74472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6E18-5F54-4D1A-9EB2-4564802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6281-190C-4B58-A84D-C7DFF40F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066-9BD2-4019-9596-9286C9B8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1B2-821B-478D-B117-B5B9424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96F-A305-43A9-AC93-1631A315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40A-DBFF-47C6-BECE-11703726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48E-64CA-4798-9E41-F53715D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25B-8A24-4CA3-AE7E-2BC82C8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0CE-0ECE-459A-BB5F-A85A3B2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BA8-60F7-4F82-9BF3-F4612C8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30-1BCC-4F6D-B816-B6B8A59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C8CF-2CC8-4DEB-9D9E-E4EFE08C9E48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8D17-451D-4545-B663-4AEDBCCA55A0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I 73A CAPITULO 4.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DELAMIENTO DE OFERTA INMOBILIARI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2400" y="1371600"/>
            <a:ext cx="24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Desarrollador Inmobiliari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68440" y="1676520"/>
                <a:ext cx="26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44520" y="2333520"/>
                <a:ext cx="3075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33440" y="2971800"/>
                <a:ext cx="1398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04640" y="3886200"/>
                <a:ext cx="4372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v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1120" y="4765680"/>
                <a:ext cx="4435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82800" y="5950080"/>
                <a:ext cx="61848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748480" y="4876920"/>
                <a:ext cx="1317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263844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No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70200"/>
          <a:ext cx="8496360" cy="4530600"/>
        </p:xfrm>
        <a:graphic>
          <a:graphicData uri="http://schemas.openxmlformats.org/drawingml/2006/table">
            <a:tbl>
              <a:tblPr/>
              <a:tblGrid>
                <a:gridCol w="730080"/>
                <a:gridCol w="2725920"/>
                <a:gridCol w="2448000"/>
                <a:gridCol w="25923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pía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n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nanc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er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50880" y="3338640"/>
                <a:ext cx="2132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244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84480" y="3338640"/>
                <a:ext cx="230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984480" y="4419720"/>
                <a:ext cx="2376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84480" y="5570640"/>
                <a:ext cx="2376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05720" y="3260880"/>
                <a:ext cx="1901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37400" y="4437000"/>
                <a:ext cx="1838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527880" y="5465880"/>
                <a:ext cx="2259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5570640"/>
                <a:ext cx="2663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352600" y="102240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Todo lo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535720" y="2276640"/>
                <a:ext cx="30002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504040" y="4638600"/>
                <a:ext cx="3349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7960" y="2563920"/>
                <a:ext cx="39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71440" y="4668840"/>
                <a:ext cx="3967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920" y="19828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1760" y="3782880"/>
            <a:ext cx="55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la producción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P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y que la producción sea menor que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437080" y="2276640"/>
                <a:ext cx="3197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465880" y="3780000"/>
                <a:ext cx="34272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713560" y="5157720"/>
                <a:ext cx="34304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82440" y="2563920"/>
                <a:ext cx="42674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0920" y="3967200"/>
                <a:ext cx="3724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0920" y="5315040"/>
                <a:ext cx="482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436572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9640" y="5661000"/>
            <a:ext cx="2890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79280" y="1484280"/>
            <a:ext cx="8964720" cy="4916520"/>
            <a:chOff x="179280" y="1484280"/>
            <a:chExt cx="8964720" cy="4916520"/>
          </a:xfrm>
        </p:grpSpPr>
        <p:sp>
          <p:nvSpPr>
            <p:cNvPr id="349" name=""/>
            <p:cNvSpPr/>
            <p:nvPr/>
          </p:nvSpPr>
          <p:spPr>
            <a:xfrm>
              <a:off x="6408720" y="4970520"/>
              <a:ext cx="2735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25720" y="4970520"/>
              <a:ext cx="25830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49320" y="4970520"/>
              <a:ext cx="28764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9280" y="4970520"/>
              <a:ext cx="7700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H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8720" y="3695760"/>
              <a:ext cx="273528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25720" y="3695760"/>
              <a:ext cx="25830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49320" y="3695760"/>
              <a:ext cx="28764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9280" y="3695760"/>
              <a:ext cx="7700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8720" y="2419560"/>
              <a:ext cx="273528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25720" y="2419560"/>
              <a:ext cx="25830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9320" y="2419560"/>
              <a:ext cx="28764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2419560"/>
              <a:ext cx="77004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O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720" y="1484280"/>
              <a:ext cx="27352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ert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ida (P), Vendida (S)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5720" y="1484280"/>
              <a:ext cx="25830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nancia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49320" y="1484280"/>
              <a:ext cx="28764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opía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rmi Dira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9280" y="1484280"/>
              <a:ext cx="77004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9280" y="148428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9280" y="24195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280" y="36957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9280" y="497052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80" y="640080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28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493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25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8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4400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966960" y="2438280"/>
                <a:ext cx="27669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971640" y="3733920"/>
                <a:ext cx="2663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990720" y="5102280"/>
                <a:ext cx="28191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54520" y="2459160"/>
                <a:ext cx="25034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5105520"/>
                <a:ext cx="24480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400800" y="2743200"/>
                <a:ext cx="2627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400800" y="4432320"/>
                <a:ext cx="2666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400800" y="3805200"/>
                <a:ext cx="2743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443640" y="5722920"/>
                <a:ext cx="2700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443640" y="5029200"/>
                <a:ext cx="270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limLow>
                      <m:e/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886200" y="3805200"/>
                <a:ext cx="2438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754640" y="83808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ropiedades económ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Función objetiv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maximizar profit esperad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Lema de Hotelling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la función de oferta es igual a la derivada (precio) del profi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1692360"/>
                <a:ext cx="1655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87280" y="3405240"/>
                <a:ext cx="165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971640" y="1197000"/>
            <a:ext cx="58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to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116000" y="2421000"/>
                <a:ext cx="777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87280" y="4149720"/>
                <a:ext cx="7705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187280" y="5157720"/>
                <a:ext cx="2079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635280" y="50133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003640" y="5084640"/>
                <a:ext cx="2448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7164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211640" y="5808600"/>
                <a:ext cx="266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untos fij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08320" y="2438280"/>
            <a:ext cx="0" cy="297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08320" y="5410080"/>
            <a:ext cx="4800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308320" y="2666880"/>
            <a:ext cx="3276360" cy="2743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809880" y="1371600"/>
                <a:ext cx="1355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7177680" y="52894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7320" y="2209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f(p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27160" y="2495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eaeaea"/>
                </a:solidFill>
                <a:latin typeface="Verdana"/>
              </a:rPr>
              <a:t>y=x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038480" y="43545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308320" y="3581280"/>
            <a:ext cx="3429000" cy="2514600"/>
          </a:xfrm>
          <a:custGeom>
            <a:avLst/>
            <a:gdLst/>
            <a:ahLst/>
            <a:rect l="l" t="t" r="r" b="b"/>
            <a:pathLst>
              <a:path w="2160" h="1584">
                <a:moveTo>
                  <a:pt x="0" y="0"/>
                </a:moveTo>
                <a:cubicBezTo>
                  <a:pt x="144" y="100"/>
                  <a:pt x="288" y="200"/>
                  <a:pt x="384" y="288"/>
                </a:cubicBezTo>
                <a:cubicBezTo>
                  <a:pt x="480" y="376"/>
                  <a:pt x="528" y="424"/>
                  <a:pt x="576" y="528"/>
                </a:cubicBezTo>
                <a:cubicBezTo>
                  <a:pt x="624" y="632"/>
                  <a:pt x="608" y="816"/>
                  <a:pt x="672" y="912"/>
                </a:cubicBezTo>
                <a:cubicBezTo>
                  <a:pt x="736" y="1008"/>
                  <a:pt x="792" y="1032"/>
                  <a:pt x="960" y="1104"/>
                </a:cubicBezTo>
                <a:cubicBezTo>
                  <a:pt x="1128" y="1176"/>
                  <a:pt x="1480" y="1264"/>
                  <a:pt x="1680" y="1344"/>
                </a:cubicBezTo>
                <a:cubicBezTo>
                  <a:pt x="1880" y="1424"/>
                  <a:pt x="2020" y="1504"/>
                  <a:pt x="2160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89520" y="6056280"/>
                <a:ext cx="2448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838080" y="3432240"/>
                <a:ext cx="1371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146400" y="449568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1413000"/>
            <a:ext cx="71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sólo parte de lo produci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1042920" y="1989000"/>
                <a:ext cx="1871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042920" y="2617920"/>
                <a:ext cx="7956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90720" y="3733920"/>
                <a:ext cx="1512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990720" y="4419720"/>
                <a:ext cx="7345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187280" y="5380200"/>
                <a:ext cx="1640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132000" y="5410080"/>
                <a:ext cx="144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932360" y="5410080"/>
                <a:ext cx="2232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611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11640" y="6086520"/>
                <a:ext cx="2652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43000" y="3586320"/>
          <a:ext cx="8505720" cy="203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3586320"/>
                    <a:ext cx="85057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958680" y="2009880"/>
            <a:ext cx="727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La condición necesaria y suficien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 existencia de equilibrio único es que exista exceso de oferta a precios nul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MODELOS ENTRÓPICOS PARA OFERTA RESIDENCIAL:</a:t>
            </a:r>
            <a:br>
              <a:rPr sz="3200"/>
            </a:b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ALGORITMOS DE SOLUCIÓN Y APLICACIÓN D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(John Roy, Carlos Jara)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alibr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2200" y="3213000"/>
                <a:ext cx="85597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trópic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egurada pero NO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el signo de α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x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éto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ultiplicadore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pend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nto inicial cercano a solu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280" y="2157480"/>
                <a:ext cx="8750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324000" y="1484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alibr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A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1676520"/>
                <a:ext cx="19047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94200" y="1847880"/>
                <a:ext cx="3321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457200" y="2871720"/>
          <a:ext cx="8292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71720"/>
                    <a:ext cx="8292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3158640" y="188928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omplementar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55640" y="2421000"/>
                <a:ext cx="48261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468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0160" y="3692520"/>
                <a:ext cx="740268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Ι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er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oc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tidad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id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emá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ive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c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826920" y="1413000"/>
            <a:ext cx="79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Calibración directa a partir de fórmulas explícit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Predi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838080" y="2422440"/>
                <a:ext cx="5305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12920" y="4726080"/>
                <a:ext cx="5437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468360" y="3716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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étodo de Bisec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plicación a Santiag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imensiones: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k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5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atos requeridos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vivienda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vki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EOD 199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lotes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ki</a:t>
            </a:r>
            <a:r>
              <a:rPr b="0" lang="es-MX" sz="2400" spc="-1" strike="noStrike" baseline="-25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y de suelo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nálisis trimestral (EMOL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Niveles de ganancia por eta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oducción total por etap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-372960">
              <a:spcBef>
                <a:spcPts val="400"/>
              </a:spcBef>
              <a:buClr>
                <a:srgbClr val="eaeaea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32920" y="121932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l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5" name="lotes5_unc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084560" cy="3078000"/>
          </a:xfrm>
          <a:prstGeom prst="rect">
            <a:avLst/>
          </a:prstGeom>
          <a:ln w="0">
            <a:noFill/>
          </a:ln>
        </p:spPr>
      </p:pic>
      <p:pic>
        <p:nvPicPr>
          <p:cNvPr id="486" name="delta5i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105080" cy="3079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849600" y="198756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Lotes producidos dos niveles de profi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17120" y="19810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Profit por zon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1680" y="129528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 precios de equilibrio con nivel de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084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54040" y="12682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Oferta de suelo, fuerte dependencia en oferta inic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13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orcentaje de oferta vendida mayor corresponde a precios may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1758960" y="5781600"/>
          <a:ext cx="5610240" cy="68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5781600"/>
                    <a:ext cx="56102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93120" y="5573880"/>
            <a:ext cx="72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Elasticidad oferta-precio crece induce menor stock no vendid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Mayor profit exigido induce mayor stoc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recios de equilibrio muy diferentes a origina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763640" y="2101680"/>
            <a:ext cx="5832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Agentes con comportamiento racional y estocást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ta discreta y diferenciabl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adena de producción en equilibrio estát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de oferta entróp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ompetencia perfecta e imperfect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entes heterogéne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usuales de oferta asumen oferta predeterminad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Algoritmos para M&amp;Roy: Caso de competencia y restricciones line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piedades económica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ximización profit espera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Hotell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Relaciones de stock con profit y elastic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Shannon (No 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RT converge solución ún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Eficiencia permite explorar escenarios de restriccion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 (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. Multiplicadores, requiere buen punto in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Convergencia asegura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3880" y="-914400"/>
          <a:ext cx="571212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-914400"/>
                    <a:ext cx="571212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Arial"/>
              </a:rPr>
              <a:t>Estructura del modelo</a:t>
            </a:r>
            <a:br>
              <a:rPr sz="4000"/>
            </a:b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rtínez-Roy (200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520" y="996840"/>
          <a:ext cx="411984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996840"/>
                    <a:ext cx="41198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94160" y="2219400"/>
                <a:ext cx="3595680" cy="39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perado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stocásti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quilibrio restringido o irrestric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8360" y="1989000"/>
                <a:ext cx="327672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932360" y="2039760"/>
                <a:ext cx="30956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estrict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32360" y="3941640"/>
                <a:ext cx="315288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 des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926600" y="58993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Elegir </a:t>
            </a:r>
            <a:r>
              <a:rPr b="0" i="1" lang="es-CL" sz="2400" spc="-1" strike="noStrike">
                <a:solidFill>
                  <a:srgbClr val="333333"/>
                </a:solidFill>
                <a:latin typeface="Verdana"/>
              </a:rPr>
              <a:t>S </a:t>
            </a: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para cada ca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0280" y="1433520"/>
            <a:ext cx="27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se distribuye en 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80000" y="2492280"/>
            <a:ext cx="244800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23880" y="1676520"/>
                <a:ext cx="2552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79600" y="2514600"/>
                <a:ext cx="25588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9600" y="3182760"/>
                <a:ext cx="1339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4044960"/>
                <a:ext cx="5645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47920" y="4952880"/>
                <a:ext cx="3504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8620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24280" y="1752120"/>
            <a:ext cx="0" cy="2133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75120" y="137160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0400" y="31161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m</a:t>
            </a:r>
            <a:r>
              <a:rPr b="0" i="1" lang="es-MX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2057400"/>
                <a:ext cx="3790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2819520"/>
                <a:ext cx="2743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38360" y="4408560"/>
                <a:ext cx="3155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00200" y="5322960"/>
                <a:ext cx="426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447920" y="4038480"/>
            <a:ext cx="5410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46400" y="33577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8040" y="437508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diferencia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129528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co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349360"/>
            <a:ext cx="2592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Q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51720" y="137160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2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Urbanizado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1676520"/>
                <a:ext cx="23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333520"/>
                <a:ext cx="25146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47920" y="2971800"/>
                <a:ext cx="2971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886200"/>
                <a:ext cx="4267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7200" y="4765680"/>
                <a:ext cx="4343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47640" y="5805360"/>
                <a:ext cx="6143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7600" y="4876920"/>
                <a:ext cx="135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17:34Z</dcterms:created>
  <dc:creator>Axcesso</dc:creator>
  <dc:description/>
  <dc:language>en-US</dc:language>
  <cp:lastModifiedBy>alumno</cp:lastModifiedBy>
  <dcterms:modified xsi:type="dcterms:W3CDTF">2006-10-23T14:54:45Z</dcterms:modified>
  <cp:revision>73</cp:revision>
  <dc:subject/>
  <dc:title>Esquema de Tesis CI73 M</dc:title>
</cp:coreProperties>
</file>