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026-0925-4250-8520-4572E62A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931-D1CF-4203-910B-7E395E98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980-166D-428B-BC85-4F314917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2B3-2F28-48C0-8982-B6D5D657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5004-743A-42A2-B892-66EADFD4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0D70-4156-4850-930D-FEF5690E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51E5-C732-4B19-91BB-DBACC43D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9B88-D0D8-4E17-AD6C-EB372265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6C80-F7F4-4A5F-87F5-C0DC6569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B535-138C-487C-8357-D6953F02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B144-6402-4B99-BA62-3A191E78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7B0-C5B7-4DC6-ADA8-8B0DF1F5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7F68-80F4-4383-AB60-18994F1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7381-BE06-43E4-A28A-A97CBEA1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1ABF-4B38-4E1E-8E81-D77B2493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86AE-F4FA-46EF-934B-48D58BB6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8C8B-434F-4060-8B6A-61C25432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65C-BAFA-49C4-AA6E-18D3FBD3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42B-EF38-4548-8D8F-83527389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206-FB0B-4203-91F6-C22F6F65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8D8-8E0B-411E-B73A-F14AD8C5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F86-95F3-4DC4-8753-F8E61F05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DCC-BC0B-49CF-99E7-BCB59A8F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541-3F74-4831-B077-5F18CCE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73ED-7CA2-4DD7-A0DD-5CFC2108C44E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642F-3E95-44F2-BCCC-78CB8D2AF85E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I 73A CAPITULO 4.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ODELAMIENTO DE OFERTA INMOBILIARI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ancisco Martínez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55840" y="4740120"/>
            <a:ext cx="27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0160" y="2394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3581280"/>
            <a:ext cx="3429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1752480"/>
            <a:ext cx="0" cy="1828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02400" y="1371600"/>
            <a:ext cx="246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3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Desarrollador Inmobiliari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9080" y="318780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68440" y="1676520"/>
                <a:ext cx="262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44520" y="2333520"/>
                <a:ext cx="3075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233440" y="2971800"/>
                <a:ext cx="13986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04640" y="3886200"/>
                <a:ext cx="4372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v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1120" y="4765680"/>
                <a:ext cx="4435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v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882800" y="5950080"/>
                <a:ext cx="61848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e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748480" y="4876920"/>
                <a:ext cx="1317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5593320" y="39625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quilib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2638440"/>
            <a:ext cx="3600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k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número lotes tipo k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No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22400" y="2664000"/>
            <a:ext cx="18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22400" y="266400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2400" y="266400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2400" y="2664000"/>
            <a:ext cx="18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2400" y="266400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22400" y="266400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2400" y="2664000"/>
            <a:ext cx="18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22400" y="266400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870200"/>
          <a:ext cx="8496360" cy="4530600"/>
        </p:xfrm>
        <a:graphic>
          <a:graphicData uri="http://schemas.openxmlformats.org/drawingml/2006/table">
            <a:tbl>
              <a:tblPr/>
              <a:tblGrid>
                <a:gridCol w="730080"/>
                <a:gridCol w="2725920"/>
                <a:gridCol w="2448000"/>
                <a:gridCol w="2592360"/>
              </a:tblGrid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pía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nn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nanci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er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L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L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50880" y="3338640"/>
                <a:ext cx="21322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2448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84480" y="3338640"/>
                <a:ext cx="230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984480" y="4419720"/>
                <a:ext cx="23767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84480" y="5570640"/>
                <a:ext cx="2376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705720" y="3260880"/>
                <a:ext cx="1901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737400" y="4437000"/>
                <a:ext cx="18381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527880" y="5465880"/>
                <a:ext cx="2259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19320" y="5570640"/>
                <a:ext cx="2663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352600" y="102240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Todo lo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535720" y="2276640"/>
                <a:ext cx="30002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504040" y="4638600"/>
                <a:ext cx="3349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7960" y="2563920"/>
                <a:ext cx="39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!/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!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71440" y="4668840"/>
                <a:ext cx="3967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nary>
                                  <m:naryPr>
                                    <m:chr m:val="∏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e>
                                </m:nary>
                              </m:den>
                            </m:f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!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754640" y="838080"/>
            <a:ext cx="56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ólo parte de los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Fermi-Dira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292428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56000" y="5013360"/>
            <a:ext cx="647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2920" y="19828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Entropía de vender x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s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 menor que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1760" y="3782880"/>
            <a:ext cx="55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Entropía de vender </a:t>
            </a:r>
            <a:r>
              <a:rPr b="0" i="1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i="1" lang="es-MX" sz="1800" spc="-1" strike="noStrike" baseline="30000">
                <a:solidFill>
                  <a:srgbClr val="eaeaea"/>
                </a:solidFill>
                <a:latin typeface="Verdana"/>
              </a:rPr>
              <a:t>s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 menor que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la producción </a:t>
            </a:r>
            <a:r>
              <a:rPr b="0" i="1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i="1" lang="es-MX" sz="1800" spc="-1" strike="noStrike" baseline="30000">
                <a:solidFill>
                  <a:srgbClr val="eaeaea"/>
                </a:solidFill>
                <a:latin typeface="Verdana"/>
              </a:rPr>
              <a:t>P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y que la producción sea menor que </a:t>
            </a:r>
            <a:r>
              <a:rPr b="0" i="1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i="1" lang="es-MX" sz="1800" spc="-1" strike="noStrike" baseline="30000">
                <a:solidFill>
                  <a:srgbClr val="eaeaea"/>
                </a:solidFill>
                <a:latin typeface="Verdana"/>
              </a:rPr>
              <a:t>0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437080" y="2276640"/>
                <a:ext cx="3197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465880" y="3780000"/>
                <a:ext cx="342720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713560" y="5157720"/>
                <a:ext cx="34304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v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k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82440" y="2563920"/>
                <a:ext cx="42674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!/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!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443640" y="6410160"/>
                <a:ext cx="1743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0920" y="3967200"/>
                <a:ext cx="3724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nary>
                                  <m:naryPr>
                                    <m:chr m:val="∏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e>
                                </m:nary>
                              </m:den>
                            </m:f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!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754640" y="838080"/>
            <a:ext cx="56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ólo parte de los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Fermi-Dira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50920" y="5315040"/>
                <a:ext cx="48258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</m:num>
                              <m:den>
                                <m:nary>
                                  <m:naryPr>
                                    <m:chr m:val="∏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k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  <m:r>
                                      <m:t xml:space="preserve">)</m:t>
                                    </m:r>
                                    <m:r>
                                      <m:t xml:space="preserve">!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e>
                                </m:nary>
                              </m:den>
                            </m:f>
                          </m:e>
                        </m:nary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!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4427640" y="292428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4720" y="4365720"/>
            <a:ext cx="647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19640" y="5661000"/>
            <a:ext cx="2890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79280" y="1484280"/>
            <a:ext cx="8964720" cy="4916520"/>
            <a:chOff x="179280" y="1484280"/>
            <a:chExt cx="8964720" cy="4916520"/>
          </a:xfrm>
        </p:grpSpPr>
        <p:sp>
          <p:nvSpPr>
            <p:cNvPr id="349" name=""/>
            <p:cNvSpPr/>
            <p:nvPr/>
          </p:nvSpPr>
          <p:spPr>
            <a:xfrm>
              <a:off x="6408720" y="4970520"/>
              <a:ext cx="2735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25720" y="4970520"/>
              <a:ext cx="258300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49320" y="4970520"/>
              <a:ext cx="287640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9280" y="4970520"/>
              <a:ext cx="7700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eaeaea"/>
                  </a:solidFill>
                  <a:latin typeface="Verdana"/>
                </a:rPr>
                <a:t>HD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8720" y="3695760"/>
              <a:ext cx="273528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25720" y="3695760"/>
              <a:ext cx="258300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49320" y="3695760"/>
              <a:ext cx="287640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9280" y="3695760"/>
              <a:ext cx="77004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eaeaea"/>
                  </a:solidFill>
                  <a:latin typeface="Verdana"/>
                </a:rPr>
                <a:t>LD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08720" y="2419560"/>
              <a:ext cx="273528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25720" y="2419560"/>
              <a:ext cx="258300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49320" y="2419560"/>
              <a:ext cx="287640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9280" y="2419560"/>
              <a:ext cx="77004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eaeaea"/>
                  </a:solidFill>
                  <a:latin typeface="Verdana"/>
                </a:rPr>
                <a:t>LO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8720" y="1484280"/>
              <a:ext cx="273528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ert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ida (P), Vendida (S)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5720" y="1484280"/>
              <a:ext cx="25830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nancia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49320" y="1484280"/>
              <a:ext cx="28764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opía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rmi Dira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9280" y="1484280"/>
              <a:ext cx="77004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9280" y="1484280"/>
              <a:ext cx="8964720" cy="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9280" y="2419560"/>
              <a:ext cx="8964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280" y="3695760"/>
              <a:ext cx="8964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9280" y="4970520"/>
              <a:ext cx="8964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80" y="6400800"/>
              <a:ext cx="8964720" cy="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9280" y="1484280"/>
              <a:ext cx="0" cy="491652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49320" y="1484280"/>
              <a:ext cx="0" cy="4916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25720" y="1484280"/>
              <a:ext cx="0" cy="4916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08720" y="1484280"/>
              <a:ext cx="0" cy="4916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144000" y="1484280"/>
              <a:ext cx="0" cy="491652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966960" y="2438280"/>
                <a:ext cx="27669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971640" y="3733920"/>
                <a:ext cx="26636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990720" y="5102280"/>
                <a:ext cx="28191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v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k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54520" y="2459160"/>
                <a:ext cx="250344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86200" y="5105520"/>
                <a:ext cx="244800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400800" y="2743200"/>
                <a:ext cx="26272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Ι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Ι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400800" y="4432320"/>
                <a:ext cx="26668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400800" y="3805200"/>
                <a:ext cx="2743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443640" y="5722920"/>
                <a:ext cx="2700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443640" y="5029200"/>
                <a:ext cx="2700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limLow>
                      <m:e/>
                      <m:lim/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443640" y="6410160"/>
                <a:ext cx="1743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886200" y="3805200"/>
                <a:ext cx="2438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1754640" y="838080"/>
            <a:ext cx="56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ólo parte de los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ropiedades económ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Función objetiv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maximizar profit esperad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Lema de Hotelling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la función de oferta es igual a la derivada (precio) del profi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quilibrio: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xistencia y unicid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116000" y="1692360"/>
                <a:ext cx="1655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187280" y="3405240"/>
                <a:ext cx="1656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971640" y="1197000"/>
            <a:ext cx="58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no Restringidos: </a:t>
            </a: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todo se ven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116000" y="2421000"/>
                <a:ext cx="7777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187280" y="4149720"/>
                <a:ext cx="77058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187280" y="5157720"/>
                <a:ext cx="2079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635280" y="5013360"/>
                <a:ext cx="1081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5003640" y="5084640"/>
                <a:ext cx="24480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71640" y="5877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Existencia de equilib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211640" y="5808600"/>
                <a:ext cx="266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untos fij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08320" y="2438280"/>
            <a:ext cx="0" cy="297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08320" y="5410080"/>
            <a:ext cx="48006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308320" y="2666880"/>
            <a:ext cx="3276360" cy="2743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809880" y="1371600"/>
                <a:ext cx="1355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7177680" y="52894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eaeaea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97320" y="2209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f(p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27160" y="24955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eaeaea"/>
                </a:solidFill>
                <a:latin typeface="Verdana"/>
              </a:rPr>
              <a:t>y=x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038480" y="4354560"/>
                <a:ext cx="1081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308320" y="3581280"/>
            <a:ext cx="3429000" cy="2514600"/>
          </a:xfrm>
          <a:custGeom>
            <a:avLst/>
            <a:gdLst/>
            <a:ahLst/>
            <a:rect l="l" t="t" r="r" b="b"/>
            <a:pathLst>
              <a:path w="2160" h="1584">
                <a:moveTo>
                  <a:pt x="0" y="0"/>
                </a:moveTo>
                <a:cubicBezTo>
                  <a:pt x="144" y="100"/>
                  <a:pt x="288" y="200"/>
                  <a:pt x="384" y="288"/>
                </a:cubicBezTo>
                <a:cubicBezTo>
                  <a:pt x="480" y="376"/>
                  <a:pt x="528" y="424"/>
                  <a:pt x="576" y="528"/>
                </a:cubicBezTo>
                <a:cubicBezTo>
                  <a:pt x="624" y="632"/>
                  <a:pt x="608" y="816"/>
                  <a:pt x="672" y="912"/>
                </a:cubicBezTo>
                <a:cubicBezTo>
                  <a:pt x="736" y="1008"/>
                  <a:pt x="792" y="1032"/>
                  <a:pt x="960" y="1104"/>
                </a:cubicBezTo>
                <a:cubicBezTo>
                  <a:pt x="1128" y="1176"/>
                  <a:pt x="1480" y="1264"/>
                  <a:pt x="1680" y="1344"/>
                </a:cubicBezTo>
                <a:cubicBezTo>
                  <a:pt x="1880" y="1424"/>
                  <a:pt x="2020" y="1504"/>
                  <a:pt x="2160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89520" y="6056280"/>
                <a:ext cx="2448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838080" y="3432240"/>
                <a:ext cx="1371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3146400" y="4495680"/>
            <a:ext cx="228600" cy="228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quilibrio: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istencia y unic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00000" y="1413000"/>
            <a:ext cx="71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: </a:t>
            </a: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sólo parte de lo producido se ven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1042920" y="1989000"/>
                <a:ext cx="1871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042920" y="2617920"/>
                <a:ext cx="79567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Ι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Ι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e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e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90720" y="3733920"/>
                <a:ext cx="1512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990720" y="4419720"/>
                <a:ext cx="73450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187280" y="5380200"/>
                <a:ext cx="16401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132000" y="5410080"/>
                <a:ext cx="1440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932360" y="5410080"/>
                <a:ext cx="2232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71640" y="611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Existencia de equilib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11640" y="6086520"/>
                <a:ext cx="2652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em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43000" y="3586320"/>
          <a:ext cx="8505720" cy="203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3586320"/>
                    <a:ext cx="850572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958680" y="2009880"/>
            <a:ext cx="727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La condición necesaria y suficient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e existencia de equilibrio único es que exista exceso de oferta a precios nul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MODELOS ENTRÓPICOS PARA OFERTA RESIDENCIAL:</a:t>
            </a:r>
            <a:br>
              <a:rPr sz="3200"/>
            </a:b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ALGORITMOS DE SOLUCIÓN Y APLICACIÓN DE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Francisco Martínez </a:t>
            </a:r>
            <a:br>
              <a:rPr sz="2400"/>
            </a:b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(John Roy, Carlos Jara)</a:t>
            </a:r>
            <a:br>
              <a:rPr sz="2400"/>
            </a:b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55840" y="4740120"/>
            <a:ext cx="27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goritmos Calibra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2200" y="3213000"/>
                <a:ext cx="855972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gorit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uncion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trópica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vergencia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egurada pero NO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el signo de α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odel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gorit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uncion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vexa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éto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ultiplicadore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vergencia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pend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unto inicial cercano a solució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280" y="2157480"/>
                <a:ext cx="8750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324000" y="1484280"/>
            <a:ext cx="40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Calibr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A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62120" y="1676520"/>
                <a:ext cx="19047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994200" y="1847880"/>
                <a:ext cx="3321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63" name=""/>
          <p:cNvGraphicFramePr/>
          <p:nvPr/>
        </p:nvGraphicFramePr>
        <p:xfrm>
          <a:off x="457200" y="2871720"/>
          <a:ext cx="829296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71720"/>
                    <a:ext cx="8292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3158640" y="188928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goritmos complementar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755640" y="2421000"/>
                <a:ext cx="48261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el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-46836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830160" y="3692520"/>
                <a:ext cx="740268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Ι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Ι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el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quier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oc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ntidad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ducid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emá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ive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ec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826920" y="1413000"/>
            <a:ext cx="79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Calibración directa a partir de fórmulas explícit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goritmos Predic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838080" y="2422440"/>
                <a:ext cx="5305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12920" y="4726080"/>
                <a:ext cx="54370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468360" y="3716280"/>
            <a:ext cx="40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Symbol"/>
                <a:ea typeface="Symbol"/>
              </a:rPr>
              <a:t>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Método de Bisec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plicación a Santiag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Dimensiones: </a:t>
            </a:r>
            <a:r>
              <a:rPr b="0" i="1" lang="es-MX" sz="28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=3, </a:t>
            </a:r>
            <a:r>
              <a:rPr b="0" i="1" lang="es-MX" sz="2800" spc="-1" strike="noStrike">
                <a:solidFill>
                  <a:srgbClr val="eaeaea"/>
                </a:solidFill>
                <a:latin typeface="Verdana"/>
              </a:rPr>
              <a:t>k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=5, </a:t>
            </a:r>
            <a:r>
              <a:rPr b="0" i="1" lang="es-MX" sz="28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=3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Datos requeridos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Precios de vivienda </a:t>
            </a:r>
            <a:r>
              <a:rPr b="0" i="1" lang="es-MX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vki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=&gt; EOD 1991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Precios de lotes </a:t>
            </a:r>
            <a:r>
              <a:rPr b="0" i="1" lang="es-MX" sz="2400" spc="-1" strike="noStrike">
                <a:solidFill>
                  <a:srgbClr val="eaeaea"/>
                </a:solidFill>
                <a:latin typeface="Verdana"/>
              </a:rPr>
              <a:t>p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ki</a:t>
            </a:r>
            <a:r>
              <a:rPr b="0" lang="es-MX" sz="2400" spc="-1" strike="noStrike" baseline="-25000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y de suelo </a:t>
            </a:r>
            <a:r>
              <a:rPr b="0" i="1" lang="es-MX" sz="2400" spc="-1" strike="noStrike">
                <a:solidFill>
                  <a:srgbClr val="eaeaea"/>
                </a:solidFill>
                <a:latin typeface="Verdana"/>
              </a:rPr>
              <a:t>p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=&gt; Análisis trimestral (EMOL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Niveles de ganancia por etap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=&gt; Arbitrari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Producción total por etap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-372960">
              <a:spcBef>
                <a:spcPts val="400"/>
              </a:spcBef>
              <a:buClr>
                <a:srgbClr val="eaeaea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Arbitrari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32920" y="1219320"/>
            <a:ext cx="28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no restringi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Variación del prof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5" name="lotes5_unc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4084560" cy="3078000"/>
          </a:xfrm>
          <a:prstGeom prst="rect">
            <a:avLst/>
          </a:prstGeom>
          <a:ln w="0">
            <a:noFill/>
          </a:ln>
        </p:spPr>
      </p:pic>
      <p:pic>
        <p:nvPicPr>
          <p:cNvPr id="486" name="delta5i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105080" cy="30794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849600" y="1987560"/>
            <a:ext cx="33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aeaea"/>
                </a:solidFill>
                <a:latin typeface="Verdana"/>
              </a:rPr>
              <a:t>Lotes producidos dos niveles de profit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17120" y="19810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aeaea"/>
                </a:solidFill>
                <a:latin typeface="Verdana"/>
              </a:rPr>
              <a:t>Profit por zon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1680" y="129528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no restringi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variación de precios de equilibrio con nivel de prof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1084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54040" y="1268280"/>
            <a:ext cx="63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Oferta de suelo, fuerte dependencia en oferta inic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613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39640" y="1268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Porcentaje de oferta vendida mayor corresponde a precios mayor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0" name=""/>
          <p:cNvGraphicFramePr/>
          <p:nvPr/>
        </p:nvGraphicFramePr>
        <p:xfrm>
          <a:off x="1758960" y="5781600"/>
          <a:ext cx="5610240" cy="68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8960" y="5781600"/>
                    <a:ext cx="561024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393120" y="5573880"/>
            <a:ext cx="72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Arial"/>
              </a:rPr>
              <a:t>Elasticidad oferta-precio crece induce menor stock no vendido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Arial"/>
              </a:rPr>
              <a:t>Mayor profit exigido induce mayor stock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9640" y="1268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Precios de equilibrio muy diferentes a original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763640" y="2101680"/>
            <a:ext cx="583272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Agentes con comportamiento racional y estocást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erta discreta y diferenciabl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Cadena de producción en equilibrio estát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Modelos de oferta entróp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Competencia perfecta e imperfect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erentes heterogéne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Modelos usuales de oferta asumen oferta predeterminad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Algoritmos para M&amp;Roy: Caso de competencia y restricciones linea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piedades económicas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Maximización profit espera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Hotell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Relaciones de stock con profit y elasticida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Shannon (No Restringido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MART converge solución únic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Eficiencia permite explorar escenarios de restriccione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Fermi-Dirac (Restringido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M. Multiplicadores, requiere buen punto ini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Convergencia asegurada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523880" y="-914400"/>
          <a:ext cx="5712120" cy="784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-914400"/>
                    <a:ext cx="571212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cc"/>
                </a:solidFill>
                <a:latin typeface="Arial"/>
              </a:rPr>
              <a:t>Estructura del modelo</a:t>
            </a:r>
            <a:br>
              <a:rPr sz="4000"/>
            </a:b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Martínez-Roy (200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520" y="996840"/>
          <a:ext cx="4119840" cy="57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996840"/>
                    <a:ext cx="411984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294160" y="2219400"/>
                <a:ext cx="3595680" cy="39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fi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perado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ble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stocástic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quilibrio restringido o irrestric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68360" y="1989000"/>
                <a:ext cx="3276720" cy="325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932360" y="2039760"/>
                <a:ext cx="30956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ilibri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rrestricto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triccion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gualdad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932360" y="3941640"/>
                <a:ext cx="315288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ilibri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tricciones desigualdad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926600" y="589932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33"/>
                </a:solidFill>
                <a:latin typeface="Verdana"/>
              </a:rPr>
              <a:t>Elegir </a:t>
            </a:r>
            <a:r>
              <a:rPr b="0" i="1" lang="es-CL" sz="2400" spc="-1" strike="noStrike">
                <a:solidFill>
                  <a:srgbClr val="333333"/>
                </a:solidFill>
                <a:latin typeface="Verdana"/>
              </a:rPr>
              <a:t>S </a:t>
            </a:r>
            <a:r>
              <a:rPr b="0" lang="es-CL" sz="2400" spc="-1" strike="noStrike">
                <a:solidFill>
                  <a:srgbClr val="333333"/>
                </a:solidFill>
                <a:latin typeface="Verdana"/>
              </a:rPr>
              <a:t>para cada ca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0280" y="1433520"/>
            <a:ext cx="27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se distribuye en x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580000" y="2492280"/>
            <a:ext cx="244800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23880" y="1676520"/>
                <a:ext cx="2552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479600" y="2514600"/>
                <a:ext cx="25588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479600" y="3182760"/>
                <a:ext cx="13399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47920" y="4044960"/>
                <a:ext cx="5645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47920" y="4952880"/>
                <a:ext cx="35049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560160" y="2394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886200"/>
            <a:ext cx="3429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24280" y="1752120"/>
            <a:ext cx="0" cy="2133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75120" y="137160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1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Suelo agrícol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0400" y="311616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2492280"/>
            <a:ext cx="3600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m</a:t>
            </a:r>
            <a:r>
              <a:rPr b="0" i="1" lang="es-MX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 terreno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00200" y="2057400"/>
                <a:ext cx="3790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2819520"/>
                <a:ext cx="27432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38360" y="4408560"/>
                <a:ext cx="3155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00200" y="5322960"/>
                <a:ext cx="4260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447920" y="4038480"/>
            <a:ext cx="5410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46400" y="335772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58040" y="4375080"/>
            <a:ext cx="34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diferenciad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0760" y="1295280"/>
            <a:ext cx="22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1: con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Suelo agrícol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349360"/>
            <a:ext cx="2592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Q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terreno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0160" y="2394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581280"/>
            <a:ext cx="3429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724280" y="1752480"/>
            <a:ext cx="0" cy="1828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51720" y="1371600"/>
            <a:ext cx="20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2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Urbanizado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89080" y="318780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00200" y="1676520"/>
                <a:ext cx="2362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2333520"/>
                <a:ext cx="25146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47920" y="2971800"/>
                <a:ext cx="2971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 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3886200"/>
                <a:ext cx="4267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57200" y="4765680"/>
                <a:ext cx="4343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547640" y="5805360"/>
                <a:ext cx="6143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7600" y="4876920"/>
                <a:ext cx="1359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5593320" y="39625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quilib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2492280"/>
            <a:ext cx="3600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L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k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número lotes tipo k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3:17:34Z</dcterms:created>
  <dc:creator>Axcesso</dc:creator>
  <dc:description/>
  <dc:language>en-US</dc:language>
  <cp:lastModifiedBy>alumno</cp:lastModifiedBy>
  <dcterms:modified xsi:type="dcterms:W3CDTF">2006-10-23T14:54:45Z</dcterms:modified>
  <cp:revision>73</cp:revision>
  <dc:subject/>
  <dc:title>Esquema de Tesis CI73 M</dc:title>
</cp:coreProperties>
</file>