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B16B-4D1A-4117-B84B-87566E25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6F14-183F-4917-A62B-4E9755DA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271B-7DD1-4528-9B54-43FDDE1A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9FD3-2F2A-465D-9F4E-28BECE50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72E6-A679-4584-86C2-79967142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328E-8C01-438B-9F5D-665C7872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1FE4-3644-4E5F-BDF0-401700CF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0B73-45C4-484B-9FE9-3ACC005A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2860-0A8A-4A54-B3A0-47D0EB03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7264-A0F1-4E3F-80FE-960E5074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127C-1C62-43BA-8787-18973F7B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B413-7C1A-41CF-BCE9-11EDD50B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DD5CC1D-1C9F-45CF-A28B-2B6F6B5BB0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apítulo 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14400" y="480060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0339-AC00-4AFB-BF95-876363EDA8E9}" type="slidenum">
              <a:t>1</a:t>
            </a:fld>
          </a:p>
        </p:txBody>
      </p:sp>
    </p:spTree>
  </p:cSld>
  <p:transition spd="med"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imes New Roman"/>
              </a:rPr>
              <a:t>DP gráfica: función del ingr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156120" y="5300640"/>
                <a:ext cx="3362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 flipV="1">
            <a:off x="3348000" y="4200120"/>
            <a:ext cx="0" cy="1079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332000" y="4129200"/>
            <a:ext cx="201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332000" y="4632480"/>
            <a:ext cx="201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2328840"/>
            <a:ext cx="0" cy="295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5280120"/>
            <a:ext cx="669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35280" y="2616120"/>
            <a:ext cx="4968720" cy="2160720"/>
          </a:xfrm>
          <a:custGeom>
            <a:avLst/>
            <a:gdLst/>
            <a:ahLst/>
            <a:rect l="l" t="t" r="r" b="b"/>
            <a:pathLst>
              <a:path w="3130" h="1361">
                <a:moveTo>
                  <a:pt x="0" y="0"/>
                </a:moveTo>
                <a:cubicBezTo>
                  <a:pt x="42" y="95"/>
                  <a:pt x="84" y="190"/>
                  <a:pt x="182" y="318"/>
                </a:cubicBezTo>
                <a:cubicBezTo>
                  <a:pt x="280" y="446"/>
                  <a:pt x="424" y="650"/>
                  <a:pt x="590" y="771"/>
                </a:cubicBezTo>
                <a:cubicBezTo>
                  <a:pt x="756" y="892"/>
                  <a:pt x="953" y="967"/>
                  <a:pt x="1180" y="1043"/>
                </a:cubicBezTo>
                <a:cubicBezTo>
                  <a:pt x="1407" y="1119"/>
                  <a:pt x="1626" y="1172"/>
                  <a:pt x="1951" y="1225"/>
                </a:cubicBezTo>
                <a:cubicBezTo>
                  <a:pt x="2276" y="1278"/>
                  <a:pt x="2926" y="1338"/>
                  <a:pt x="3130" y="1361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2976480"/>
            <a:ext cx="4968720" cy="2160720"/>
          </a:xfrm>
          <a:custGeom>
            <a:avLst/>
            <a:gdLst/>
            <a:ahLst/>
            <a:rect l="l" t="t" r="r" b="b"/>
            <a:pathLst>
              <a:path w="3130" h="1361">
                <a:moveTo>
                  <a:pt x="0" y="0"/>
                </a:moveTo>
                <a:cubicBezTo>
                  <a:pt x="42" y="95"/>
                  <a:pt x="84" y="190"/>
                  <a:pt x="182" y="318"/>
                </a:cubicBezTo>
                <a:cubicBezTo>
                  <a:pt x="280" y="446"/>
                  <a:pt x="424" y="650"/>
                  <a:pt x="590" y="771"/>
                </a:cubicBezTo>
                <a:cubicBezTo>
                  <a:pt x="756" y="892"/>
                  <a:pt x="953" y="967"/>
                  <a:pt x="1180" y="1043"/>
                </a:cubicBezTo>
                <a:cubicBezTo>
                  <a:pt x="1407" y="1119"/>
                  <a:pt x="1626" y="1172"/>
                  <a:pt x="1951" y="1225"/>
                </a:cubicBezTo>
                <a:cubicBezTo>
                  <a:pt x="2276" y="1278"/>
                  <a:pt x="2926" y="1338"/>
                  <a:pt x="3130" y="1361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2760" y="20606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99760" y="441648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1760" y="484812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58040" y="3716280"/>
            <a:ext cx="76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&lt;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9960" y="3932280"/>
            <a:ext cx="9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5040" y="4344840"/>
            <a:ext cx="9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6640" y="5661000"/>
            <a:ext cx="61718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-DP(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 constante para toda loc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764480" y="5229360"/>
                <a:ext cx="4525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6F0C-6E68-47C6-80E1-958C0B768F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imes New Roman"/>
              </a:rPr>
              <a:t>La disposición a pagar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amilia de curvas condicionales a un nivel de utilidad exógeno (se da en el equilibri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l ingreso y precios son parámetros exóge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s inversamente proporcional a la ut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tributos diferencian los valores de DP, incluyendo accesibilidad, en el espac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P a pagar varía en el espacio, compensando diferencias de atributos, manteniendo utilida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9608-EF11-4F6C-AB5C-9527B3807A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7080" y="196056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8cf4ea"/>
                </a:solidFill>
                <a:latin typeface="Times New Roman"/>
              </a:rPr>
              <a:t>Excedentes del Consumidor en Localización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25BC-B2CF-4B4B-9674-0779AA12F1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3789360"/>
            <a:ext cx="4343400" cy="914400"/>
          </a:xfrm>
          <a:prstGeom prst="rect">
            <a:avLst/>
          </a:prstGeom>
          <a:solidFill>
            <a:srgbClr val="c9cfc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Modelo Consumidor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631800" y="1773360"/>
                <a:ext cx="32767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V</m:t>
                        </m:r>
                      </m:e>
                    </m:ba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4189680" y="188424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tilidad Indirecta &amp; condi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25600" y="2924280"/>
                <a:ext cx="2423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4302000" y="2924280"/>
            <a:ext cx="33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sto en otros bienes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15960" y="4019400"/>
                <a:ext cx="36352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5148360" y="378936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ax valor a pagar como función del gasto en otros bie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58640" y="5891040"/>
                <a:ext cx="54849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6016320" y="586728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unción de 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6840" y="5059440"/>
            <a:ext cx="58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i se paga un precio 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p,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gasto total 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ECFF-D0EF-4236-B115-11B0BB17E7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ahoma"/>
              </a:rPr>
              <a:t>La función de gast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332000" y="1773360"/>
                <a:ext cx="748800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296000" y="2637000"/>
            <a:ext cx="63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Si p=DP entonces el gasto es </a:t>
            </a:r>
            <a:r>
              <a:rPr b="1" i="1" lang="es-MX" sz="2000" spc="-1" strike="noStrike">
                <a:solidFill>
                  <a:srgbClr val="ffffff"/>
                </a:solidFill>
                <a:latin typeface="Tahoma"/>
              </a:rPr>
              <a:t>igual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al ingr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Si p&lt;DP entonces el gasto es </a:t>
            </a:r>
            <a:r>
              <a:rPr b="1" i="1" lang="es-MX" sz="2000" spc="-1" strike="noStrike">
                <a:solidFill>
                  <a:srgbClr val="ffffff"/>
                </a:solidFill>
                <a:latin typeface="Tahoma"/>
              </a:rPr>
              <a:t>menor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que ingr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Si p&gt;DP entonces el gasto es </a:t>
            </a:r>
            <a:r>
              <a:rPr b="1" i="1" lang="es-MX" sz="2000" spc="-1" strike="noStrike">
                <a:solidFill>
                  <a:srgbClr val="ffffff"/>
                </a:solidFill>
                <a:latin typeface="Tahoma"/>
              </a:rPr>
              <a:t>mayor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que ingr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133880" y="3940200"/>
                <a:ext cx="4975200" cy="28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,</m:t>
                                  </m:r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;</m:t>
                                  </m:r>
                                  <m:sSup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,</m:t>
                                  </m:r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;</m:t>
                                  </m:r>
                                  <m:sSup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1240560" y="4478400"/>
            <a:ext cx="218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N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de equilibri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23A7-C5B2-424E-A21F-0EE0ED643A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excedente del consumidor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33520" y="3129120"/>
                <a:ext cx="817380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V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825480" y="236700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edidas clásicas: (p,z,U) en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838080" y="4815000"/>
                <a:ext cx="74804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341C-3614-4B88-8909-2082151F30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excedente del consumidor: </a:t>
            </a:r>
            <a:r>
              <a:rPr b="1" lang="es-ES" sz="2800" spc="-1" strike="noStrike">
                <a:solidFill>
                  <a:srgbClr val="cc0000"/>
                </a:solidFill>
                <a:latin typeface="Tahoma"/>
              </a:rPr>
              <a:t>Utilidad constante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411280" y="3357720"/>
                <a:ext cx="47260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838080" y="4734000"/>
                <a:ext cx="618192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7308720" y="5589720"/>
            <a:ext cx="1371600" cy="691920"/>
          </a:xfrm>
          <a:prstGeom prst="wedgeRectCallout">
            <a:avLst>
              <a:gd name="adj1" fmla="val -177893"/>
              <a:gd name="adj2" fmla="val -90597"/>
            </a:avLst>
          </a:prstGeom>
          <a:solidFill>
            <a:srgbClr val="84928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Notar U</a:t>
            </a:r>
            <a:r>
              <a:rPr b="0" lang="en-US" sz="1600" spc="-1" strike="noStrike" baseline="30000">
                <a:solidFill>
                  <a:srgbClr val="cc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351080" y="2421000"/>
                <a:ext cx="77929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417960" y="4017960"/>
            <a:ext cx="83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Para I constante, cambio en localización de equilibr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F832-8AB3-4F16-86E3-85E6CE1D28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excedente del consumidor: </a:t>
            </a:r>
            <a:r>
              <a:rPr b="1" lang="es-ES" sz="2800" spc="-1" strike="noStrike">
                <a:solidFill>
                  <a:srgbClr val="cc0000"/>
                </a:solidFill>
                <a:latin typeface="Tahoma"/>
              </a:rPr>
              <a:t>Utilidad variable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411280" y="2924280"/>
                <a:ext cx="47260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85720" y="4734000"/>
                <a:ext cx="6723000" cy="18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7451640" y="5516640"/>
            <a:ext cx="1371600" cy="691920"/>
          </a:xfrm>
          <a:prstGeom prst="wedgeRectCallout">
            <a:avLst>
              <a:gd name="adj1" fmla="val -154166"/>
              <a:gd name="adj2" fmla="val -89449"/>
            </a:avLst>
          </a:prstGeom>
          <a:solidFill>
            <a:srgbClr val="84928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Notar U</a:t>
            </a:r>
            <a:r>
              <a:rPr b="0" lang="en-US" sz="1600" spc="-1" strike="noStrike" baseline="30000">
                <a:solidFill>
                  <a:srgbClr val="cc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7960" y="4017960"/>
            <a:ext cx="83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Para I constante, cambio en localización de equilibr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547640" y="2133720"/>
                <a:ext cx="691380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5361-2E06-4C85-90BC-AD40504B8B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Excedente del consumidor: </a:t>
            </a:r>
            <a:r>
              <a:rPr b="1" lang="es-ES" sz="2800" spc="-1" strike="noStrike">
                <a:solidFill>
                  <a:srgbClr val="cc0000"/>
                </a:solidFill>
                <a:latin typeface="Tahoma"/>
              </a:rPr>
              <a:t>Utilidad variable, Utilidad cuasi-lineal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070000" y="1870200"/>
                <a:ext cx="3969000" cy="19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187720" y="4827600"/>
                <a:ext cx="351936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7451640" y="5516640"/>
            <a:ext cx="1371600" cy="691920"/>
          </a:xfrm>
          <a:prstGeom prst="wedgeRectCallout">
            <a:avLst>
              <a:gd name="adj1" fmla="val -154166"/>
              <a:gd name="adj2" fmla="val -89449"/>
            </a:avLst>
          </a:prstGeom>
          <a:solidFill>
            <a:srgbClr val="84928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Notar U</a:t>
            </a:r>
            <a:r>
              <a:rPr b="0" lang="en-US" sz="1600" spc="-1" strike="noStrike" baseline="30000">
                <a:solidFill>
                  <a:srgbClr val="cc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7960" y="4017960"/>
            <a:ext cx="83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Para I constante, cambio en localización de equilibr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04D2-7012-4B0F-9BEE-93A8A3E9F9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de beneficio total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52600" y="2819520"/>
                <a:ext cx="818820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US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810720" y="1981080"/>
            <a:ext cx="77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neficio Total = Excedente Consumidor + Prod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4343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Mide cambio en DP por cambios causados en los atrib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ifiere de variación de pre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665680" y="5637240"/>
                <a:ext cx="12398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1066680" y="5410080"/>
            <a:ext cx="6978600" cy="1703160"/>
          </a:xfrm>
          <a:prstGeom prst="rect">
            <a:avLst/>
          </a:prstGeom>
          <a:solidFill>
            <a:srgbClr val="c9c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Obs.: 1) condiciones exter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         </a:t>
            </a: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2) externalidades: interacción entre ag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9360" y="1523880"/>
            <a:ext cx="32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ara una localiza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F173-1C26-43F6-A80B-9F26E07BAA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cf4ea"/>
                </a:solidFill>
                <a:latin typeface="Times New Roman"/>
              </a:rPr>
              <a:t>Módulo 4</a:t>
            </a:r>
            <a:r>
              <a:rPr b="1" lang="en-US" sz="4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Modelo de Localización  en Corto Plaz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(oferta exógen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D030-1A17-4DFB-BB26-7783403D6C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Algunas conclusion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s beneficios totales 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DP evaluado a U cte,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U más cambio en rentas,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valor de ambiente construido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NO son idénticos a cambios en r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65BB-547B-4697-B7B8-E080C4CF35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7080" y="188928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8cf4ea"/>
                </a:solidFill>
                <a:latin typeface="Times New Roman"/>
              </a:rPr>
              <a:t>LOCALIZACIÓN Y USO DEL SUELO</a:t>
            </a:r>
            <a:br>
              <a:rPr sz="4400"/>
            </a:br>
            <a:r>
              <a:rPr b="1" lang="es-MX" sz="3600" spc="-1" strike="noStrike">
                <a:solidFill>
                  <a:srgbClr val="8cf4ea"/>
                </a:solidFill>
                <a:latin typeface="Times New Roman"/>
              </a:rPr>
              <a:t>(MODELO DETERMINÍSTICO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F4F7-A7D2-4518-B91F-7855514541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" y="1295280"/>
            <a:ext cx="8305920" cy="12956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1522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b7a5"/>
                </a:solidFill>
                <a:latin typeface="Times New Roman"/>
              </a:rPr>
              <a:t>TEORIA DEL COMPORT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3200400"/>
            <a:ext cx="2361960" cy="34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de externalidades de localización (endógenas a U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Nivel de ingres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eguridad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tatu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Etni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glomeración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84280" y="1600200"/>
                <a:ext cx="79372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2514600" y="3200400"/>
            <a:ext cx="236232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del sistema de transporte para acceder a actividades (endógenas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 US&amp;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3200400"/>
            <a:ext cx="236232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geográficas (exógenas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 US&amp;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81680" y="3200400"/>
            <a:ext cx="2057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Parámetros de gust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447920" y="2362320"/>
            <a:ext cx="7617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657600" y="30477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3581280" y="2361960"/>
            <a:ext cx="76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657600" y="2438280"/>
            <a:ext cx="16765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095880" y="2362320"/>
            <a:ext cx="6858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772400" y="24379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20680" y="5373720"/>
            <a:ext cx="348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6633"/>
                </a:solidFill>
                <a:latin typeface="Arial"/>
              </a:rPr>
              <a:t>h: categoría de ag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6633"/>
                </a:solidFill>
                <a:latin typeface="Arial"/>
              </a:rPr>
              <a:t>i: zona de localización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4FA8-2D04-4980-9F5A-278F0B66AB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57200" y="3429000"/>
            <a:ext cx="8534520" cy="13716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304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b7a5"/>
                </a:solidFill>
                <a:latin typeface="Times New Roman"/>
              </a:rPr>
              <a:t>LA DISPOSICION A PAG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06668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 existe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i="1" lang="es-ES" sz="2800" spc="-1" strike="noStrike" baseline="-25000">
                <a:solidFill>
                  <a:srgbClr val="ffffff"/>
                </a:solidFill>
                <a:latin typeface="Times New Roman"/>
              </a:rPr>
              <a:t>hi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existe 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i="1" lang="es-ES" sz="2800" spc="-1" strike="noStrike" baseline="-25000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1752480"/>
            <a:ext cx="8534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 el monto que un hogar o firma “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está dispuesto a pagar por  una localización “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de manera de obtener un nivel de satisfacció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57360" y="3657600"/>
                <a:ext cx="81626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228600" y="5562720"/>
            <a:ext cx="541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 vector de valoración de cada atribu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39920" y="4952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gr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82920" y="4952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773440" y="4495680"/>
            <a:ext cx="5331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144680" y="4495680"/>
            <a:ext cx="759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053E-330B-409E-A3FB-A8EC57C523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600200" y="1523880"/>
            <a:ext cx="6172200" cy="1219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8080" y="6094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EQUIVALENC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944720" y="1752480"/>
                <a:ext cx="51991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838080" y="5638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Opción:  Trabajar con utilidades o co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19720" y="28195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isposición a pa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4480" y="28195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ecio a pa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257800" y="2361960"/>
            <a:ext cx="3808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6705360" y="23623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829120" y="2247840"/>
            <a:ext cx="380880" cy="2895480"/>
          </a:xfrm>
          <a:custGeom>
            <a:avLst/>
            <a:gdLst>
              <a:gd name="textAreaLeft" fmla="*/ 243360 w 380880"/>
              <a:gd name="textAreaRight" fmla="*/ 381240 w 38088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43400" y="3962520"/>
            <a:ext cx="350532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cedente del consum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VARIACIÓN COMPENSATO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3429000"/>
            <a:ext cx="1143000" cy="609480"/>
          </a:xfrm>
          <a:prstGeom prst="wedgeRectCallout">
            <a:avLst>
              <a:gd name="adj1" fmla="val 80416"/>
              <a:gd name="adj2" fmla="val -198175"/>
            </a:avLst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52640" y="3468600"/>
            <a:ext cx="1028160" cy="4597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fe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D97E-12E7-49D2-BE9E-C38F46ECE91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REGLA MEJOR PO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" y="4114800"/>
            <a:ext cx="624816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localización es asignada 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2800" spc="-1" strike="noStrike">
                <a:solidFill>
                  <a:srgbClr val="ff6633"/>
                </a:solidFill>
                <a:latin typeface="Times New Roman"/>
              </a:rPr>
              <a:t>mejor postor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ienes Ún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05320" y="21337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m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2819520"/>
            <a:ext cx="7391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uelo Urbano es un bien “</a:t>
            </a:r>
            <a:r>
              <a:rPr b="1" lang="es-ES" sz="2400" spc="-1" strike="noStrike">
                <a:solidFill>
                  <a:srgbClr val="ff6633"/>
                </a:solidFill>
                <a:latin typeface="Times New Roman"/>
              </a:rPr>
              <a:t>cuasi-únic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33"/>
                </a:solidFill>
                <a:latin typeface="Times New Roman"/>
              </a:rPr>
              <a:t>N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es posible producir localizaciones de iguales atrib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F5F2-1A3E-4304-B04F-ABBB3479E01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733920" y="1981080"/>
            <a:ext cx="5105160" cy="10670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2057400"/>
            <a:ext cx="320040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CONSUMID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max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4446720"/>
            <a:ext cx="26668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OFER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max postu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245120" y="2209680"/>
                <a:ext cx="37764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4572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REGLA MEJOR PO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4038480"/>
            <a:ext cx="5135400" cy="1905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995640" y="4581360"/>
                <a:ext cx="45547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/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0A50-4859-4EFD-B580-18474AE6C14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886200" y="4419720"/>
            <a:ext cx="4800600" cy="22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66680" y="2895480"/>
            <a:ext cx="685800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838080"/>
            <a:ext cx="8001000" cy="9907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4648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ejo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postor e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457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7a5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81480" y="457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7a5"/>
                </a:solidFill>
                <a:latin typeface="Times New Roman"/>
              </a:rPr>
              <a:t>OFER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05120" y="21337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Equilibrio </a:t>
            </a:r>
            <a:r>
              <a:rPr b="1" i="1" lang="es-ES" sz="2400" spc="-1" strike="noStrike">
                <a:solidFill>
                  <a:srgbClr val="ff6633"/>
                </a:solidFill>
                <a:latin typeface="Times New Roman"/>
              </a:rPr>
              <a:t>BID-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5486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hace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eo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oferta que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971640" y="1125360"/>
                <a:ext cx="310176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4859280" y="1111320"/>
                <a:ext cx="37800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619280" y="3068640"/>
                <a:ext cx="576108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140360" y="4508640"/>
                <a:ext cx="4392360" cy="15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E196-011B-4306-B08E-88F2A959DB7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762120" y="68580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CONCLUSION:  Modelo Bid-Cho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(oferta dad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2133720"/>
            <a:ext cx="7543800" cy="22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114560" y="2378160"/>
                <a:ext cx="60847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  <m:r>
                          <m:t xml:space="preserve">'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979640" y="3213000"/>
                <a:ext cx="492264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914400" y="4419720"/>
            <a:ext cx="746748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se observa un agente localizado, entonc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a localización maximiza su utilid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a renta representa su máxima disposición a pag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dada una ofert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41160" y="6172200"/>
            <a:ext cx="491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33"/>
                </a:solidFill>
                <a:latin typeface="Arial"/>
              </a:rPr>
              <a:t>BID ES CONDICIÓN SUFIC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D0B1-FD0F-4F1D-A50D-6E27C170260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7080" y="188928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8cf4ea"/>
                </a:solidFill>
                <a:latin typeface="Times New Roman"/>
              </a:rPr>
              <a:t>MODELO DE EQUILIBRIO ESTOCÁSTICO EN LOCALIZACIÓN Y USO DEL SUEL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26CC-626B-4DDA-98FB-388A3089654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Contexto Económ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mercado del suelo urb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últiples consumidores: residentes y fir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últiples atributos de loc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xternalidades de loc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Una variedad de opciones zona-edific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ercado de Remates: competencia imperfec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nálisis de equilibrium de 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edidas en cambios d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gul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yectos de 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302B-A9C4-4C67-B5EC-851967900B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0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cf4ea"/>
                </a:solidFill>
                <a:latin typeface="Times New Roman"/>
              </a:rPr>
              <a:t>¡Bien...pero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cf4ea"/>
                </a:solidFill>
                <a:latin typeface="Times New Roman"/>
              </a:rPr>
              <a:t>¿ Cómo puedo saber exactamente el comporta-miento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A534-5A64-4833-BAC0-C0CCE8A13A95}" type="slidenum">
              <a:t>30</a:t>
            </a:fld>
          </a:p>
        </p:txBody>
      </p:sp>
    </p:spTree>
  </p:cSld>
  <p:transition spd="med" advTm="16000"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" dur="1" fill="hold"/>
                                  <p:tgtEl>
                                    <p:spTgt spid="2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Enfoque de elección discret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044800" y="2755800"/>
            <a:ext cx="1854000" cy="2184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346200" y="2749680"/>
            <a:ext cx="54612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92680" y="2749680"/>
            <a:ext cx="29196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92680" y="2749680"/>
            <a:ext cx="2273040" cy="20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19160" y="2265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20800" y="5054760"/>
            <a:ext cx="4756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,i1         v2,i2         vk,ik                          v,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91920" y="474984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Ofer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vienda,z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4680" y="2158920"/>
            <a:ext cx="1571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umi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gar o fi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52880" y="5724360"/>
            <a:ext cx="5701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ximización utilidad del consumi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04360" y="18288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E3EA-3CB9-4C00-B8A8-FD6A3ED855E4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523880" y="3962520"/>
            <a:ext cx="5181840" cy="1600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Modelos estocástico: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Versión Choice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(z,U) - 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Supuesto: 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IIDGumbel 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, precio p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exóg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/h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Prob(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&gt; 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j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; j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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828800" y="4038480"/>
                <a:ext cx="419112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ε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- 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900000" y="5883120"/>
            <a:ext cx="6502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ogit multinomial. Alternativas son pred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F8E8-7545-4527-BE9F-3929E11A4FFD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Enfoque remate </a:t>
            </a: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(selección discreta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044800" y="2755800"/>
            <a:ext cx="1854000" cy="2184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346200" y="2749680"/>
            <a:ext cx="54612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92680" y="2749680"/>
            <a:ext cx="29196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92680" y="2749680"/>
            <a:ext cx="2273040" cy="20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18440" y="2265480"/>
            <a:ext cx="495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v,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20800" y="5054760"/>
            <a:ext cx="4597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1                 h2           h3                         h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82440" y="223524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Oferente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vienda,z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60800" y="4902120"/>
            <a:ext cx="2152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umidor/pos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gar o fi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52520" y="5724360"/>
            <a:ext cx="6253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ximización utilidad del dueño del sue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83440" y="19051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9C78-876D-4BF2-8521-859C8FC7290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371600" y="3657600"/>
            <a:ext cx="6324480" cy="19810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D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(z,U) 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IIDGumbel 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/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Prob(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&gt; 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g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; g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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030400" y="3654360"/>
                <a:ext cx="437040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833400" y="6019920"/>
            <a:ext cx="7431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ogit multinomial. Alternativas son consumid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457200"/>
            <a:ext cx="771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Modelos estocástico: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Versión B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4E77-7A99-42EE-BF2D-942506CED22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066680" y="3809880"/>
            <a:ext cx="7696440" cy="22100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f4ea"/>
                </a:solidFill>
                <a:latin typeface="Times New Roman"/>
              </a:rPr>
              <a:t>Renta endógena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enta es valor esperado máxima pos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áx</a:t>
            </a:r>
            <a:r>
              <a:rPr b="0" lang="es-CL" sz="32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= r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+ 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IIDG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1722600" y="4167360"/>
                <a:ext cx="6354720" cy="16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4F36-94EB-4E97-B9E2-52C70AFC4E7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209680" y="5029200"/>
            <a:ext cx="5747040" cy="160020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352680" y="1066680"/>
            <a:ext cx="5029200" cy="3505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Resumen: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3909960" y="1219320"/>
                <a:ext cx="35355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ε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- 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3780000" y="2349360"/>
                <a:ext cx="337644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780000" y="3500280"/>
                <a:ext cx="335736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745200" y="1403280"/>
            <a:ext cx="1208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1) Cho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22600" y="2546280"/>
            <a:ext cx="839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2) B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21160" y="3689280"/>
            <a:ext cx="1110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) R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2414520" y="5157720"/>
                <a:ext cx="532620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/i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 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56D3-A7F2-4496-A2DB-1B3C167F89F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80800" y="30492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Equivalencia modelos estocástico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971640" y="1413000"/>
            <a:ext cx="7342200" cy="1778040"/>
            <a:chOff x="971640" y="1413000"/>
            <a:chExt cx="7342200" cy="1778040"/>
          </a:xfrm>
        </p:grpSpPr>
        <p:sp>
          <p:nvSpPr>
            <p:cNvPr id="313" name=""/>
            <p:cNvSpPr/>
            <p:nvPr/>
          </p:nvSpPr>
          <p:spPr>
            <a:xfrm>
              <a:off x="971640" y="1413000"/>
              <a:ext cx="7342200" cy="17780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1347840" y="1427040"/>
                  <a:ext cx="6404040" cy="164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i</m:t>
                              </m:r>
                            </m:num>
                            <m:den>
                              <m:r>
                                <m:t xml:space="preserve">h</m:t>
                              </m:r>
                            </m:den>
                          </m:f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h</m:t>
                                  </m:r>
                                </m:num>
                                <m:den>
                                  <m:r>
                                    <m:t xml:space="preserve">i</m:t>
                                  </m:r>
                                </m:den>
                              </m:f>
                            </m:sub>
                          </m:sSub>
                        </m:num>
                        <m:den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∈</m:t>
                              </m:r>
                              <m:r>
                                <m:t xml:space="preserve">Ω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h</m:t>
                                      </m:r>
                                    </m:num>
                                    <m:den>
                                      <m:r>
                                        <m:t xml:space="preserve">j</m:t>
                                      </m:r>
                                    </m:den>
                                  </m:f>
                                </m:sub>
                              </m:sSub>
                            </m:e>
                          </m:nary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exp</m:t>
                          </m:r>
                          <m:sSup>
                            <m:e>
                              <m:r>
                                <m:t xml:space="preserve">μ</m:t>
                              </m:r>
                            </m:e>
                            <m:sup>
                              <m:r>
                                <m:t xml:space="preserve">b</m:t>
                              </m:r>
                            </m:sup>
                          </m:sSup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hi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∈</m:t>
                              </m:r>
                              <m:r>
                                <m:t xml:space="preserve">Ω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exp</m:t>
                              </m:r>
                              <m:sSup>
                                <m:e>
                                  <m:r>
                                    <m:t xml:space="preserve">μ</m:t>
                                  </m:r>
                                </m:e>
                                <m:sup>
                                  <m:r>
                                    <m:t xml:space="preserve">b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hj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5" name=""/>
          <p:cNvSpPr/>
          <p:nvPr/>
        </p:nvSpPr>
        <p:spPr>
          <a:xfrm>
            <a:off x="1116000" y="3886200"/>
            <a:ext cx="5673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quivalencia ocurre si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s factores de escala son idéntico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ecios endógenos.. hay rem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i="1" lang="es-E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=1 ,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 oferta se remat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.equilibrio oferta deman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51080" y="6095880"/>
            <a:ext cx="47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6633"/>
                </a:solidFill>
                <a:latin typeface="Arial"/>
              </a:rPr>
              <a:t>BID es aplicable siemp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1278-B7C6-4017-93C9-F1093D84CFAE}" type="slidenum">
              <a:t>37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alibr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415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rrelación entre atributos z y rentas r afecta parámetros de modelo cho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s posturas calibradas son truncada en ambas vers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mbigüedad en la función calibrada por choice: es de postura o utilidad. No hay ambigüedad en versión bi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arámetro de accesibilidad mejor en versión cho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clusión: estimar sistema de ecuaciones (P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imes New Roman"/>
              </a:rPr>
              <a:t>h/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imes New Roman"/>
              </a:rPr>
              <a:t>i/h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, 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1D92-446F-476C-AF45-DD42138F6B4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7080" y="191628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8cf4ea"/>
                </a:solidFill>
                <a:latin typeface="Times New Roman"/>
              </a:rPr>
              <a:t>EQUILIBRIO EN LOCALIZACIÓN Y USO DEL SUELO</a:t>
            </a:r>
            <a:br>
              <a:rPr sz="4400"/>
            </a:br>
            <a:r>
              <a:rPr b="1" lang="es-MX" sz="3600" spc="-1" strike="noStrike">
                <a:solidFill>
                  <a:srgbClr val="8cf4ea"/>
                </a:solidFill>
                <a:latin typeface="Times New Roman"/>
              </a:rPr>
              <a:t>(MODELO ESTOCÁSTICO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D882-11EC-4D28-89CE-2DCE2E6E167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080" y="188928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8cf4ea"/>
                </a:solidFill>
                <a:latin typeface="Times New Roman"/>
              </a:rPr>
              <a:t>LA DISPOSICIÓN </a:t>
            </a:r>
            <a:br>
              <a:rPr sz="4800"/>
            </a:br>
            <a:r>
              <a:rPr b="1" lang="es-MX" sz="4800" spc="-1" strike="noStrike">
                <a:solidFill>
                  <a:srgbClr val="8cf4ea"/>
                </a:solidFill>
                <a:latin typeface="Times New Roman"/>
              </a:rPr>
              <a:t>A PAGAR LOCALIZACIÓN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B72F-523A-4C29-9593-AAD61EA02E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371600" y="2362320"/>
            <a:ext cx="6324480" cy="19810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1335240" y="2438280"/>
                <a:ext cx="639900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833400" y="6019920"/>
            <a:ext cx="6283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nto fijo en localización dadas utilidad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8cf4ea"/>
                </a:solidFill>
                <a:latin typeface="Times New Roman"/>
              </a:rPr>
              <a:t>Externalidades</a:t>
            </a:r>
            <a:br>
              <a:rPr sz="4000"/>
            </a:br>
            <a:r>
              <a:rPr b="1" lang="es-CL" sz="4000" spc="-1" strike="noStrike">
                <a:solidFill>
                  <a:srgbClr val="8cf4ea"/>
                </a:solidFill>
                <a:latin typeface="Times New Roman"/>
              </a:rPr>
              <a:t> Equilibrio corto plaz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286000" y="4724280"/>
                <a:ext cx="411480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EF3B-D0DB-4283-A221-8102265CD47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49fff"/>
                </a:solidFill>
                <a:latin typeface="Tahoma"/>
              </a:rPr>
              <a:t>Caso utilidad cuasi lineal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550880" y="1600200"/>
                <a:ext cx="592776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693800" y="4114800"/>
                <a:ext cx="568188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/vi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 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5F4E-1D56-47B7-907E-784CCB9A924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276720" y="12952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563868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276720" y="1676520"/>
            <a:ext cx="3429000" cy="396216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834680" y="5907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2720" y="1219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95880" y="24019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=L(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19560" y="1407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=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428120" y="192240"/>
            <a:ext cx="595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cf4ea"/>
                </a:solidFill>
                <a:latin typeface="Arial"/>
              </a:rPr>
              <a:t>Punto Fijo de Probabilidad Loc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4724280" y="44197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267080" y="441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26708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2590920"/>
            <a:ext cx="4952880" cy="2895480"/>
          </a:xfrm>
          <a:custGeom>
            <a:avLst/>
            <a:gdLst/>
            <a:ahLst/>
            <a:rect l="l" t="t" r="r" b="b"/>
            <a:pathLst>
              <a:path w="3504" h="2256">
                <a:moveTo>
                  <a:pt x="0" y="2256"/>
                </a:moveTo>
                <a:cubicBezTo>
                  <a:pt x="764" y="2084"/>
                  <a:pt x="1528" y="1912"/>
                  <a:pt x="1920" y="1584"/>
                </a:cubicBezTo>
                <a:cubicBezTo>
                  <a:pt x="2312" y="1256"/>
                  <a:pt x="2088" y="552"/>
                  <a:pt x="2352" y="288"/>
                </a:cubicBezTo>
                <a:cubicBezTo>
                  <a:pt x="2616" y="24"/>
                  <a:pt x="3312" y="48"/>
                  <a:pt x="3504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33920" y="4952880"/>
            <a:ext cx="152280" cy="1526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15000" y="2590920"/>
            <a:ext cx="228600" cy="1522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76920" y="3657600"/>
            <a:ext cx="152280" cy="15228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256E-79B7-4D86-B510-21DE72C02FD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23880" y="340920"/>
            <a:ext cx="7034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f4ea"/>
                </a:solidFill>
                <a:latin typeface="Times New Roman"/>
              </a:rPr>
              <a:t>Equilibrio en Localización</a:t>
            </a:r>
            <a:br>
              <a:rPr sz="4000"/>
            </a:br>
            <a:r>
              <a:rPr b="0" lang="en-US" sz="4000" spc="-1" strike="noStrike">
                <a:solidFill>
                  <a:srgbClr val="8cf4ea"/>
                </a:solidFill>
                <a:latin typeface="Times New Roman"/>
              </a:rPr>
              <a:t>“Todo agente se localiza”</a:t>
            </a:r>
            <a:r>
              <a:rPr b="0" lang="en-US" sz="40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076480" y="4183200"/>
                <a:ext cx="575316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1978920" y="6156360"/>
            <a:ext cx="41871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Punto fijo de utilidad:  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b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Arial"/>
              </a:rPr>
              <a:t>h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=f(b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Arial"/>
              </a:rPr>
              <a:t>h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2133720" y="2070000"/>
                <a:ext cx="53337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Î</m:t>
                        </m:r>
                        <m:r>
                          <m:t xml:space="preserve">Ω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m>
                          <m:mr>
                            <m:e/>
                            <m:e/>
                            <m:e/>
                          </m:mr>
                        </m:m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E401-E41A-473E-8131-917ACED1457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276720" y="12952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14400" y="563868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276720" y="1676520"/>
            <a:ext cx="3429000" cy="396216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842600" y="590724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00640" y="121932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07160" y="2438280"/>
            <a:ext cx="25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=logsuma(B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3240" y="1407960"/>
            <a:ext cx="805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=B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31000" y="192240"/>
            <a:ext cx="35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cf4ea"/>
                </a:solidFill>
                <a:latin typeface="Arial"/>
              </a:rPr>
              <a:t>Punto Fijo de Logsu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943600" y="34290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5181120" y="3429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81480" y="34290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4495320" y="4191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76520" y="2743200"/>
            <a:ext cx="4876560" cy="2514600"/>
          </a:xfrm>
          <a:custGeom>
            <a:avLst/>
            <a:gdLst/>
            <a:ahLst/>
            <a:rect l="l" t="t" r="r" b="b"/>
            <a:pathLst>
              <a:path w="3072" h="1584">
                <a:moveTo>
                  <a:pt x="0" y="1584"/>
                </a:moveTo>
                <a:cubicBezTo>
                  <a:pt x="336" y="1584"/>
                  <a:pt x="672" y="1584"/>
                  <a:pt x="960" y="1536"/>
                </a:cubicBezTo>
                <a:cubicBezTo>
                  <a:pt x="1248" y="1488"/>
                  <a:pt x="1472" y="1448"/>
                  <a:pt x="1728" y="1296"/>
                </a:cubicBezTo>
                <a:cubicBezTo>
                  <a:pt x="1984" y="1144"/>
                  <a:pt x="2272" y="840"/>
                  <a:pt x="2496" y="624"/>
                </a:cubicBezTo>
                <a:cubicBezTo>
                  <a:pt x="2720" y="408"/>
                  <a:pt x="2968" y="112"/>
                  <a:pt x="3072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733920" y="4952880"/>
            <a:ext cx="152280" cy="1526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775C-6CCD-41F8-AAE8-926E43C80AD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033000" y="3413160"/>
            <a:ext cx="3077640" cy="824040"/>
          </a:xfrm>
          <a:prstGeom prst="rect">
            <a:avLst/>
          </a:prstGeom>
          <a:noFill/>
          <a:ln w="93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P</a:t>
            </a:r>
            <a:r>
              <a:rPr b="1" i="1" lang="es-CL" sz="2400" spc="-1" strike="noStrike" baseline="30000">
                <a:solidFill>
                  <a:srgbClr val="8cf4ea"/>
                </a:solidFill>
                <a:latin typeface="Arial"/>
              </a:rPr>
              <a:t>t </a:t>
            </a:r>
            <a:r>
              <a:rPr b="1" i="1" lang="es-CL" sz="2000" spc="-1" strike="noStrike">
                <a:solidFill>
                  <a:srgbClr val="8cf4ea"/>
                </a:solidFill>
                <a:latin typeface="Arial"/>
              </a:rPr>
              <a:t>(S,u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punto fijo loc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564080" y="2590920"/>
            <a:ext cx="792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64080" y="4343400"/>
            <a:ext cx="0" cy="762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562720" y="5715000"/>
            <a:ext cx="16761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7238880" y="2057400"/>
            <a:ext cx="0" cy="3657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95880" y="2057400"/>
            <a:ext cx="11430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7920" y="228600"/>
            <a:ext cx="70866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Algoritmo solución</a:t>
            </a: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971800" y="1676520"/>
            <a:ext cx="2971800" cy="824040"/>
          </a:xfrm>
          <a:prstGeom prst="rect">
            <a:avLst/>
          </a:prstGeom>
          <a:noFill/>
          <a:ln w="93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b</a:t>
            </a:r>
            <a:r>
              <a:rPr b="1" i="1" lang="es-CL" sz="2400" spc="-1" strike="noStrike" baseline="30000">
                <a:solidFill>
                  <a:srgbClr val="8cf4ea"/>
                </a:solidFill>
                <a:latin typeface="Arial"/>
              </a:rPr>
              <a:t>t </a:t>
            </a:r>
            <a:r>
              <a:rPr b="1" i="1" lang="es-CL" sz="2000" spc="-1" strike="noStrike">
                <a:solidFill>
                  <a:srgbClr val="8cf4ea"/>
                </a:solidFill>
                <a:latin typeface="Arial"/>
              </a:rPr>
              <a:t>(S,P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punto fijo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5105520"/>
            <a:ext cx="1981440" cy="1218960"/>
          </a:xfrm>
          <a:prstGeom prst="diamond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98800" y="54853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ve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EE7E-0B47-48D0-BD06-F3F56E56BF0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Beneficios de Uso del suelo: caso estocást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1874880" y="3498840"/>
                <a:ext cx="604980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U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H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nary>
                                <m:r>
                                  <m:t xml:space="preserve">+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</m:e>
                            </m:d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>
            <a:off x="3429000" y="5257800"/>
            <a:ext cx="2286000" cy="990720"/>
          </a:xfrm>
          <a:prstGeom prst="wedgeRectCallout">
            <a:avLst>
              <a:gd name="adj1" fmla="val 1527"/>
              <a:gd name="adj2" fmla="val -123398"/>
            </a:avLst>
          </a:prstGeom>
          <a:solidFill>
            <a:srgbClr val="3020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81280" y="5334120"/>
            <a:ext cx="242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Excede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Consumi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943600" y="5181480"/>
            <a:ext cx="2133720" cy="1067040"/>
          </a:xfrm>
          <a:prstGeom prst="wedgeRectCallout">
            <a:avLst>
              <a:gd name="adj1" fmla="val -22546"/>
              <a:gd name="adj2" fmla="val -111162"/>
            </a:avLst>
          </a:prstGeom>
          <a:solidFill>
            <a:srgbClr val="3020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40720" y="5334120"/>
            <a:ext cx="1937880" cy="825480"/>
          </a:xfrm>
          <a:prstGeom prst="rect">
            <a:avLst/>
          </a:prstGeom>
          <a:solidFill>
            <a:srgbClr val="302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Excede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Produc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652320" y="2252520"/>
                <a:ext cx="73044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U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sSup>
                                      <m:e/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p>
                                    </m:sSup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,</m:t>
                                </m:r>
                                <m:sSub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sSup>
                                      <m:e/>
                                      <m:sup>
                                        <m:r>
                                          <m:t xml:space="preserve">h</m:t>
                                        </m:r>
                                      </m:sup>
                                    </m:sSup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4B8E-64C1-423B-9ABD-8608ADB20DF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3890880" y="1593720"/>
          <a:ext cx="134316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0880" y="1593720"/>
                    <a:ext cx="134316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5492880" y="539640"/>
            <a:ext cx="3643200" cy="295920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32320" y="1203480"/>
            <a:ext cx="1946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uff!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#%&amp;&amp;$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que falta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3526-FF66-4B9A-B2C1-0AC49DD3FEC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Modelo Consumidor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752480" y="1828800"/>
            <a:ext cx="5555880" cy="1887120"/>
            <a:chOff x="1752480" y="1828800"/>
            <a:chExt cx="5555880" cy="1887120"/>
          </a:xfrm>
        </p:grpSpPr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1752480" y="2022840"/>
                  <a:ext cx="5166360" cy="158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δ</m:t>
                                </m:r>
                              </m:lim>
                            </m:limLow>
                          </m:e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x</m:t>
                                    </m:r>
                                  </m:lim>
                                </m:limLow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,z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mr>
                        <m:mr>
                          <m:e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I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86" name=""/>
            <p:cNvSpPr/>
            <p:nvPr/>
          </p:nvSpPr>
          <p:spPr>
            <a:xfrm>
              <a:off x="1752480" y="3715920"/>
              <a:ext cx="5555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308360" y="1828800"/>
              <a:ext cx="0" cy="1887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258920" y="3989880"/>
            <a:ext cx="75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texto: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l bien es la loc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sume un solo bien inmue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Bienes discretos y diferenciable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spacio discr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xtensiones: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Ingreso endóg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tilidad de activ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40720" y="3716280"/>
            <a:ext cx="1403280" cy="609480"/>
          </a:xfrm>
          <a:prstGeom prst="borderCallout1">
            <a:avLst>
              <a:gd name="adj1" fmla="val 18750"/>
              <a:gd name="adj2" fmla="val -8333"/>
              <a:gd name="adj3" fmla="val -56250"/>
              <a:gd name="adj4" fmla="val -16753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Un b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9884-9F4F-4E1B-96CA-4F6AE48C38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00000" y="5334120"/>
            <a:ext cx="6696360" cy="914400"/>
          </a:xfrm>
          <a:prstGeom prst="rect">
            <a:avLst/>
          </a:prstGeom>
          <a:solidFill>
            <a:srgbClr val="c9cfc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Derivación de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828800" y="1295280"/>
            <a:ext cx="5638320" cy="1752480"/>
            <a:chOff x="1828800" y="1295280"/>
            <a:chExt cx="5638320" cy="1752480"/>
          </a:xfrm>
        </p:grpSpPr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1828800" y="1475280"/>
                  <a:ext cx="5243040" cy="14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δ</m:t>
                                </m:r>
                              </m:lim>
                            </m:limLow>
                          </m:e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x</m:t>
                                    </m:r>
                                  </m:lim>
                                </m:limLow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,z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mr>
                        <m:mr>
                          <m:e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I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94" name=""/>
            <p:cNvSpPr/>
            <p:nvPr/>
          </p:nvSpPr>
          <p:spPr>
            <a:xfrm>
              <a:off x="1828800" y="3047760"/>
              <a:ext cx="5638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67120" y="1295280"/>
              <a:ext cx="0" cy="1752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934920" y="3424320"/>
                <a:ext cx="32767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4179600" y="350532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tilidad indirecta &amp; condi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914400" y="4308480"/>
                <a:ext cx="45212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853960" y="449568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: precio exóg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206360" y="5486400"/>
                <a:ext cx="58755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042920" y="6284880"/>
            <a:ext cx="73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ax valor para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z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ado U. Demanda compens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0FA4-D18C-44D6-AB3C-6A3D212ABF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Caso utilidad cuasi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714680" y="1590840"/>
                <a:ext cx="6019560" cy="465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  <m:r>
                              <m:t xml:space="preserve">≠</m:t>
                            </m:r>
                            <m:r>
                              <m:t xml:space="preserve">0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2D11-5D2D-48FB-B4F5-6621AA0EC8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imes New Roman"/>
              </a:rPr>
              <a:t>DP: interpret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áximo valor dispuesto a pagar para alcanzar nivel de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emanda compensada (Hicksiana) por loc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mpensa diferenciales de atributos entre opciones para mantener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ocalizaciones con precio igual a DP son indiferentes para el consumid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08DE-8927-42C6-8BCF-36AAA1681E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 flipV="1">
            <a:off x="3348000" y="3789360"/>
            <a:ext cx="0" cy="17272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258560" y="3860640"/>
            <a:ext cx="2017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332000" y="4869000"/>
            <a:ext cx="201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imes New Roman"/>
              </a:rPr>
              <a:t>DP gráfica: función de la utilidad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112920" y="5462640"/>
                <a:ext cx="3794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537320" y="5445000"/>
                <a:ext cx="4194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1332000" y="2565360"/>
            <a:ext cx="0" cy="295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5516640"/>
            <a:ext cx="669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616800">
            <a:off x="1835280" y="2492280"/>
            <a:ext cx="4897440" cy="2089080"/>
          </a:xfrm>
          <a:custGeom>
            <a:avLst/>
            <a:gdLst/>
            <a:ahLst/>
            <a:rect l="l" t="t" r="r" b="b"/>
            <a:pathLst>
              <a:path w="3130" h="1361">
                <a:moveTo>
                  <a:pt x="0" y="0"/>
                </a:moveTo>
                <a:cubicBezTo>
                  <a:pt x="42" y="95"/>
                  <a:pt x="84" y="190"/>
                  <a:pt x="182" y="318"/>
                </a:cubicBezTo>
                <a:cubicBezTo>
                  <a:pt x="280" y="446"/>
                  <a:pt x="424" y="650"/>
                  <a:pt x="590" y="771"/>
                </a:cubicBezTo>
                <a:cubicBezTo>
                  <a:pt x="756" y="892"/>
                  <a:pt x="953" y="967"/>
                  <a:pt x="1180" y="1043"/>
                </a:cubicBezTo>
                <a:cubicBezTo>
                  <a:pt x="1407" y="1119"/>
                  <a:pt x="1626" y="1172"/>
                  <a:pt x="1951" y="1225"/>
                </a:cubicBezTo>
                <a:cubicBezTo>
                  <a:pt x="2276" y="1278"/>
                  <a:pt x="2926" y="1338"/>
                  <a:pt x="3130" y="1361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19280" y="3213000"/>
            <a:ext cx="4968720" cy="2160720"/>
          </a:xfrm>
          <a:custGeom>
            <a:avLst/>
            <a:gdLst/>
            <a:ahLst/>
            <a:rect l="l" t="t" r="r" b="b"/>
            <a:pathLst>
              <a:path w="3130" h="1361">
                <a:moveTo>
                  <a:pt x="0" y="0"/>
                </a:moveTo>
                <a:cubicBezTo>
                  <a:pt x="42" y="95"/>
                  <a:pt x="84" y="190"/>
                  <a:pt x="182" y="318"/>
                </a:cubicBezTo>
                <a:cubicBezTo>
                  <a:pt x="280" y="446"/>
                  <a:pt x="424" y="650"/>
                  <a:pt x="590" y="771"/>
                </a:cubicBezTo>
                <a:cubicBezTo>
                  <a:pt x="756" y="892"/>
                  <a:pt x="953" y="967"/>
                  <a:pt x="1180" y="1043"/>
                </a:cubicBezTo>
                <a:cubicBezTo>
                  <a:pt x="1407" y="1119"/>
                  <a:pt x="1626" y="1172"/>
                  <a:pt x="1951" y="1225"/>
                </a:cubicBezTo>
                <a:cubicBezTo>
                  <a:pt x="2276" y="1278"/>
                  <a:pt x="2926" y="1338"/>
                  <a:pt x="3130" y="1361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2760" y="22971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49000" y="47721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41360" y="5084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57600" y="3952800"/>
            <a:ext cx="97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&gt;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9560" y="3573360"/>
            <a:ext cx="109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4640" y="4581360"/>
            <a:ext cx="109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6120" y="5734080"/>
            <a:ext cx="58654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-DP(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 variable con la localización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pero estrictamente positiva siemp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969240" y="5016600"/>
                <a:ext cx="1396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7E98-5A1F-48C9-8D40-1904026BEE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martine</cp:lastModifiedBy>
  <dcterms:modified xsi:type="dcterms:W3CDTF">2006-10-02T08:07:52Z</dcterms:modified>
  <cp:revision>102</cp:revision>
  <dc:subject/>
  <dc:title>General</dc:title>
</cp:coreProperties>
</file>