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601-37D0-4235-8555-C93385A6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92C-F1BA-4232-A16C-7D64D7EF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823-7667-48BF-B968-45EFE458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868-E8AF-4D6F-B2B8-BAE56E19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00E-1625-40E7-879A-75753884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A3F-09D8-4A6F-BED5-1D1033B3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0FF-101E-4DE7-81D2-18331E37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D81-3154-489E-B52D-2035B96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42E-07BA-4D7B-9689-47FBB48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F42-4786-4B40-9D1C-D7C2383B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1C1-CC5F-414B-AF8F-EBD7EED5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7D6-CA66-44BE-878D-64F5A5C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C7F065-3A96-4629-9E6C-0FA757621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5E1-6EBE-437C-98EC-B314B382223A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2EB-284B-4613-9D29-A0B3F703E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825-FCBD-458B-9090-B223DC6475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116-97F4-4BC1-A336-59A900DDB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31800" y="177336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5600" y="292428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8EC-954C-4C02-B18F-BF398DA6D6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32000" y="1773360"/>
                <a:ext cx="7488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33880" y="3940200"/>
                <a:ext cx="4975200" cy="28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378-3470-4E48-868E-11FFA83D7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3520" y="31291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BCC-5B8C-4E70-9B22-1AA9DE8B00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1280" y="335772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734000"/>
                <a:ext cx="6181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512-6088-4620-B593-C49C20BC05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2428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5720" y="4734000"/>
                <a:ext cx="6723000" cy="18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B47-A2ED-46B5-8890-29859FE004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070000" y="1870200"/>
                <a:ext cx="39690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87720" y="4827600"/>
                <a:ext cx="3519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984-03C5-4ABB-8330-E4FF9791D1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353-BFEB-466D-804E-92AA6F616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Modelo de Localización  en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E39-EDAB-4CD3-BC4C-35C6845D7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519-E460-43BB-A833-FAE4B45E87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673-2325-4714-972F-EAEC05C9A7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78F-91F9-4F0F-BDD1-8131C68EF1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250-8692-4DB6-87C3-892BC2C37D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32D-8757-4A5F-9528-26F2B1AE96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C0C-454F-42DA-823E-50DE063C9F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7BC-6921-42C2-B9F9-EF1DBD4D4E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963-9C61-46C5-BFFC-A78130EDE0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6D0-E081-4497-9F69-026E6492D6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1C2-FE60-4F87-BBBE-FF113AD306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82F-D799-4B15-8349-EEA176CB2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1BC-80D6-4B89-B055-D3FCFDC0ECBD}" type="slidenum">
              <a:t>30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035-FF05-40B1-9591-BFF81E5C306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EC4-D256-44A0-B814-E4D7D2F7B01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093-8F59-46E1-A542-8BBF7A16AF4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74A-A3F2-46FC-B7CD-178BEED710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719-E615-498C-86EF-556040BB055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3EB-0F42-4046-9EFE-BCD2CFAB4B5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1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B0E-2DF4-4589-9BE5-24F2B01A751B}" type="slidenum">
              <a:t>37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4A4-2F91-44EE-AE4C-13D48B0E35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3BB-2DF8-4119-92FC-0C8337687B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677-5183-46FA-B7D6-CF339EC04C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FA4-1666-40CA-9E73-6690ACC6C1E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B9F-E0E7-4081-B42B-8428EC2A4B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B9A-15CA-4022-AC67-5AE5D80505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E55-13A6-480D-8C0A-06B5EC952D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6A8-715B-40A2-A97A-74300D58679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55B-B4A9-4CB2-8455-717106DDEB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496-89A9-4CC1-8986-4D63F995AD2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281-CF58-4A5C-8A64-DB1E0EFCED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989880"/>
            <a:ext cx="75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93C-7224-42A4-88CA-7A2560449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078-E9B0-43AA-9CE6-61A2EFAAD8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108-E9BE-4A44-8E6F-1A3091087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8E2-6D3C-42A3-8AA9-0B81D57B7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5C9-64CC-4F69-AF69-160516EB3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10-02T08:07:52Z</dcterms:modified>
  <cp:revision>102</cp:revision>
  <dc:subject/>
  <dc:title>General</dc:title>
</cp:coreProperties>
</file>