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CC74-432C-419D-9FD8-DCC1F383A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1CE1-8D23-45A5-91E4-FCA71C987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59D2-9569-402D-B824-BEEBA3D30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8C42-153A-4C9D-8EFB-3C750B0C2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2421-5910-4A41-9AD0-F95F141AA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2A59-F4F5-4FC0-909B-981D6CFD6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3548-46F1-4337-A62C-3DB8CE30D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C6B1-86BF-41D9-B2FB-8175DF79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FB44-BB29-4D0A-B2CC-7494F9BF8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FAAC-03C9-457D-B1AB-2540DDC4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6626-C1BB-4A79-8BCA-D55F8189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4EA8-BF0E-48C7-9C66-4717162C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EC9C18F-6BE6-4D49-B149-A4B7FB8366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8" name="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808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conomía Urbana y Transpo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I 73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apítulo 4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14400" y="4800600"/>
            <a:ext cx="5638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33"/>
                </a:solidFill>
                <a:latin typeface="Times New Roman"/>
              </a:rPr>
              <a:t>Prof. FRANCISCO J. MARTÍNEZ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A027-AD68-41F4-8620-C80A601A4DC1}" type="slidenum">
              <a:t>1</a:t>
            </a:fld>
          </a:p>
        </p:txBody>
      </p:sp>
    </p:spTree>
  </p:cSld>
  <p:transition spd="med" advTm="1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cf4ea"/>
                </a:solidFill>
                <a:latin typeface="Times New Roman"/>
              </a:rPr>
              <a:t>DP gráfica: función del ingres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156120" y="5300640"/>
                <a:ext cx="3362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 flipV="1">
            <a:off x="3348000" y="4200120"/>
            <a:ext cx="0" cy="1079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332000" y="4129200"/>
            <a:ext cx="20160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332000" y="4632480"/>
            <a:ext cx="20160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32000" y="2328840"/>
            <a:ext cx="0" cy="2951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32000" y="5280120"/>
            <a:ext cx="669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35280" y="2616120"/>
            <a:ext cx="4968720" cy="2160720"/>
          </a:xfrm>
          <a:custGeom>
            <a:avLst/>
            <a:gdLst/>
            <a:ahLst/>
            <a:rect l="l" t="t" r="r" b="b"/>
            <a:pathLst>
              <a:path w="3130" h="1361">
                <a:moveTo>
                  <a:pt x="0" y="0"/>
                </a:moveTo>
                <a:cubicBezTo>
                  <a:pt x="42" y="95"/>
                  <a:pt x="84" y="190"/>
                  <a:pt x="182" y="318"/>
                </a:cubicBezTo>
                <a:cubicBezTo>
                  <a:pt x="280" y="446"/>
                  <a:pt x="424" y="650"/>
                  <a:pt x="590" y="771"/>
                </a:cubicBezTo>
                <a:cubicBezTo>
                  <a:pt x="756" y="892"/>
                  <a:pt x="953" y="967"/>
                  <a:pt x="1180" y="1043"/>
                </a:cubicBezTo>
                <a:cubicBezTo>
                  <a:pt x="1407" y="1119"/>
                  <a:pt x="1626" y="1172"/>
                  <a:pt x="1951" y="1225"/>
                </a:cubicBezTo>
                <a:cubicBezTo>
                  <a:pt x="2276" y="1278"/>
                  <a:pt x="2926" y="1338"/>
                  <a:pt x="3130" y="1361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19280" y="2976480"/>
            <a:ext cx="4968720" cy="2160720"/>
          </a:xfrm>
          <a:custGeom>
            <a:avLst/>
            <a:gdLst/>
            <a:ahLst/>
            <a:rect l="l" t="t" r="r" b="b"/>
            <a:pathLst>
              <a:path w="3130" h="1361">
                <a:moveTo>
                  <a:pt x="0" y="0"/>
                </a:moveTo>
                <a:cubicBezTo>
                  <a:pt x="42" y="95"/>
                  <a:pt x="84" y="190"/>
                  <a:pt x="182" y="318"/>
                </a:cubicBezTo>
                <a:cubicBezTo>
                  <a:pt x="280" y="446"/>
                  <a:pt x="424" y="650"/>
                  <a:pt x="590" y="771"/>
                </a:cubicBezTo>
                <a:cubicBezTo>
                  <a:pt x="756" y="892"/>
                  <a:pt x="953" y="967"/>
                  <a:pt x="1180" y="1043"/>
                </a:cubicBezTo>
                <a:cubicBezTo>
                  <a:pt x="1407" y="1119"/>
                  <a:pt x="1626" y="1172"/>
                  <a:pt x="1951" y="1225"/>
                </a:cubicBezTo>
                <a:cubicBezTo>
                  <a:pt x="2276" y="1278"/>
                  <a:pt x="2926" y="1338"/>
                  <a:pt x="3130" y="1361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2760" y="206064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D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99760" y="4416480"/>
            <a:ext cx="38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91760" y="4848120"/>
            <a:ext cx="38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358040" y="3716280"/>
            <a:ext cx="76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&lt;I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9960" y="3932280"/>
            <a:ext cx="99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DP(I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75040" y="4344840"/>
            <a:ext cx="99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DP(I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36640" y="5661000"/>
            <a:ext cx="61718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DP(I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)-DP(I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) constante para toda local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7764480" y="5229360"/>
                <a:ext cx="45252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C1EF-89F6-4CB0-9BE0-08660F5EC9A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cf4ea"/>
                </a:solidFill>
                <a:latin typeface="Times New Roman"/>
              </a:rPr>
              <a:t>La disposición a pagar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Familia de curvas condicionales a un nivel de utilidad exógeno (se da en el equilibri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l ingreso y precios son parámetros exógen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s inversamente proporcional a la util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tributos diferencian los valores de DP, incluyendo accesibilidad, en el espaci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P a pagar varía en el espacio, compensando diferencias de atributos, manteniendo utilidad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93D1-E383-4C92-AD62-9E38779E0D2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17080" y="1960560"/>
            <a:ext cx="7558200" cy="312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8cf4ea"/>
                </a:solidFill>
                <a:latin typeface="Times New Roman"/>
              </a:rPr>
              <a:t>Excedentes del Consumidor en Localización</a:t>
            </a:r>
            <a:endParaRPr b="0" lang="en-US" sz="48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E118-DB73-4B5A-AAA5-C0B9C2320FD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57200" y="3789360"/>
            <a:ext cx="4343400" cy="914400"/>
          </a:xfrm>
          <a:prstGeom prst="rect">
            <a:avLst/>
          </a:prstGeom>
          <a:solidFill>
            <a:srgbClr val="c9cfc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8cf4ea"/>
                </a:solidFill>
                <a:latin typeface="Tahoma"/>
              </a:rPr>
              <a:t>Modelo Consumidor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631800" y="1773360"/>
                <a:ext cx="327672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V</m:t>
                        </m:r>
                      </m:e>
                    </m:ba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δ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β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4189680" y="1884240"/>
            <a:ext cx="46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Utilidad Indirecta &amp; condi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25600" y="2924280"/>
                <a:ext cx="2423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e</m:t>
                        </m:r>
                      </m:e>
                    </m:ba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4302000" y="2924280"/>
            <a:ext cx="339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Gasto en otros bienes</a:t>
            </a:r>
            <a:r>
              <a:rPr b="1" i="1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615960" y="4019400"/>
                <a:ext cx="363528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;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−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e</m:t>
                        </m:r>
                      </m:e>
                    </m:ba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5148360" y="378936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ax valor a pagar como función del gasto en otros bie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58640" y="5891040"/>
                <a:ext cx="54849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;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6016320" y="5867280"/>
            <a:ext cx="26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unción de Ga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66840" y="5059440"/>
            <a:ext cx="58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i se paga un precio </a:t>
            </a:r>
            <a:r>
              <a:rPr b="0" i="1" lang="es-MX" sz="2400" spc="-1" strike="noStrike">
                <a:solidFill>
                  <a:srgbClr val="ffffff"/>
                </a:solidFill>
                <a:latin typeface="Tahoma"/>
              </a:rPr>
              <a:t>p,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l gasto total 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B2B6-2518-4DBA-AB8A-2CE5018C1AF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cf4ea"/>
                </a:solidFill>
                <a:latin typeface="Tahoma"/>
              </a:rPr>
              <a:t>La función de gast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332000" y="1773360"/>
                <a:ext cx="748800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;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1296000" y="2637000"/>
            <a:ext cx="633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Si p=DP entonces el gasto es </a:t>
            </a:r>
            <a:r>
              <a:rPr b="1" i="1" lang="es-MX" sz="2000" spc="-1" strike="noStrike">
                <a:solidFill>
                  <a:srgbClr val="ffffff"/>
                </a:solidFill>
                <a:latin typeface="Tahoma"/>
              </a:rPr>
              <a:t>igual 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al ingres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Si p&lt;DP entonces el gasto es </a:t>
            </a:r>
            <a:r>
              <a:rPr b="1" i="1" lang="es-MX" sz="2000" spc="-1" strike="noStrike">
                <a:solidFill>
                  <a:srgbClr val="ffffff"/>
                </a:solidFill>
                <a:latin typeface="Tahoma"/>
              </a:rPr>
              <a:t>menor 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que ingres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Si p&gt;DP entonces el gasto es </a:t>
            </a:r>
            <a:r>
              <a:rPr b="1" i="1" lang="es-MX" sz="2000" spc="-1" strike="noStrike">
                <a:solidFill>
                  <a:srgbClr val="ffffff"/>
                </a:solidFill>
                <a:latin typeface="Tahoma"/>
              </a:rPr>
              <a:t>mayor 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que ingres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4133880" y="3940200"/>
                <a:ext cx="4975200" cy="28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)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sSup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p>
                                      <m:r>
                                        <m:t xml:space="preserve">i</m:t>
                                      </m:r>
                                    </m:sup>
                                  </m:sSup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f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p</m:t>
                                  </m:r>
                                  <m:r>
                                    <m:t xml:space="preserve">&gt;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P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z</m:t>
                                  </m:r>
                                  <m:r>
                                    <m:t xml:space="preserve">,</m:t>
                                  </m:r>
                                  <m:sSup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p>
                                      <m:r>
                                        <m:t xml:space="preserve">i</m:t>
                                      </m:r>
                                    </m:sup>
                                  </m:sSup>
                                  <m:r>
                                    <m:t xml:space="preserve">;</m:t>
                                  </m:r>
                                  <m:sSup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p>
                                      <m:r>
                                        <m:t xml:space="preserve">i</m:t>
                                      </m:r>
                                    </m:sup>
                                  </m:sSup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sSup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p>
                                      <m:r>
                                        <m:t xml:space="preserve">i</m:t>
                                      </m:r>
                                    </m:sup>
                                  </m:sSup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f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p</m:t>
                                  </m:r>
                                  <m:r>
                                    <m:t xml:space="preserve">&lt;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P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z</m:t>
                                  </m:r>
                                  <m:r>
                                    <m:t xml:space="preserve">,</m:t>
                                  </m:r>
                                  <m:sSup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p>
                                      <m:r>
                                        <m:t xml:space="preserve">i</m:t>
                                      </m:r>
                                    </m:sup>
                                  </m:sSup>
                                  <m:r>
                                    <m:t xml:space="preserve">;</m:t>
                                  </m:r>
                                  <m:sSup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p>
                                      <m:r>
                                        <m:t xml:space="preserve">i</m:t>
                                      </m:r>
                                    </m:sup>
                                  </m:sSup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1240560" y="4478400"/>
            <a:ext cx="218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N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de equilibri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2E48-43C5-440E-A595-6C6EB95D82A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8cf4ea"/>
                </a:solidFill>
                <a:latin typeface="Tahoma"/>
              </a:rPr>
              <a:t>Medidas excedente del consumidor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533520" y="3129120"/>
                <a:ext cx="8173800" cy="12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V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825480" y="2367000"/>
            <a:ext cx="71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Medidas clásicas: (p,z,U) en equilib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838080" y="4815000"/>
                <a:ext cx="748044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V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9D46-64B6-41D5-9B57-41F1D22DCD4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8cf4ea"/>
                </a:solidFill>
                <a:latin typeface="Tahoma"/>
              </a:rPr>
              <a:t>Medidas excedente del consumidor: </a:t>
            </a:r>
            <a:r>
              <a:rPr b="1" lang="es-ES" sz="2800" spc="-1" strike="noStrike">
                <a:solidFill>
                  <a:srgbClr val="cc0000"/>
                </a:solidFill>
                <a:latin typeface="Tahoma"/>
              </a:rPr>
              <a:t>Utilidad constante</a:t>
            </a:r>
            <a:endParaRPr b="0" lang="en-US" sz="28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411280" y="3357720"/>
                <a:ext cx="472608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;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838080" y="4734000"/>
                <a:ext cx="6181920" cy="17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7308720" y="5589720"/>
            <a:ext cx="1371600" cy="691920"/>
          </a:xfrm>
          <a:prstGeom prst="wedgeRectCallout">
            <a:avLst>
              <a:gd name="adj1" fmla="val -177893"/>
              <a:gd name="adj2" fmla="val -90597"/>
            </a:avLst>
          </a:prstGeom>
          <a:solidFill>
            <a:srgbClr val="84928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Notar U</a:t>
            </a:r>
            <a:r>
              <a:rPr b="0" lang="en-US" sz="1600" spc="-1" strike="noStrike" baseline="30000">
                <a:solidFill>
                  <a:srgbClr val="cc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1351080" y="2421000"/>
                <a:ext cx="779292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V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;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;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417960" y="4017960"/>
            <a:ext cx="836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Para I constante, cambio en localización de equilibri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9EAC-704C-4AEE-8CF0-9C2BFBA731C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8cf4ea"/>
                </a:solidFill>
                <a:latin typeface="Tahoma"/>
              </a:rPr>
              <a:t>Medidas excedente del consumidor: </a:t>
            </a:r>
            <a:r>
              <a:rPr b="1" lang="es-ES" sz="2800" spc="-1" strike="noStrike">
                <a:solidFill>
                  <a:srgbClr val="cc0000"/>
                </a:solidFill>
                <a:latin typeface="Tahoma"/>
              </a:rPr>
              <a:t>Utilidad variable</a:t>
            </a:r>
            <a:endParaRPr b="0" lang="en-US" sz="28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411280" y="2924280"/>
                <a:ext cx="472608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;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585720" y="4734000"/>
                <a:ext cx="6723000" cy="18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7451640" y="5516640"/>
            <a:ext cx="1371600" cy="691920"/>
          </a:xfrm>
          <a:prstGeom prst="wedgeRectCallout">
            <a:avLst>
              <a:gd name="adj1" fmla="val -154166"/>
              <a:gd name="adj2" fmla="val -89449"/>
            </a:avLst>
          </a:prstGeom>
          <a:solidFill>
            <a:srgbClr val="84928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Notar U</a:t>
            </a:r>
            <a:r>
              <a:rPr b="0" lang="en-US" sz="1600" spc="-1" strike="noStrike" baseline="30000">
                <a:solidFill>
                  <a:srgbClr val="cc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17960" y="4017960"/>
            <a:ext cx="836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Para I constante, cambio en localización de equilibri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547640" y="2133720"/>
                <a:ext cx="691380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;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;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;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B5EA-6943-425F-A888-2BA6F335125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8cf4ea"/>
                </a:solidFill>
                <a:latin typeface="Tahoma"/>
              </a:rPr>
              <a:t>Excedente del consumidor: </a:t>
            </a:r>
            <a:r>
              <a:rPr b="1" lang="es-ES" sz="2800" spc="-1" strike="noStrike">
                <a:solidFill>
                  <a:srgbClr val="cc0000"/>
                </a:solidFill>
                <a:latin typeface="Tahoma"/>
              </a:rPr>
              <a:t>Utilidad variable, Utilidad cuasi-lineal</a:t>
            </a:r>
            <a:endParaRPr b="0" lang="en-US" sz="28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070000" y="1870200"/>
                <a:ext cx="3969000" cy="19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;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;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2187720" y="4827600"/>
                <a:ext cx="3519360" cy="16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S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7451640" y="5516640"/>
            <a:ext cx="1371600" cy="691920"/>
          </a:xfrm>
          <a:prstGeom prst="wedgeRectCallout">
            <a:avLst>
              <a:gd name="adj1" fmla="val -154166"/>
              <a:gd name="adj2" fmla="val -89449"/>
            </a:avLst>
          </a:prstGeom>
          <a:solidFill>
            <a:srgbClr val="84928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Notar U</a:t>
            </a:r>
            <a:r>
              <a:rPr b="0" lang="en-US" sz="1600" spc="-1" strike="noStrike" baseline="30000">
                <a:solidFill>
                  <a:srgbClr val="cc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7960" y="4017960"/>
            <a:ext cx="836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Para I constante, cambio en localización de equilibri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A4B9-D2D8-4BBB-9DA1-9F3565165EF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8cf4ea"/>
                </a:solidFill>
                <a:latin typeface="Tahoma"/>
              </a:rPr>
              <a:t>Medidas de beneficio total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552600" y="2819520"/>
                <a:ext cx="818820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US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810720" y="1981080"/>
            <a:ext cx="772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neficio Total = Excedente Consumidor + Produ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43434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Mide cambio en DP por cambios causados en los atribu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ifiere de variación de pre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5665680" y="5637240"/>
                <a:ext cx="123984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β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1066680" y="5410080"/>
            <a:ext cx="6978600" cy="1703160"/>
          </a:xfrm>
          <a:prstGeom prst="rect">
            <a:avLst/>
          </a:prstGeom>
          <a:solidFill>
            <a:srgbClr val="c9cf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02097"/>
                </a:solidFill>
                <a:latin typeface="Tahoma"/>
              </a:rPr>
              <a:t>Obs.: 1) condiciones exter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02097"/>
                </a:solidFill>
                <a:latin typeface="Tahoma"/>
              </a:rPr>
              <a:t>         </a:t>
            </a:r>
            <a:r>
              <a:rPr b="0" lang="es-ES_tradnl" sz="2400" spc="-1" strike="noStrike">
                <a:solidFill>
                  <a:srgbClr val="302097"/>
                </a:solidFill>
                <a:latin typeface="Tahoma"/>
              </a:rPr>
              <a:t>2) externalidades: interacción entre ag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69360" y="1523880"/>
            <a:ext cx="32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ara una localizació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1DA8-9684-4676-BF49-12A6A511A38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8cf4ea"/>
                </a:solidFill>
                <a:latin typeface="Times New Roman"/>
              </a:rPr>
              <a:t>Módulo 4</a:t>
            </a:r>
            <a:r>
              <a:rPr b="1" lang="en-US" sz="4400" spc="-1" strike="noStrike">
                <a:solidFill>
                  <a:srgbClr val="8cf4ea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0080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CL" sz="4000" spc="-1" strike="noStrike">
                <a:solidFill>
                  <a:srgbClr val="ffffff"/>
                </a:solidFill>
                <a:latin typeface="Times New Roman"/>
              </a:rPr>
              <a:t>Modelo de Localización  en Corto Plaz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ff"/>
                </a:solidFill>
                <a:latin typeface="Times New Roman"/>
              </a:rPr>
              <a:t>(oferta exógena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4A19-8964-4090-B385-5A60E0EE130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8cf4ea"/>
                </a:solidFill>
                <a:latin typeface="Tahoma"/>
              </a:rPr>
              <a:t>Algunas conclusion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os beneficios totales 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mbio en DP evaluado a U cte, 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mbio en U más cambio en rentas, 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mbio en valor de ambiente construido y uso del sue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ahoma"/>
              </a:rPr>
              <a:t>NO son idénticos a cambios en ren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88B5-645D-415E-862D-8E0593816FA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17080" y="1889280"/>
            <a:ext cx="7558200" cy="312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8cf4ea"/>
                </a:solidFill>
                <a:latin typeface="Times New Roman"/>
              </a:rPr>
              <a:t>LOCALIZACIÓN Y USO DEL SUELO</a:t>
            </a:r>
            <a:br>
              <a:rPr sz="4400"/>
            </a:br>
            <a:r>
              <a:rPr b="1" lang="es-MX" sz="3600" spc="-1" strike="noStrike">
                <a:solidFill>
                  <a:srgbClr val="8cf4ea"/>
                </a:solidFill>
                <a:latin typeface="Times New Roman"/>
              </a:rPr>
              <a:t>(MODELO DETERMINÍSTICO)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C5BD-C6B4-4B04-BFAB-45E788E31DA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57200" y="1295280"/>
            <a:ext cx="8305920" cy="129564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38080" y="15228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b7a5"/>
                </a:solidFill>
                <a:latin typeface="Times New Roman"/>
              </a:rPr>
              <a:t>TEORIA DEL COMPORTAMI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3200400"/>
            <a:ext cx="2361960" cy="34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Variables de externalidades de localización (endógenas a US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8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Nivel de ingreso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8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eguridad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8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tatu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8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Etnia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8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Aglomeración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584280" y="1600200"/>
                <a:ext cx="793728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2514600" y="3200400"/>
            <a:ext cx="2362320" cy="25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Variables del sistema de transporte para acceder a actividades (endógenas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a US&amp;T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00600" y="3200400"/>
            <a:ext cx="2362320" cy="15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Variables geográficas (exógenas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a US&amp;T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781680" y="3200400"/>
            <a:ext cx="2057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Parámetros de gusto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447920" y="2362320"/>
            <a:ext cx="76176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657600" y="304776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3581280" y="2361960"/>
            <a:ext cx="7632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3657600" y="2438280"/>
            <a:ext cx="167652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6095880" y="2362320"/>
            <a:ext cx="68580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7772400" y="24379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20680" y="5373720"/>
            <a:ext cx="348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6633"/>
                </a:solidFill>
                <a:latin typeface="Arial"/>
              </a:rPr>
              <a:t>h: categoría de ag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6633"/>
                </a:solidFill>
                <a:latin typeface="Arial"/>
              </a:rPr>
              <a:t>i: zona de localización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0946-B5F8-4D2C-B5B7-C3DB54D54BE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457200" y="3429000"/>
            <a:ext cx="8534520" cy="137160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62120" y="3049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b7a5"/>
                </a:solidFill>
                <a:latin typeface="Times New Roman"/>
              </a:rPr>
              <a:t>LA DISPOSICION A PAGA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066680"/>
            <a:ext cx="762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i existe</a:t>
            </a: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 U</a:t>
            </a:r>
            <a:r>
              <a:rPr b="0" i="1" lang="es-ES" sz="2800" spc="-1" strike="noStrike" baseline="-25000">
                <a:solidFill>
                  <a:srgbClr val="ffffff"/>
                </a:solidFill>
                <a:latin typeface="Times New Roman"/>
              </a:rPr>
              <a:t>hi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existe </a:t>
            </a: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DP</a:t>
            </a:r>
            <a:r>
              <a:rPr b="0" i="1" lang="es-ES" sz="2800" spc="-1" strike="noStrike" baseline="-25000">
                <a:solidFill>
                  <a:srgbClr val="ffffff"/>
                </a:solidFill>
                <a:latin typeface="Times New Roman"/>
              </a:rPr>
              <a:t>h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1752480"/>
            <a:ext cx="85341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DP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:  el monto que un hogar o firma “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” está dispuesto a pagar por  una localización “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” de manera de obtener un nivel de satisfacción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i="1" lang="es-ES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657360" y="3657600"/>
                <a:ext cx="816264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228600" y="5562720"/>
            <a:ext cx="5410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ES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:  vector de valoración de cada atribu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39920" y="4952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ngre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382920" y="4952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Nivel Ut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2773440" y="4495680"/>
            <a:ext cx="53316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144680" y="4495680"/>
            <a:ext cx="7596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89CA-23FB-419A-B472-5E51C06C952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600200" y="1523880"/>
            <a:ext cx="6172200" cy="12193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38080" y="6094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cf4ea"/>
                </a:solidFill>
                <a:latin typeface="Times New Roman"/>
              </a:rPr>
              <a:t>EQUIVALENC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1944720" y="1752480"/>
                <a:ext cx="519912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</m:lim>
                    </m:limLow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838080" y="56386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Opción:  Trabajar con utilidades o con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DP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19720" y="28195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isposición a pag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4480" y="281952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recio a pag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5257800" y="2361960"/>
            <a:ext cx="38088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6705360" y="2362320"/>
            <a:ext cx="2286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5829120" y="2247840"/>
            <a:ext cx="380880" cy="2895480"/>
          </a:xfrm>
          <a:custGeom>
            <a:avLst/>
            <a:gdLst>
              <a:gd name="textAreaLeft" fmla="*/ 243360 w 380880"/>
              <a:gd name="textAreaRight" fmla="*/ 381240 w 38088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43400" y="3962520"/>
            <a:ext cx="3505320" cy="12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xcedente del consumi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VARIACIÓN COMPENSATO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90720" y="3429000"/>
            <a:ext cx="1143000" cy="609480"/>
          </a:xfrm>
          <a:prstGeom prst="wedgeRectCallout">
            <a:avLst>
              <a:gd name="adj1" fmla="val 80416"/>
              <a:gd name="adj2" fmla="val -198175"/>
            </a:avLst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052640" y="3468600"/>
            <a:ext cx="1028160" cy="4597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ofer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42D5-A906-4F45-8042-A5EEAAE3BFD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57200" y="45720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cf4ea"/>
                </a:solidFill>
                <a:latin typeface="Times New Roman"/>
              </a:rPr>
              <a:t>REGLA MEJOR POST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62120" y="4114800"/>
            <a:ext cx="6248160" cy="9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localización es asignada a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77880" indent="-677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" sz="2800" spc="-1" strike="noStrike">
                <a:solidFill>
                  <a:srgbClr val="ff6633"/>
                </a:solidFill>
                <a:latin typeface="Times New Roman"/>
              </a:rPr>
              <a:t>mejor postor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14400" y="19051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Bienes Ún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505320" y="213372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952880" y="19051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Rem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2819520"/>
            <a:ext cx="73915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uelo Urbano es un bien “</a:t>
            </a:r>
            <a:r>
              <a:rPr b="1" lang="es-ES" sz="2400" spc="-1" strike="noStrike">
                <a:solidFill>
                  <a:srgbClr val="ff6633"/>
                </a:solidFill>
                <a:latin typeface="Times New Roman"/>
              </a:rPr>
              <a:t>cuasi-único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6633"/>
                </a:solidFill>
                <a:latin typeface="Times New Roman"/>
              </a:rPr>
              <a:t>No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es posible producir localizaciones de iguales atribu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F72B-E021-4C5D-BC40-C093F8C819C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733920" y="1981080"/>
            <a:ext cx="5105160" cy="106704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0880" y="2057400"/>
            <a:ext cx="320040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CONSUMID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77880" indent="-677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max ut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2120" y="4446720"/>
            <a:ext cx="266688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OFER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77880" indent="-677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max postur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4245120" y="2209680"/>
                <a:ext cx="377640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</m:lim>
                    </m:limLow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457200" y="45720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cf4ea"/>
                </a:solidFill>
                <a:latin typeface="Times New Roman"/>
              </a:rPr>
              <a:t>REGLA MEJOR POST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33920" y="4038480"/>
            <a:ext cx="5135400" cy="19051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3995640" y="4581360"/>
                <a:ext cx="455472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/>
                    </m:limLow>
                    <m:r>
                      <m:t xml:space="preserve"> 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g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3F3B-633E-4C57-B9E3-11D600E24C8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3886200" y="4419720"/>
            <a:ext cx="4800600" cy="22096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066680" y="2895480"/>
            <a:ext cx="6858000" cy="114300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838080"/>
            <a:ext cx="8001000" cy="9907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0880" y="46483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i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mejor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postor en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19320" y="4572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b7a5"/>
                </a:solidFill>
                <a:latin typeface="Times New Roman"/>
              </a:rPr>
              <a:t>CONSUMI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181480" y="4572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b7a5"/>
                </a:solidFill>
                <a:latin typeface="Times New Roman"/>
              </a:rPr>
              <a:t>OFER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905120" y="213372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Equilibrio </a:t>
            </a:r>
            <a:r>
              <a:rPr b="1" i="1" lang="es-ES" sz="2400" spc="-1" strike="noStrike">
                <a:solidFill>
                  <a:srgbClr val="ff6633"/>
                </a:solidFill>
                <a:latin typeface="Times New Roman"/>
              </a:rPr>
              <a:t>BID-CH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0880" y="5486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i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hace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peor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oferta que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971640" y="1125360"/>
                <a:ext cx="310176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</m:lim>
                    </m:limLow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4859280" y="1111320"/>
                <a:ext cx="378000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g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lim>
                    </m:limLow>
                    <m:r>
                      <m:t xml:space="preserve"> 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g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lim>
                    </m:limLow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1619280" y="3068640"/>
                <a:ext cx="576108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</m:lim>
                    </m:limLow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g</m:t>
                            </m:r>
                            <m:r>
                              <m:t xml:space="preserve">∈</m:t>
                            </m:r>
                            <m:r>
                              <m:t xml:space="preserve">H</m:t>
                            </m:r>
                          </m:lim>
                        </m:limLow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4140360" y="4508640"/>
                <a:ext cx="4392360" cy="15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/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i</m:t>
                            </m:r>
                          </m:sub>
                        </m:sSub>
                        <m:r>
                          <m:t xml:space="preserve">&gt;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0DA8-9299-46C2-B9B8-F2564CFA125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762120" y="68580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CONCLUSION:  Modelo Bid-Cho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(oferta dad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" y="2133720"/>
            <a:ext cx="7543800" cy="22096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1114560" y="2378160"/>
                <a:ext cx="608472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  <m:r>
                          <m:t xml:space="preserve">'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    </m:t>
                    </m:r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979640" y="3213000"/>
                <a:ext cx="492264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g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>
            <a:off x="914400" y="4419720"/>
            <a:ext cx="746748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i se observa un agente localizado, entonc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3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a localización maximiza su utilida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3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a renta representa su máxima disposición a paga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(dada una oferta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41160" y="6172200"/>
            <a:ext cx="491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6633"/>
                </a:solidFill>
                <a:latin typeface="Arial"/>
              </a:rPr>
              <a:t>BID ES CONDICIÓN SUFICI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4CD3-9DF7-48BE-847E-66B5BCF1A27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17080" y="1889280"/>
            <a:ext cx="7558200" cy="312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8cf4ea"/>
                </a:solidFill>
                <a:latin typeface="Times New Roman"/>
              </a:rPr>
              <a:t>MODELO DE EQUILIBRIO ESTOCÁSTICO EN LOCALIZACIÓN Y USO DEL SUEL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37D4-B8B6-40A8-AE57-F431790CD9D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8cf4ea"/>
                </a:solidFill>
                <a:latin typeface="Tahoma"/>
              </a:rPr>
              <a:t>Contexto Económic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30592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 mercado del suelo urba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Múltiples consumidores: residentes y firm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Múltiples atributos de localiz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xternalidades de localiz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Una variedad de opciones zona-edific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Mercado de Remates: competencia imperfec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nálisis de equilibrium de merc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Medidas en cambios de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Regula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royectos de Transpor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8721-092C-4FC9-BDDE-F7A6D9C8370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48164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036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cf4ea"/>
                </a:solidFill>
                <a:latin typeface="Times New Roman"/>
              </a:rPr>
              <a:t>¡Bien...pero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903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cf4ea"/>
                </a:solidFill>
                <a:latin typeface="Times New Roman"/>
              </a:rPr>
              <a:t>¿ Cómo puedo saber exactamente el comporta-miento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283A-46DF-419C-9376-522994B1898C}" type="slidenum">
              <a:t>30</a:t>
            </a:fld>
          </a:p>
        </p:txBody>
      </p:sp>
    </p:spTree>
  </p:cSld>
  <p:transition spd="med" advTm="16000"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" dur="1" fill="hold"/>
                                  <p:tgtEl>
                                    <p:spTgt spid="2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Enfoque de elección discreta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044800" y="2755800"/>
            <a:ext cx="1854000" cy="21844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346200" y="2749680"/>
            <a:ext cx="546120" cy="2120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92680" y="2749680"/>
            <a:ext cx="291960" cy="2120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92680" y="2749680"/>
            <a:ext cx="2273040" cy="204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719160" y="22654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20800" y="5054760"/>
            <a:ext cx="4756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vi,i1         v2,i2         vk,ik                          v,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991920" y="4749840"/>
            <a:ext cx="16048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Ofer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vivienda,zo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304680" y="2158920"/>
            <a:ext cx="1571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sumi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gar o fir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352880" y="5724360"/>
            <a:ext cx="57013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ximización utilidad del consumid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204360" y="182880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H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DEFA-D4CE-4DEA-937D-65EE4E6D1355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523880" y="3962520"/>
            <a:ext cx="5181840" cy="1600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80800" y="609480"/>
            <a:ext cx="77151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Modelos estocástico: 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Versión Choice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EC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P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(z,U) - p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Supuesto: 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hi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IIDGumbel (0,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s-CL" sz="2800" spc="-1" strike="noStrike" baseline="30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), precio p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exóge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i/h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Prob(EC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&gt; EC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j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; j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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1828800" y="4038480"/>
                <a:ext cx="419112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ε</m:t>
                            </m:r>
                            <m:r>
                              <m:t xml:space="preserve">Ω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c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j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- 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900000" y="5883120"/>
            <a:ext cx="65026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Logit multinomial. Alternativas son predi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FA75-58F8-429A-8D07-9B09199E0738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Enfoque remate </a:t>
            </a:r>
            <a:r>
              <a:rPr b="0" lang="en-US" sz="3200" spc="-1" strike="noStrike">
                <a:solidFill>
                  <a:srgbClr val="8cf4ea"/>
                </a:solidFill>
                <a:latin typeface="Times New Roman"/>
              </a:rPr>
              <a:t>(selección discreta)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2044800" y="2755800"/>
            <a:ext cx="1854000" cy="21844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3346200" y="2749680"/>
            <a:ext cx="546120" cy="2120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92680" y="2749680"/>
            <a:ext cx="291960" cy="2120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92680" y="2749680"/>
            <a:ext cx="2273040" cy="204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718440" y="2265480"/>
            <a:ext cx="495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v,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720800" y="5054760"/>
            <a:ext cx="4597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1                 h2           h3                         h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382440" y="2235240"/>
            <a:ext cx="16048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Oferente 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vivienda,zo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60800" y="4902120"/>
            <a:ext cx="21520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sumidor/pos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gar o fir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352520" y="5724360"/>
            <a:ext cx="6253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ximización utilidad del dueño del sue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583440" y="190512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B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D7D1-C2DB-4117-B7E5-44F165D39C9F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371600" y="3657600"/>
            <a:ext cx="6324480" cy="19810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DP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(z,U) +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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Supuestos:</a:t>
            </a:r>
            <a:r>
              <a:rPr b="0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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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hi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IIDGumbel (0,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s-CL" sz="2800" spc="-1" strike="noStrike" baseline="30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/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Prob(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&gt; 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g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; g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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2030400" y="3654360"/>
                <a:ext cx="4370400" cy="18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εH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>
            <a:off x="833400" y="6019920"/>
            <a:ext cx="7431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Logit multinomial. Alternativas son consumido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457200"/>
            <a:ext cx="771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Modelos estocástico: 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Versión B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8DF8-25ED-4390-9E01-8CF3828D5391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066680" y="3809880"/>
            <a:ext cx="7696440" cy="221004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80800" y="609480"/>
            <a:ext cx="77151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cf4ea"/>
                </a:solidFill>
                <a:latin typeface="Times New Roman"/>
              </a:rPr>
              <a:t>Renta endógena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Renta es valor esperado máxima postu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Máx</a:t>
            </a:r>
            <a:r>
              <a:rPr b="0" lang="es-CL" sz="32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= r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+  </a:t>
            </a:r>
            <a:r>
              <a:rPr b="0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IIDG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(0,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s-CL" sz="2800" spc="-1" strike="noStrike" baseline="30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1722600" y="4167360"/>
                <a:ext cx="6354720" cy="16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ln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εH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d>
                    <m:r>
                      <m:rPr>
                        <m:lit/>
                        <m:nor/>
                      </m:rPr>
                      <m:t xml:space="preserve"> + 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9A38-F2C4-45F2-A679-F7DDE0A339EF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2209680" y="5029200"/>
            <a:ext cx="5747040" cy="1600200"/>
          </a:xfrm>
          <a:prstGeom prst="rect">
            <a:avLst/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352680" y="1066680"/>
            <a:ext cx="5029200" cy="35053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80800" y="609480"/>
            <a:ext cx="77151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f4ea"/>
                </a:solidFill>
                <a:latin typeface="Times New Roman"/>
              </a:rPr>
              <a:t>Resumen: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3909960" y="1219320"/>
                <a:ext cx="35355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ε</m:t>
                            </m:r>
                            <m:r>
                              <m:t xml:space="preserve">Ω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c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- 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3780000" y="2349360"/>
                <a:ext cx="337644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εH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3780000" y="3500280"/>
                <a:ext cx="335736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ln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εH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d>
                    <m:r>
                      <m:rPr>
                        <m:lit/>
                        <m:nor/>
                      </m:rPr>
                      <m:t xml:space="preserve"> + 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745200" y="1403280"/>
            <a:ext cx="1208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1) Cho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22600" y="2546280"/>
            <a:ext cx="839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2) B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21160" y="3689280"/>
            <a:ext cx="1110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3) Ren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2414520" y="5157720"/>
                <a:ext cx="5326200" cy="14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/i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b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 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γ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02C5-C692-4E87-AA98-A84128848E2A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80800" y="304920"/>
            <a:ext cx="77151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f4ea"/>
                </a:solidFill>
                <a:latin typeface="Times New Roman"/>
              </a:rPr>
              <a:t>Equivalencia modelos estocásticos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971640" y="1413000"/>
            <a:ext cx="7342200" cy="1778040"/>
            <a:chOff x="971640" y="1413000"/>
            <a:chExt cx="7342200" cy="1778040"/>
          </a:xfrm>
        </p:grpSpPr>
        <p:sp>
          <p:nvSpPr>
            <p:cNvPr id="313" name=""/>
            <p:cNvSpPr/>
            <p:nvPr/>
          </p:nvSpPr>
          <p:spPr>
            <a:xfrm>
              <a:off x="971640" y="1413000"/>
              <a:ext cx="7342200" cy="177804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4" name=""/>
                <p:cNvSpPr txBox="1"/>
                <p:nvPr/>
              </p:nvSpPr>
              <p:spPr>
                <a:xfrm>
                  <a:off x="1347840" y="1427040"/>
                  <a:ext cx="6404040" cy="164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i</m:t>
                              </m:r>
                            </m:num>
                            <m:den>
                              <m:r>
                                <m:t xml:space="preserve">h</m:t>
                              </m:r>
                            </m:den>
                          </m:f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h</m:t>
                                  </m:r>
                                </m:num>
                                <m:den>
                                  <m:r>
                                    <m:t xml:space="preserve">i</m:t>
                                  </m:r>
                                </m:den>
                              </m:f>
                            </m:sub>
                          </m:sSub>
                        </m:num>
                        <m:den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j</m:t>
                              </m:r>
                              <m:r>
                                <m:t xml:space="preserve">∈</m:t>
                              </m:r>
                              <m:r>
                                <m:t xml:space="preserve">Ω</m:t>
                              </m:r>
                            </m:sub>
                            <m:sup/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h</m:t>
                                      </m:r>
                                    </m:num>
                                    <m:den>
                                      <m:r>
                                        <m:t xml:space="preserve">j</m:t>
                                      </m:r>
                                    </m:den>
                                  </m:f>
                                </m:sub>
                              </m:sSub>
                            </m:e>
                          </m:nary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exp</m:t>
                          </m:r>
                          <m:sSup>
                            <m:e>
                              <m:r>
                                <m:t xml:space="preserve">μ</m:t>
                              </m:r>
                            </m:e>
                            <m:sup>
                              <m:r>
                                <m:t xml:space="preserve">b</m:t>
                              </m:r>
                            </m:sup>
                          </m:sSup>
                          <m:r>
                            <m:t xml:space="preserve">(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hi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j</m:t>
                              </m:r>
                              <m:r>
                                <m:t xml:space="preserve">∈</m:t>
                              </m:r>
                              <m:r>
                                <m:t xml:space="preserve">Ω</m:t>
                              </m:r>
                            </m:sub>
                            <m:sup/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exp</m:t>
                              </m:r>
                              <m:sSup>
                                <m:e>
                                  <m:r>
                                    <m:t xml:space="preserve">μ</m:t>
                                  </m:r>
                                </m:e>
                                <m:sup>
                                  <m:r>
                                    <m:t xml:space="preserve">b</m:t>
                                  </m:r>
                                </m:sup>
                              </m:sSup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hj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nary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15" name=""/>
          <p:cNvSpPr/>
          <p:nvPr/>
        </p:nvSpPr>
        <p:spPr>
          <a:xfrm>
            <a:off x="1116000" y="3886200"/>
            <a:ext cx="56736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quivalencia ocurre si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os factores de escala son idéntico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recios endógenos.. hay rem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i 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i="1" lang="es-ES" sz="24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=1 ,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a oferta se remata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….equilibrio oferta deman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51080" y="6095880"/>
            <a:ext cx="475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6633"/>
                </a:solidFill>
                <a:latin typeface="Arial"/>
              </a:rPr>
              <a:t>BID es aplicable siemp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BED2-8F0E-407D-A20D-A118D2032E95}" type="slidenum">
              <a:t>37</a:t>
            </a:fld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alibración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415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orrelación entre atributos z y rentas r afecta parámetros de modelo cho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Las posturas calibradas son truncada en ambas vers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Ambigüedad en la función calibrada por choice: es de postura o utilidad. No hay ambigüedad en versión bi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arámetro de accesibilidad mejor en versión cho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onclusión: estimar sistema de ecuaciones (P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imes New Roman"/>
              </a:rPr>
              <a:t>h/i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imes New Roman"/>
              </a:rPr>
              <a:t>i/h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, 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F327-49ED-454D-AA8F-3BD42CCCE2F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17080" y="1916280"/>
            <a:ext cx="7558200" cy="312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8cf4ea"/>
                </a:solidFill>
                <a:latin typeface="Times New Roman"/>
              </a:rPr>
              <a:t>EQUILIBRIO EN LOCALIZACIÓN Y USO DEL SUELO</a:t>
            </a:r>
            <a:br>
              <a:rPr sz="4400"/>
            </a:br>
            <a:r>
              <a:rPr b="1" lang="es-MX" sz="3600" spc="-1" strike="noStrike">
                <a:solidFill>
                  <a:srgbClr val="8cf4ea"/>
                </a:solidFill>
                <a:latin typeface="Times New Roman"/>
              </a:rPr>
              <a:t>(MODELO ESTOCÁSTICO)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0588-5437-4FF5-BACF-F10C69DAFCE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7080" y="1889280"/>
            <a:ext cx="7558200" cy="312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8cf4ea"/>
                </a:solidFill>
                <a:latin typeface="Times New Roman"/>
              </a:rPr>
              <a:t>LA DISPOSICIÓN </a:t>
            </a:r>
            <a:br>
              <a:rPr sz="4800"/>
            </a:br>
            <a:r>
              <a:rPr b="1" lang="es-MX" sz="4800" spc="-1" strike="noStrike">
                <a:solidFill>
                  <a:srgbClr val="8cf4ea"/>
                </a:solidFill>
                <a:latin typeface="Times New Roman"/>
              </a:rPr>
              <a:t>A PAGAR LOCALIZACIÓN</a:t>
            </a:r>
            <a:endParaRPr b="0" lang="en-US" sz="48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C47E-4797-48E6-AD11-0ABDC71CBA5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371600" y="2362320"/>
            <a:ext cx="6324480" cy="19810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1335240" y="2438280"/>
                <a:ext cx="6399000" cy="19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εH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v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v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2" name=""/>
          <p:cNvSpPr/>
          <p:nvPr/>
        </p:nvSpPr>
        <p:spPr>
          <a:xfrm>
            <a:off x="833400" y="6019920"/>
            <a:ext cx="6283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nto fijo en localización dadas utilidad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609480"/>
            <a:ext cx="771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8cf4ea"/>
                </a:solidFill>
                <a:latin typeface="Times New Roman"/>
              </a:rPr>
              <a:t>Externalidades</a:t>
            </a:r>
            <a:br>
              <a:rPr sz="4000"/>
            </a:br>
            <a:r>
              <a:rPr b="1" lang="es-CL" sz="4000" spc="-1" strike="noStrike">
                <a:solidFill>
                  <a:srgbClr val="8cf4ea"/>
                </a:solidFill>
                <a:latin typeface="Times New Roman"/>
              </a:rPr>
              <a:t> Equilibrio corto plaz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2286000" y="4724280"/>
                <a:ext cx="4114800" cy="9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85CF-1BBA-4279-8CB4-3965A9200207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d49fff"/>
                </a:solidFill>
                <a:latin typeface="Tahoma"/>
              </a:rPr>
              <a:t>Caso utilidad cuasi lineal</a:t>
            </a:r>
            <a:endParaRPr b="0" lang="en-US" sz="28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1550880" y="1600200"/>
                <a:ext cx="5927760" cy="20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1693800" y="4114800"/>
                <a:ext cx="568188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/vi 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 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εH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v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E33A-59D2-4019-AB4A-C48917D6C8F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3276720" y="129528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914400" y="5638680"/>
            <a:ext cx="72388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3276720" y="1676520"/>
            <a:ext cx="3429000" cy="396216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834680" y="59072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592720" y="1219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995880" y="240192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=L(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919560" y="140796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=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428120" y="192240"/>
            <a:ext cx="595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cf4ea"/>
                </a:solidFill>
                <a:latin typeface="Arial"/>
              </a:rPr>
              <a:t>Punto Fijo de Probabilidad Local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4724280" y="44197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267080" y="4419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26708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2590920"/>
            <a:ext cx="4952880" cy="2895480"/>
          </a:xfrm>
          <a:custGeom>
            <a:avLst/>
            <a:gdLst/>
            <a:ahLst/>
            <a:rect l="l" t="t" r="r" b="b"/>
            <a:pathLst>
              <a:path w="3504" h="2256">
                <a:moveTo>
                  <a:pt x="0" y="2256"/>
                </a:moveTo>
                <a:cubicBezTo>
                  <a:pt x="764" y="2084"/>
                  <a:pt x="1528" y="1912"/>
                  <a:pt x="1920" y="1584"/>
                </a:cubicBezTo>
                <a:cubicBezTo>
                  <a:pt x="2312" y="1256"/>
                  <a:pt x="2088" y="552"/>
                  <a:pt x="2352" y="288"/>
                </a:cubicBezTo>
                <a:cubicBezTo>
                  <a:pt x="2616" y="24"/>
                  <a:pt x="3312" y="48"/>
                  <a:pt x="3504" y="0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733920" y="4952880"/>
            <a:ext cx="152280" cy="15264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715000" y="2590920"/>
            <a:ext cx="228600" cy="15228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876920" y="3657600"/>
            <a:ext cx="152280" cy="15228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7DD0-07C0-44B7-AE44-67F30E08B1B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523880" y="340920"/>
            <a:ext cx="7034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f4ea"/>
                </a:solidFill>
                <a:latin typeface="Times New Roman"/>
              </a:rPr>
              <a:t>Equilibrio en Localización</a:t>
            </a:r>
            <a:br>
              <a:rPr sz="4000"/>
            </a:br>
            <a:r>
              <a:rPr b="0" lang="en-US" sz="4000" spc="-1" strike="noStrike">
                <a:solidFill>
                  <a:srgbClr val="8cf4ea"/>
                </a:solidFill>
                <a:latin typeface="Times New Roman"/>
              </a:rPr>
              <a:t>“Todo agente se localiza”</a:t>
            </a:r>
            <a:r>
              <a:rPr b="0" lang="en-US" sz="4000" spc="-1" strike="noStrike">
                <a:solidFill>
                  <a:srgbClr val="8cf4ea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2076480" y="4183200"/>
                <a:ext cx="5753160" cy="13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  <m:r>
                              <m:t xml:space="preserve">∈</m:t>
                            </m:r>
                            <m:r>
                              <m:t xml:space="preserve">Ω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v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vi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5" name=""/>
          <p:cNvSpPr/>
          <p:nvPr/>
        </p:nvSpPr>
        <p:spPr>
          <a:xfrm>
            <a:off x="1978920" y="6156360"/>
            <a:ext cx="418716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8cf4ea"/>
                </a:solidFill>
                <a:latin typeface="Arial"/>
              </a:rPr>
              <a:t>Punto fijo de utilidad:  </a:t>
            </a: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b</a:t>
            </a:r>
            <a:r>
              <a:rPr b="0" i="1" lang="es-CL" sz="2400" spc="-1" strike="noStrike" baseline="-25000">
                <a:solidFill>
                  <a:srgbClr val="8cf4ea"/>
                </a:solidFill>
                <a:latin typeface="Arial"/>
              </a:rPr>
              <a:t>h</a:t>
            </a: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=f(b</a:t>
            </a:r>
            <a:r>
              <a:rPr b="0" i="1" lang="es-CL" sz="2400" spc="-1" strike="noStrike" baseline="-25000">
                <a:solidFill>
                  <a:srgbClr val="8cf4ea"/>
                </a:solidFill>
                <a:latin typeface="Arial"/>
              </a:rPr>
              <a:t>h</a:t>
            </a: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2133720" y="2070000"/>
                <a:ext cx="53337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  <m:r>
                          <m:t xml:space="preserve">Î</m:t>
                        </m:r>
                        <m:r>
                          <m:t xml:space="preserve">Ω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den>
                            </m:f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m>
                          <m:mr>
                            <m:e/>
                            <m:e/>
                            <m:e/>
                          </m:mr>
                        </m:m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1CF2-4B98-4C50-9C3D-4540E0765F3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3276720" y="129528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14400" y="5638680"/>
            <a:ext cx="72388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3276720" y="1676520"/>
            <a:ext cx="3429000" cy="396216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842600" y="590724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s-ES" sz="24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00640" y="121932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s-ES" sz="24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707160" y="2438280"/>
            <a:ext cx="253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=logsuma(B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3240" y="1407960"/>
            <a:ext cx="805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=B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31000" y="192240"/>
            <a:ext cx="35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cf4ea"/>
                </a:solidFill>
                <a:latin typeface="Arial"/>
              </a:rPr>
              <a:t>Punto Fijo de Logsu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5943600" y="342900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5181120" y="3429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81480" y="342900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4495320" y="41911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676520" y="2743200"/>
            <a:ext cx="4876560" cy="2514600"/>
          </a:xfrm>
          <a:custGeom>
            <a:avLst/>
            <a:gdLst/>
            <a:ahLst/>
            <a:rect l="l" t="t" r="r" b="b"/>
            <a:pathLst>
              <a:path w="3072" h="1584">
                <a:moveTo>
                  <a:pt x="0" y="1584"/>
                </a:moveTo>
                <a:cubicBezTo>
                  <a:pt x="336" y="1584"/>
                  <a:pt x="672" y="1584"/>
                  <a:pt x="960" y="1536"/>
                </a:cubicBezTo>
                <a:cubicBezTo>
                  <a:pt x="1248" y="1488"/>
                  <a:pt x="1472" y="1448"/>
                  <a:pt x="1728" y="1296"/>
                </a:cubicBezTo>
                <a:cubicBezTo>
                  <a:pt x="1984" y="1144"/>
                  <a:pt x="2272" y="840"/>
                  <a:pt x="2496" y="624"/>
                </a:cubicBezTo>
                <a:cubicBezTo>
                  <a:pt x="2720" y="408"/>
                  <a:pt x="2968" y="112"/>
                  <a:pt x="3072" y="0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733920" y="4952880"/>
            <a:ext cx="152280" cy="15264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4743-3D39-40D2-9C3F-7A4FA9A6ADC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3033000" y="3413160"/>
            <a:ext cx="3077640" cy="824040"/>
          </a:xfrm>
          <a:prstGeom prst="rect">
            <a:avLst/>
          </a:prstGeom>
          <a:noFill/>
          <a:ln w="93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8cf4ea"/>
                </a:solidFill>
                <a:latin typeface="Arial"/>
              </a:rPr>
              <a:t>P</a:t>
            </a:r>
            <a:r>
              <a:rPr b="1" i="1" lang="es-CL" sz="2400" spc="-1" strike="noStrike" baseline="30000">
                <a:solidFill>
                  <a:srgbClr val="8cf4ea"/>
                </a:solidFill>
                <a:latin typeface="Arial"/>
              </a:rPr>
              <a:t>t </a:t>
            </a:r>
            <a:r>
              <a:rPr b="1" i="1" lang="es-CL" sz="2000" spc="-1" strike="noStrike">
                <a:solidFill>
                  <a:srgbClr val="8cf4ea"/>
                </a:solidFill>
                <a:latin typeface="Arial"/>
              </a:rPr>
              <a:t>(S,u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punto fijo local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4564080" y="2590920"/>
            <a:ext cx="792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564080" y="4343400"/>
            <a:ext cx="0" cy="762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562720" y="5715000"/>
            <a:ext cx="16761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7238880" y="2057400"/>
            <a:ext cx="0" cy="3657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095880" y="2057400"/>
            <a:ext cx="11430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447920" y="228600"/>
            <a:ext cx="708660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f4ea"/>
                </a:solidFill>
                <a:latin typeface="Times New Roman"/>
              </a:rPr>
              <a:t>Algoritmo solución</a:t>
            </a:r>
            <a:r>
              <a:rPr b="0" lang="en-US" sz="3200" spc="-1" strike="noStrike">
                <a:solidFill>
                  <a:srgbClr val="8cf4ea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971800" y="1676520"/>
            <a:ext cx="2971800" cy="824040"/>
          </a:xfrm>
          <a:prstGeom prst="rect">
            <a:avLst/>
          </a:prstGeom>
          <a:noFill/>
          <a:ln w="93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8cf4ea"/>
                </a:solidFill>
                <a:latin typeface="Arial"/>
              </a:rPr>
              <a:t>b</a:t>
            </a:r>
            <a:r>
              <a:rPr b="1" i="1" lang="es-CL" sz="2400" spc="-1" strike="noStrike" baseline="30000">
                <a:solidFill>
                  <a:srgbClr val="8cf4ea"/>
                </a:solidFill>
                <a:latin typeface="Arial"/>
              </a:rPr>
              <a:t>t </a:t>
            </a:r>
            <a:r>
              <a:rPr b="1" i="1" lang="es-CL" sz="2000" spc="-1" strike="noStrike">
                <a:solidFill>
                  <a:srgbClr val="8cf4ea"/>
                </a:solidFill>
                <a:latin typeface="Arial"/>
              </a:rPr>
              <a:t>(S,P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punto fijo ut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581280" y="5105520"/>
            <a:ext cx="1981440" cy="1218960"/>
          </a:xfrm>
          <a:prstGeom prst="diamond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898800" y="548532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ver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D2B9-87F1-41C6-AD5C-AC62C4930B3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8cf4ea"/>
                </a:solidFill>
                <a:latin typeface="Tahoma"/>
              </a:rPr>
              <a:t>Beneficios de Uso del suelo: caso estocástic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1874880" y="3498840"/>
                <a:ext cx="6049800" cy="16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U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∈</m:t>
                                    </m:r>
                                    <m:r>
                                      <m:t xml:space="preserve">H</m:t>
                                    </m:r>
                                  </m:sub>
                                  <m:sup/>
                                  <m:e>
                                    <m:sSubSup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</m:e>
                                </m:nary>
                                <m:r>
                                  <m:t xml:space="preserve">+</m:t>
                                </m:r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i</m:t>
                                    </m:r>
                                  </m:sub>
                                  <m:sup/>
                                  <m:e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  <m:r>
                                      <m:t xml:space="preserve">(</m:t>
                                    </m:r>
                                    <m:sSubSup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</m:e>
                            </m:d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p>
                        </m:sSub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73" name=""/>
          <p:cNvSpPr/>
          <p:nvPr/>
        </p:nvSpPr>
        <p:spPr>
          <a:xfrm>
            <a:off x="3429000" y="5257800"/>
            <a:ext cx="2286000" cy="990720"/>
          </a:xfrm>
          <a:prstGeom prst="wedgeRectCallout">
            <a:avLst>
              <a:gd name="adj1" fmla="val 1527"/>
              <a:gd name="adj2" fmla="val -123398"/>
            </a:avLst>
          </a:prstGeom>
          <a:solidFill>
            <a:srgbClr val="30209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581280" y="5334120"/>
            <a:ext cx="242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9cfcd"/>
                </a:solidFill>
                <a:latin typeface="Tahoma"/>
              </a:rPr>
              <a:t>Exceden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9cfcd"/>
                </a:solidFill>
                <a:latin typeface="Tahoma"/>
              </a:rPr>
              <a:t>Consumi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943600" y="5181480"/>
            <a:ext cx="2133720" cy="1067040"/>
          </a:xfrm>
          <a:prstGeom prst="wedgeRectCallout">
            <a:avLst>
              <a:gd name="adj1" fmla="val -22546"/>
              <a:gd name="adj2" fmla="val -111162"/>
            </a:avLst>
          </a:prstGeom>
          <a:solidFill>
            <a:srgbClr val="30209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940720" y="5334120"/>
            <a:ext cx="1937880" cy="825480"/>
          </a:xfrm>
          <a:prstGeom prst="rect">
            <a:avLst/>
          </a:prstGeom>
          <a:solidFill>
            <a:srgbClr val="302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9cfcd"/>
                </a:solidFill>
                <a:latin typeface="Tahoma"/>
              </a:rPr>
              <a:t>Exceden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9cfcd"/>
                </a:solidFill>
                <a:latin typeface="Tahoma"/>
              </a:rPr>
              <a:t>Product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652320" y="2252520"/>
                <a:ext cx="730440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U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E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v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sSup>
                                      <m:e/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p>
                                    </m:sSup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,</m:t>
                                </m:r>
                                <m:sSubSup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sSup>
                                      <m:e/>
                                      <m:sup>
                                        <m:r>
                                          <m:t xml:space="preserve">h</m:t>
                                        </m:r>
                                      </m:sup>
                                    </m:sSup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)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E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v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p>
                                <m:r>
                                  <m:t xml:space="preserve">,</m:t>
                                </m:r>
                                <m:sSup>
                                  <m:e>
                                    <m:r>
                                      <m:t xml:space="preserve">U</m:t>
                                    </m:r>
                                  </m:e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74E0-2AB3-4B3F-8C4D-16715FD7BFF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8" name=""/>
          <p:cNvGraphicFramePr/>
          <p:nvPr/>
        </p:nvGraphicFramePr>
        <p:xfrm>
          <a:off x="3890880" y="1593720"/>
          <a:ext cx="1343160" cy="364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90880" y="1593720"/>
                    <a:ext cx="1343160" cy="36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"/>
          <p:cNvSpPr/>
          <p:nvPr/>
        </p:nvSpPr>
        <p:spPr>
          <a:xfrm>
            <a:off x="5492880" y="539640"/>
            <a:ext cx="3643200" cy="295920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232320" y="1203480"/>
            <a:ext cx="19468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Arial"/>
              </a:rPr>
              <a:t>uff!</a:t>
            </a: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#%&amp;&amp;$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(que falta?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09D6-2348-4E43-BC3C-37F13BF8D28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8cf4ea"/>
                </a:solidFill>
                <a:latin typeface="Tahoma"/>
              </a:rPr>
              <a:t>Modelo Consumidor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752480" y="1828800"/>
            <a:ext cx="5555880" cy="1887120"/>
            <a:chOff x="1752480" y="1828800"/>
            <a:chExt cx="5555880" cy="1887120"/>
          </a:xfrm>
        </p:grpSpPr>
        <mc:AlternateContent>
          <mc:Choice xmlns:a14="http://schemas.microsoft.com/office/drawing/2010/main" Requires="a14">
            <p:sp>
              <p:nvSpPr>
                <p:cNvPr id="85" name=""/>
                <p:cNvSpPr txBox="1"/>
                <p:nvPr/>
              </p:nvSpPr>
              <p:spPr>
                <a:xfrm>
                  <a:off x="1752480" y="2022840"/>
                  <a:ext cx="5166360" cy="158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>
                            <m:limLow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lim>
                                <m:r>
                                  <m:t xml:space="preserve">δ</m:t>
                                </m:r>
                              </m:lim>
                            </m:limLow>
                          </m:e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limLow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x</m:t>
                                    </m:r>
                                  </m:e>
                                  <m:lim>
                                    <m:r>
                                      <m:t xml:space="preserve">x</m:t>
                                    </m:r>
                                  </m:lim>
                                </m:limLow>
                                <m:r>
                                  <m:t xml:space="preserve">U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,z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δ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mr>
                        <m:mr>
                          <m:e>
                            <m:r>
                              <m:t xml:space="preserve">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x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δ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I</m:t>
                            </m:r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  <p:sp>
          <p:nvSpPr>
            <p:cNvPr id="86" name=""/>
            <p:cNvSpPr/>
            <p:nvPr/>
          </p:nvSpPr>
          <p:spPr>
            <a:xfrm>
              <a:off x="1752480" y="3715920"/>
              <a:ext cx="5555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308360" y="1828800"/>
              <a:ext cx="0" cy="1887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1258920" y="3989880"/>
            <a:ext cx="7597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ontexto: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l bien es la localiz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onsume un solo bien inmue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Bienes discretos y diferenciable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spacio discre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xtensiones: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Ingreso endóge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Utilidad de activid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740720" y="3716280"/>
            <a:ext cx="1403280" cy="609480"/>
          </a:xfrm>
          <a:prstGeom prst="borderCallout1">
            <a:avLst>
              <a:gd name="adj1" fmla="val 18750"/>
              <a:gd name="adj2" fmla="val -8333"/>
              <a:gd name="adj3" fmla="val -56250"/>
              <a:gd name="adj4" fmla="val -16753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Un b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25A2-BB73-428A-9BCD-B8C77639CCB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00000" y="5334120"/>
            <a:ext cx="6696360" cy="914400"/>
          </a:xfrm>
          <a:prstGeom prst="rect">
            <a:avLst/>
          </a:prstGeom>
          <a:solidFill>
            <a:srgbClr val="c9cfc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8cf4ea"/>
                </a:solidFill>
                <a:latin typeface="Tahoma"/>
              </a:rPr>
              <a:t>Derivación de DP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828800" y="1295280"/>
            <a:ext cx="5638320" cy="1752480"/>
            <a:chOff x="1828800" y="1295280"/>
            <a:chExt cx="5638320" cy="1752480"/>
          </a:xfrm>
        </p:grpSpPr>
        <mc:AlternateContent>
          <mc:Choice xmlns:a14="http://schemas.microsoft.com/office/drawing/2010/main" Requires="a14">
            <p:sp>
              <p:nvSpPr>
                <p:cNvPr id="93" name=""/>
                <p:cNvSpPr txBox="1"/>
                <p:nvPr/>
              </p:nvSpPr>
              <p:spPr>
                <a:xfrm>
                  <a:off x="1828800" y="1475280"/>
                  <a:ext cx="5243040" cy="147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>
                            <m:limLow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lim>
                                <m:r>
                                  <m:t xml:space="preserve">δ</m:t>
                                </m:r>
                              </m:lim>
                            </m:limLow>
                          </m:e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limLow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x</m:t>
                                    </m:r>
                                  </m:e>
                                  <m:lim>
                                    <m:r>
                                      <m:t xml:space="preserve">x</m:t>
                                    </m:r>
                                  </m:lim>
                                </m:limLow>
                                <m:r>
                                  <m:t xml:space="preserve">U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,z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δ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mr>
                        <m:mr>
                          <m:e>
                            <m:r>
                              <m:t xml:space="preserve">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x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δ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I</m:t>
                            </m:r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  <p:sp>
          <p:nvSpPr>
            <p:cNvPr id="94" name=""/>
            <p:cNvSpPr/>
            <p:nvPr/>
          </p:nvSpPr>
          <p:spPr>
            <a:xfrm>
              <a:off x="1828800" y="3047760"/>
              <a:ext cx="5638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67120" y="1295280"/>
              <a:ext cx="0" cy="1752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934920" y="3424320"/>
                <a:ext cx="32767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δ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β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4179600" y="3505320"/>
            <a:ext cx="46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Utilidad indirecta &amp; condi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914400" y="4308480"/>
                <a:ext cx="45212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δ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853960" y="4495680"/>
            <a:ext cx="275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: precio exóge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206360" y="5486400"/>
                <a:ext cx="587556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(</m:t>
                    </m:r>
                    <m:r>
                      <m:t xml:space="preserve">δ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δ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1042920" y="6284880"/>
            <a:ext cx="73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ax valor para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z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ado U. Demanda compens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E2EC-BD40-45B7-A0D6-C652BC77790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8cf4ea"/>
                </a:solidFill>
                <a:latin typeface="Tahoma"/>
              </a:rPr>
              <a:t>Caso utilidad cuasi linea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714680" y="1590840"/>
                <a:ext cx="6019560" cy="465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  <m:r>
                              <m:t xml:space="preserve">≠</m:t>
                            </m:r>
                            <m:r>
                              <m:t xml:space="preserve">0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  <m:e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21C3-222A-46AD-BB98-32B7509ED92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cf4ea"/>
                </a:solidFill>
                <a:latin typeface="Times New Roman"/>
              </a:rPr>
              <a:t>DP: interpretación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Máximo valor dispuesto a pagar para alcanzar nivel de ut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Demanda compensada (Hicksiana) por localiz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ompensa diferenciales de atributos entre opciones para mantener ut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Localizaciones con precio igual a DP son indiferentes para el consumido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5FF6-9BAF-458C-A4F3-72B5284D3F3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 flipV="1">
            <a:off x="3348000" y="3789360"/>
            <a:ext cx="0" cy="17272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258560" y="3860640"/>
            <a:ext cx="20178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332000" y="4869000"/>
            <a:ext cx="20160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cf4ea"/>
                </a:solidFill>
                <a:latin typeface="Times New Roman"/>
              </a:rPr>
              <a:t>DP gráfica: función de la utilidad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112920" y="5462640"/>
                <a:ext cx="37944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7537320" y="5445000"/>
                <a:ext cx="4194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1332000" y="2565360"/>
            <a:ext cx="0" cy="2951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32000" y="5516640"/>
            <a:ext cx="669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616800">
            <a:off x="1835280" y="2492280"/>
            <a:ext cx="4897440" cy="2089080"/>
          </a:xfrm>
          <a:custGeom>
            <a:avLst/>
            <a:gdLst/>
            <a:ahLst/>
            <a:rect l="l" t="t" r="r" b="b"/>
            <a:pathLst>
              <a:path w="3130" h="1361">
                <a:moveTo>
                  <a:pt x="0" y="0"/>
                </a:moveTo>
                <a:cubicBezTo>
                  <a:pt x="42" y="95"/>
                  <a:pt x="84" y="190"/>
                  <a:pt x="182" y="318"/>
                </a:cubicBezTo>
                <a:cubicBezTo>
                  <a:pt x="280" y="446"/>
                  <a:pt x="424" y="650"/>
                  <a:pt x="590" y="771"/>
                </a:cubicBezTo>
                <a:cubicBezTo>
                  <a:pt x="756" y="892"/>
                  <a:pt x="953" y="967"/>
                  <a:pt x="1180" y="1043"/>
                </a:cubicBezTo>
                <a:cubicBezTo>
                  <a:pt x="1407" y="1119"/>
                  <a:pt x="1626" y="1172"/>
                  <a:pt x="1951" y="1225"/>
                </a:cubicBezTo>
                <a:cubicBezTo>
                  <a:pt x="2276" y="1278"/>
                  <a:pt x="2926" y="1338"/>
                  <a:pt x="3130" y="1361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19280" y="3213000"/>
            <a:ext cx="4968720" cy="2160720"/>
          </a:xfrm>
          <a:custGeom>
            <a:avLst/>
            <a:gdLst/>
            <a:ahLst/>
            <a:rect l="l" t="t" r="r" b="b"/>
            <a:pathLst>
              <a:path w="3130" h="1361">
                <a:moveTo>
                  <a:pt x="0" y="0"/>
                </a:moveTo>
                <a:cubicBezTo>
                  <a:pt x="42" y="95"/>
                  <a:pt x="84" y="190"/>
                  <a:pt x="182" y="318"/>
                </a:cubicBezTo>
                <a:cubicBezTo>
                  <a:pt x="280" y="446"/>
                  <a:pt x="424" y="650"/>
                  <a:pt x="590" y="771"/>
                </a:cubicBezTo>
                <a:cubicBezTo>
                  <a:pt x="756" y="892"/>
                  <a:pt x="953" y="967"/>
                  <a:pt x="1180" y="1043"/>
                </a:cubicBezTo>
                <a:cubicBezTo>
                  <a:pt x="1407" y="1119"/>
                  <a:pt x="1626" y="1172"/>
                  <a:pt x="1951" y="1225"/>
                </a:cubicBezTo>
                <a:cubicBezTo>
                  <a:pt x="2276" y="1278"/>
                  <a:pt x="2926" y="1338"/>
                  <a:pt x="3130" y="1361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2760" y="229716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D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49000" y="47721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41360" y="5084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57600" y="3952800"/>
            <a:ext cx="970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&gt;U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9560" y="3573360"/>
            <a:ext cx="109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DP(U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4640" y="4581360"/>
            <a:ext cx="109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DP(U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96120" y="5734080"/>
            <a:ext cx="586548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DP(U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)-DP(U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) variable con la localización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pero estrictamente positiva siemp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969240" y="5016600"/>
                <a:ext cx="1396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A073-7B69-4DB0-87E8-C3907115DC4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3T13:57:26Z</dcterms:created>
  <dc:creator/>
  <dc:description/>
  <dc:language>en-US</dc:language>
  <cp:lastModifiedBy>fmartine</cp:lastModifiedBy>
  <dcterms:modified xsi:type="dcterms:W3CDTF">2006-10-02T08:07:52Z</dcterms:modified>
  <cp:revision>102</cp:revision>
  <dc:subject/>
  <dc:title>General</dc:title>
</cp:coreProperties>
</file>