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54E-8C04-4B8C-A32F-E94CB51F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80C-7FCB-4825-B4A2-9F6A2433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57C0-852F-4B88-8593-C8CCE27B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276-D07A-4F21-A658-A489D8C2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21F-CCB8-4D0E-A467-F0CB4201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0E1-AB9D-42F4-9832-5258CA64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02D-2491-4DB3-952C-46C52BD6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9DB-B257-4ADE-BF07-BBB4E616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C3A-D03A-41A1-BCB0-ADAE914B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15A-BDFA-4428-A99F-C03D1D25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BA3-2537-46E9-B5C7-E6477007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5A1-57AE-4020-BD16-E4E5273B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6DC09C-CD08-41B1-B400-F0E8956423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pítulo 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48006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2B1-F6B8-4332-8927-E25F5AF03AA4}" type="slidenum">
              <a:t>1</a:t>
            </a:fld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l ingr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56120" y="5300640"/>
                <a:ext cx="336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 flipV="1">
            <a:off x="3348000" y="4200120"/>
            <a:ext cx="0" cy="1079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32000" y="41292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332000" y="463248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232884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528012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261612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97648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2760" y="2060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99760" y="441648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1760" y="484812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58040" y="3716280"/>
            <a:ext cx="76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lt;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9960" y="393228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5040" y="434484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6640" y="5661000"/>
            <a:ext cx="6171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constante para toda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764480" y="5229360"/>
                <a:ext cx="452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7BC-0E9E-4421-B04B-DAF374EEEE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La disposición a paga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amilia de curvas condicionales a un nivel de utilidad exógeno (se da en el equilibri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ingreso y precios son parámetr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 inversamente proporcional a la ut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tributos diferencian los valores de DP, incluyendo accesibilidad, en el espac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P a pagar varía en el espacio, compensando diferencias de atributos, manteniendo util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0AB-524B-48C4-A556-204659B2D8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7080" y="196056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Excedentes del Consumidor en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3F0-2F69-4AE9-9922-7AF14D8783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378936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31800" y="1773360"/>
                <a:ext cx="327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189680" y="188424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25600" y="2924280"/>
                <a:ext cx="2423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302000" y="292428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sto en otros bienes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15960" y="4019400"/>
                <a:ext cx="363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148360" y="3789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a pagar como función del gasto en otros bi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8640" y="5891040"/>
                <a:ext cx="5484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6840" y="505944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i se paga un precio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p,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gasto total 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632-59C8-4B0A-B68B-5B9EA16382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ahoma"/>
              </a:rPr>
              <a:t>La función de gast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332000" y="1773360"/>
                <a:ext cx="7488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296000" y="2637000"/>
            <a:ext cx="63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=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igual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al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l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en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g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ay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133880" y="3940200"/>
                <a:ext cx="4975200" cy="28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240560" y="4478400"/>
            <a:ext cx="21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N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e equilibr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B1F-1DA0-4D62-A14A-488469778E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3520" y="3129120"/>
                <a:ext cx="81738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825480" y="23670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838080" y="48150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9F5-89F5-4EA4-B5BA-D0E52A65A5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constant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11280" y="3357720"/>
                <a:ext cx="47260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38080" y="4734000"/>
                <a:ext cx="61819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7308720" y="5589720"/>
            <a:ext cx="1371600" cy="691920"/>
          </a:xfrm>
          <a:prstGeom prst="wedgeRectCallout">
            <a:avLst>
              <a:gd name="adj1" fmla="val -177893"/>
              <a:gd name="adj2" fmla="val -90597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351080" y="2421000"/>
                <a:ext cx="77929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FD6-EC8E-4CD0-9A26-E36FECDA75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411280" y="2924280"/>
                <a:ext cx="47260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85720" y="4734000"/>
                <a:ext cx="6723000" cy="18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47640" y="2133720"/>
                <a:ext cx="69138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5DB-4246-49C4-8BE2-E23BC0CBF9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, Utilidad cuasi-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070000" y="1870200"/>
                <a:ext cx="3969000" cy="19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187720" y="4827600"/>
                <a:ext cx="35193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1A2-61FA-4B9A-8E85-1D4AECAAD9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52600" y="2819520"/>
                <a:ext cx="81882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de cambio en DP por cambios causados en lo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1066680" y="5410080"/>
            <a:ext cx="6978600" cy="1703160"/>
          </a:xfrm>
          <a:prstGeom prst="rect">
            <a:avLst/>
          </a:prstGeom>
          <a:solidFill>
            <a:srgbClr val="c9c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Obs.: 1) condiciones exter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2D5-3D61-48B1-934E-CB9C507CAE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Modelo de Localización  en Corto Plaz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(oferta exógen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314-4DDB-4C49-9EDD-B052D375D7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DP evaluado a U cte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 son idénticos a cambios en r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C2A-E50F-4226-9BB2-2414EB2AC8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DETERMINÍ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319-120E-4489-8F1F-B24AC1DD00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84280" y="1600200"/>
                <a:ext cx="79372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20680" y="5373720"/>
            <a:ext cx="34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i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50A-03DB-448F-AF53-FD9587DE34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57360" y="3657600"/>
                <a:ext cx="8162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3992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8292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77344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14468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0D83-CDE2-4312-8336-20EBA2B30E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944720" y="1752480"/>
                <a:ext cx="5199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57A-86FC-4319-A436-C99EB8BC8A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Ú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707-563A-434B-B927-E00561BBA9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44467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245120" y="2209680"/>
                <a:ext cx="37764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038480"/>
            <a:ext cx="5135400" cy="1905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95640" y="4581360"/>
                <a:ext cx="4554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33B-FB5D-47C3-826B-B643BBAC1A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971640" y="1125360"/>
                <a:ext cx="31017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859280" y="1111320"/>
                <a:ext cx="3780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619280" y="3068640"/>
                <a:ext cx="57610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140360" y="4508640"/>
                <a:ext cx="439236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205C-6352-428B-833F-A16051C1EC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114560" y="2378160"/>
                <a:ext cx="6084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79640" y="3213000"/>
                <a:ext cx="49226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A65-031F-45CC-80D4-234B2E8F1E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MODELO DE EQUILIBRIO ESTOCÁSTICO EN LOCALIZACIÓN Y USO DEL SUEL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50F-E058-4063-BFD1-C9063A1C87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últiples consumidores: residentes y fi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atributo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variedad de opciones zona-e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rcado de Remates: 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álisis de equilibrium de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das en cambio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2502-B23D-47BE-9D12-734FA5D9F6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E47-AB74-4269-932B-D71D9F02B2B8}" type="slidenum">
              <a:t>30</a:t>
            </a:fld>
          </a:p>
        </p:txBody>
      </p:sp>
    </p:spTree>
  </p:cSld>
  <p:transition spd="med" advTm="16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B9B-A808-4F44-A54B-31FD51FAB9E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BDC-3216-4484-9A74-D669F09D934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CED-7B2A-4237-A82A-255864A44F1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030400" y="3654360"/>
                <a:ext cx="43704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AE4-516B-47A4-8393-745579991FC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722600" y="4167360"/>
                <a:ext cx="63547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A0D-DD0E-4ACE-8CD8-E5C02EB5C58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09680" y="5029200"/>
            <a:ext cx="574704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780000" y="2349360"/>
                <a:ext cx="33764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780000" y="3500280"/>
                <a:ext cx="33573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414520" y="5157720"/>
                <a:ext cx="532620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CEE-DE93-45F3-8064-C4C28BBF968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971640" y="1413000"/>
            <a:ext cx="7342200" cy="1778040"/>
            <a:chOff x="971640" y="1413000"/>
            <a:chExt cx="7342200" cy="1778040"/>
          </a:xfrm>
        </p:grpSpPr>
        <p:sp>
          <p:nvSpPr>
            <p:cNvPr id="313" name=""/>
            <p:cNvSpPr/>
            <p:nvPr/>
          </p:nvSpPr>
          <p:spPr>
            <a:xfrm>
              <a:off x="971640" y="1413000"/>
              <a:ext cx="7342200" cy="17780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1347840" y="1427040"/>
                  <a:ext cx="6404040" cy="16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i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h</m:t>
                                  </m:r>
                                </m:num>
                                <m:den>
                                  <m:r>
                                    <m:t xml:space="preserve">i</m:t>
                                  </m:r>
                                </m:den>
                              </m:f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h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sSup>
                            <m:e>
                              <m:r>
                                <m:t xml:space="preserve">μ</m:t>
                              </m:r>
                            </m:e>
                            <m:sup>
                              <m:r>
                                <m:t xml:space="preserve">b</m:t>
                              </m:r>
                            </m:sup>
                          </m:sSup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  <m:sSup>
                                <m:e>
                                  <m:r>
                                    <m:t xml:space="preserve">μ</m:t>
                                  </m:r>
                                </m:e>
                                <m:sup>
                                  <m:r>
                                    <m:t xml:space="preserve">b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j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5" name=""/>
          <p:cNvSpPr/>
          <p:nvPr/>
        </p:nvSpPr>
        <p:spPr>
          <a:xfrm>
            <a:off x="1116000" y="3886200"/>
            <a:ext cx="5673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.. hay re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=1 ,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oferta se remat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.equilibrio oferta deman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8E9-BBD9-45AA-BFAC-94AEFAEBF844}" type="slidenum">
              <a:t>37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alibr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415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rrelación entre atributos z y rentas r afecta parámetros de modelo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s posturas calibradas son truncada en ambas ver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mbigüedad en la función calibrada por choice: es de postura o utilidad. No hay ambigüedad en versión bi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arámetro de accesibilidad mejor en versión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clusión: estimar sistema de ecuaciones (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h/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i/h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, 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96B-8939-4785-A244-AC062CDA596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7080" y="1916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EQUILIBRIO EN 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ESTOCÁ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A62-B822-4F98-B213-8F56ED6B516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LA DISPOSICIÓN </a:t>
            </a:r>
            <a:br>
              <a:rPr sz="4800"/>
            </a:b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A PAGAR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C3A-1A87-4CA2-9D8E-1B76413609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371600" y="236232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335240" y="2438280"/>
                <a:ext cx="63990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833400" y="6019920"/>
            <a:ext cx="628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nto fijo en localización dadas utilida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Externalidades</a:t>
            </a:r>
            <a:br>
              <a:rPr sz="4000"/>
            </a:b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 Equilibrio corto plaz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286000" y="4724280"/>
                <a:ext cx="41148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BFD-564F-487C-B2D0-548977B3F73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49fff"/>
                </a:solidFill>
                <a:latin typeface="Tahoma"/>
              </a:rPr>
              <a:t>Caso utilidad cuasi 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550880" y="1600200"/>
                <a:ext cx="59277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693800" y="4114800"/>
                <a:ext cx="568188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vi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 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A05-A562-4A94-B520-77C4488C317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34680" y="5907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2720" y="121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95880" y="24019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=L(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19560" y="1407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=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28120" y="1922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Probabilidad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72428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267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2590920"/>
            <a:ext cx="4952880" cy="2895480"/>
          </a:xfrm>
          <a:custGeom>
            <a:avLst/>
            <a:gdLst/>
            <a:ahLst/>
            <a:rect l="l" t="t" r="r" b="b"/>
            <a:pathLst>
              <a:path w="3504" h="2256">
                <a:moveTo>
                  <a:pt x="0" y="2256"/>
                </a:moveTo>
                <a:cubicBezTo>
                  <a:pt x="764" y="2084"/>
                  <a:pt x="1528" y="1912"/>
                  <a:pt x="1920" y="1584"/>
                </a:cubicBezTo>
                <a:cubicBezTo>
                  <a:pt x="2312" y="1256"/>
                  <a:pt x="2088" y="552"/>
                  <a:pt x="2352" y="288"/>
                </a:cubicBezTo>
                <a:cubicBezTo>
                  <a:pt x="2616" y="24"/>
                  <a:pt x="3312" y="48"/>
                  <a:pt x="350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2590920"/>
            <a:ext cx="228600" cy="152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76920" y="3657600"/>
            <a:ext cx="152280" cy="1522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655-9C4A-4527-B42F-A793B4CA27C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23880" y="34092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Equilibrio en Localización</a:t>
            </a:r>
            <a:br>
              <a:rPr sz="4000"/>
            </a:b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“Todo agente se localiza”</a:t>
            </a: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076480" y="4183200"/>
                <a:ext cx="57531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978920" y="6156360"/>
            <a:ext cx="4187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utilidad: 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=f(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2133720" y="2070000"/>
                <a:ext cx="5333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370-69ED-4674-8B6F-03BCAD23165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42600" y="59072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00640" y="12193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7160" y="243828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=logsuma(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3240" y="140796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=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31000" y="19224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Logs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94360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18112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44953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6520" y="2743200"/>
            <a:ext cx="4876560" cy="2514600"/>
          </a:xfrm>
          <a:custGeom>
            <a:avLst/>
            <a:gdLst/>
            <a:ahLst/>
            <a:rect l="l" t="t" r="r" b="b"/>
            <a:pathLst>
              <a:path w="3072" h="1584">
                <a:moveTo>
                  <a:pt x="0" y="1584"/>
                </a:moveTo>
                <a:cubicBezTo>
                  <a:pt x="336" y="1584"/>
                  <a:pt x="672" y="1584"/>
                  <a:pt x="960" y="1536"/>
                </a:cubicBezTo>
                <a:cubicBezTo>
                  <a:pt x="1248" y="1488"/>
                  <a:pt x="1472" y="1448"/>
                  <a:pt x="1728" y="1296"/>
                </a:cubicBezTo>
                <a:cubicBezTo>
                  <a:pt x="1984" y="1144"/>
                  <a:pt x="2272" y="840"/>
                  <a:pt x="2496" y="624"/>
                </a:cubicBezTo>
                <a:cubicBezTo>
                  <a:pt x="2720" y="408"/>
                  <a:pt x="2968" y="112"/>
                  <a:pt x="3072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5C9-CA45-4B65-82B9-A73425D6B4F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33000" y="3413160"/>
            <a:ext cx="307764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P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564080" y="2590920"/>
            <a:ext cx="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64080" y="4343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5715000"/>
            <a:ext cx="1676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7238880" y="2057400"/>
            <a:ext cx="0" cy="3657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228600"/>
            <a:ext cx="7086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1676520"/>
            <a:ext cx="297180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5105520"/>
            <a:ext cx="1981440" cy="1218960"/>
          </a:xfrm>
          <a:prstGeom prst="diamond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98800" y="54853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ve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D7B-CF5F-4D4D-9DAC-A5917A28122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Beneficios de Uso del suelo: caso estocást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8128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302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52320" y="2252520"/>
                <a:ext cx="7304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34D-1B86-42E6-9A9A-A809BCD4CCF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98F-5840-47B8-9DAD-EEA189DC5EE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52480" y="1828800"/>
            <a:ext cx="5555880" cy="1887120"/>
            <a:chOff x="1752480" y="1828800"/>
            <a:chExt cx="5555880" cy="188712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1752480" y="2022840"/>
                  <a:ext cx="5166360" cy="158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1752480" y="3715920"/>
              <a:ext cx="5555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08360" y="1828800"/>
              <a:ext cx="0" cy="188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258920" y="3989880"/>
            <a:ext cx="75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texto: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bien es la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ume un solo bien inmue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Bienes discretos y diferenciable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spacio dis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xtensiones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ngreso end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tilidad de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40720" y="3716280"/>
            <a:ext cx="1403280" cy="609480"/>
          </a:xfrm>
          <a:prstGeom prst="borderCallout1">
            <a:avLst>
              <a:gd name="adj1" fmla="val 18750"/>
              <a:gd name="adj2" fmla="val -8333"/>
              <a:gd name="adj3" fmla="val -56250"/>
              <a:gd name="adj4" fmla="val -1675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n b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3F1-AE32-4DE5-8D7C-52088A163F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5334120"/>
            <a:ext cx="669636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Derivación de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28800" y="1295280"/>
            <a:ext cx="5638320" cy="1752480"/>
            <a:chOff x="1828800" y="1295280"/>
            <a:chExt cx="5638320" cy="175248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28800" y="1475280"/>
                  <a:ext cx="5243040" cy="14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1828800" y="3047760"/>
              <a:ext cx="5638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67120" y="1295280"/>
              <a:ext cx="0" cy="17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34920" y="3424320"/>
                <a:ext cx="3276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179600" y="350532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14400" y="4308480"/>
                <a:ext cx="4521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53960" y="449568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: precio exóg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06360" y="5486400"/>
                <a:ext cx="58755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042920" y="628488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o U. Demanda compen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7F78-C9E1-4B4A-9023-8FFA285E25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Caso utilidad cuasi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714680" y="1590840"/>
                <a:ext cx="6019560" cy="46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5370-18AE-4227-A69A-A24EC4FF5C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: 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áximo valor dispuesto a pagar para alcanzar nivel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manda compensada (Hicksiana) por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ensa diferenciales de atributos entre opciones para mantener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calizaciones con precio igual a DP son indiferentes para el consumid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5EC-C1A0-47D1-812A-715DE9ED39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flipV="1">
            <a:off x="3348000" y="378936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258560" y="3860640"/>
            <a:ext cx="2017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332000" y="48690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 la ut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112920" y="5462640"/>
                <a:ext cx="379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537320" y="5445000"/>
                <a:ext cx="419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332000" y="256536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551664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616800">
            <a:off x="1835280" y="2492280"/>
            <a:ext cx="4897440" cy="208908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321300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2760" y="2297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9000" y="4772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41360" y="5084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57600" y="3952800"/>
            <a:ext cx="97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560" y="3573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4640" y="4581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6120" y="5734080"/>
            <a:ext cx="58654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variable con la localizació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ero estrictamente positiva siemp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969240" y="5016600"/>
                <a:ext cx="1396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9CE-B0B3-4860-BBEF-A757335601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martine</cp:lastModifiedBy>
  <dcterms:modified xsi:type="dcterms:W3CDTF">2006-10-02T08:07:52Z</dcterms:modified>
  <cp:revision>102</cp:revision>
  <dc:subject/>
  <dc:title>General</dc:title>
</cp:coreProperties>
</file>