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0C3-BA0C-432E-A841-7BA72D85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127-BF14-4F14-BC15-22171CD3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A9D4-6E71-483D-9E9F-9916D5E2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D64-6D33-40DC-963F-F7EA62FF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BF83-50AC-4E0C-858D-8543F415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FB4B-B597-4801-9F41-5218AC12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975-A3E4-423B-BEFF-F34902CB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B434-2151-4B88-92D0-FD17DD0A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B00B-AEAE-4185-9F83-43DD2948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ED6-38EB-4DD1-918C-5147F242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47F-E2A3-4623-8618-D76D0E05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ADD-0690-432C-B6C9-81FF3676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A62326-2291-44AB-9253-73614821A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pítulo 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14400" y="48006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D59-E0A1-4BFB-B665-7F4D33A62402}" type="slidenum">
              <a:t>1</a:t>
            </a:fld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 gráfica: función del ingr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56120" y="5300640"/>
                <a:ext cx="336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 flipV="1">
            <a:off x="3348000" y="4200120"/>
            <a:ext cx="0" cy="1079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32000" y="412920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332000" y="463248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2328840"/>
            <a:ext cx="0" cy="29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5280120"/>
            <a:ext cx="669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261612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97648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2760" y="2060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99760" y="441648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1760" y="484812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58040" y="3716280"/>
            <a:ext cx="76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&lt;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9960" y="393228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5040" y="434484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6640" y="5661000"/>
            <a:ext cx="6171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-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 constante para toda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764480" y="5229360"/>
                <a:ext cx="452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AE9C-4BFE-4010-8044-26BFA72B93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La disposición a pagar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amilia de curvas condicionales a un nivel de utilidad exógeno (se da en el equilibri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l ingreso y precios son parámetr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 inversamente proporcional a la ut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tributos diferencian los valores de DP, incluyendo accesibilidad, en el espac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P a pagar varía en el espacio, compensando diferencias de atributos, manteniendo util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4A1-1F95-48ED-80B6-1637D65AFC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7080" y="196056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Excedentes del Consumidor en Localización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0CCE-3AE8-4C41-A831-6F41888C32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378936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31800" y="1773360"/>
                <a:ext cx="3276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189680" y="188424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25600" y="2924280"/>
                <a:ext cx="2423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302000" y="2924280"/>
            <a:ext cx="33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sto en otros bienes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15960" y="4019400"/>
                <a:ext cx="3635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148360" y="378936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a pagar como función del gasto en otros bi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58640" y="5891040"/>
                <a:ext cx="5484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6016320" y="5867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unción de 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6840" y="505944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i se paga un precio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p,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gasto total 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41A-B1CD-407F-879B-720A217569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ahoma"/>
              </a:rPr>
              <a:t>La función de gast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332000" y="1773360"/>
                <a:ext cx="74880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296000" y="2637000"/>
            <a:ext cx="63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=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igual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al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&lt;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menor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que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&gt;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mayor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que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133880" y="3940200"/>
                <a:ext cx="4975200" cy="28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240560" y="4478400"/>
            <a:ext cx="21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N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de equilibri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9CF2-B657-41F8-B914-166334DE26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3520" y="3129120"/>
                <a:ext cx="81738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825480" y="23670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á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838080" y="4815000"/>
                <a:ext cx="7480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5A4-CE2E-4C31-B106-7C8DA0395B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constante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411280" y="3357720"/>
                <a:ext cx="47260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38080" y="4734000"/>
                <a:ext cx="61819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7308720" y="5589720"/>
            <a:ext cx="1371600" cy="691920"/>
          </a:xfrm>
          <a:prstGeom prst="wedgeRectCallout">
            <a:avLst>
              <a:gd name="adj1" fmla="val -177893"/>
              <a:gd name="adj2" fmla="val -90597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351080" y="2421000"/>
                <a:ext cx="77929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243-2C71-4411-A4D8-B407B6C01D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variable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411280" y="2924280"/>
                <a:ext cx="47260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85720" y="4734000"/>
                <a:ext cx="6723000" cy="18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7451640" y="5516640"/>
            <a:ext cx="1371600" cy="691920"/>
          </a:xfrm>
          <a:prstGeom prst="wedgeRectCallout">
            <a:avLst>
              <a:gd name="adj1" fmla="val -154166"/>
              <a:gd name="adj2" fmla="val -89449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47640" y="2133720"/>
                <a:ext cx="69138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489-9C80-49BA-8B0A-C1A8EEDD15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variable, Utilidad cuasi-lineal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070000" y="1870200"/>
                <a:ext cx="3969000" cy="19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187720" y="4827600"/>
                <a:ext cx="351936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7451640" y="5516640"/>
            <a:ext cx="1371600" cy="691920"/>
          </a:xfrm>
          <a:prstGeom prst="wedgeRectCallout">
            <a:avLst>
              <a:gd name="adj1" fmla="val -154166"/>
              <a:gd name="adj2" fmla="val -89449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30A-301A-41E5-AA0F-6245101E20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de beneficio total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52600" y="2819520"/>
                <a:ext cx="81882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810720" y="1981080"/>
            <a:ext cx="77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neficio Total = Excedente Consumidor + Pro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4343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ide cambio en DP por cambios causados en lo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fiere de variación de pre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665680" y="5637240"/>
                <a:ext cx="12398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1066680" y="5410080"/>
            <a:ext cx="6978600" cy="1703160"/>
          </a:xfrm>
          <a:prstGeom prst="rect">
            <a:avLst/>
          </a:prstGeom>
          <a:solidFill>
            <a:srgbClr val="c9c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Obs.: 1) condiciones exter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2) externalidades: interacción entre ag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9360" y="152388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una localiz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A2DA-5E95-4CEF-AEF3-7AC4DFE914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cf4ea"/>
                </a:solidFill>
                <a:latin typeface="Times New Roman"/>
              </a:rPr>
              <a:t>Módulo 4</a:t>
            </a:r>
            <a:r>
              <a:rPr b="1" lang="en-US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Modelo de Localización  en Corto Plaz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(oferta exógen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ED2C-1EC9-4E49-A4E5-6CD270C70F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Algunas conclus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beneficios totales 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DP evaluado a U cte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U más cambio en rentas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valor de ambiente construido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NO son idénticos a cambios en r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965C-8D4F-47BD-89DA-42438ADDC2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LOCALIZACIÓN Y USO DEL SUELO</a:t>
            </a:r>
            <a:br>
              <a:rPr sz="4400"/>
            </a:br>
            <a:r>
              <a:rPr b="1" lang="es-MX" sz="3600" spc="-1" strike="noStrike">
                <a:solidFill>
                  <a:srgbClr val="8cf4ea"/>
                </a:solidFill>
                <a:latin typeface="Times New Roman"/>
              </a:rPr>
              <a:t>(MODELO DETERMINÍSTIC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AD0B-A6E9-40A1-A17E-66A4F0E3B0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1295280"/>
            <a:ext cx="8305920" cy="12956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152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7a5"/>
                </a:solidFill>
                <a:latin typeface="Times New Roman"/>
              </a:rPr>
              <a:t>TEORIA DEL COMPORT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3200400"/>
            <a:ext cx="236196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 externalidades de localización (endógenas a U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Nivel de ingres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egurid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tn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glomeració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84280" y="1600200"/>
                <a:ext cx="79372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2514600" y="3200400"/>
            <a:ext cx="236232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l sistema de transporte para acceder a actividades (end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3200400"/>
            <a:ext cx="236232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geográficas (ex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1680" y="3200400"/>
            <a:ext cx="205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arámetros de gus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447920" y="2362320"/>
            <a:ext cx="7617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657600" y="30477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581280" y="23619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657600" y="2438280"/>
            <a:ext cx="16765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95880" y="236232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772400" y="2437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20680" y="5373720"/>
            <a:ext cx="34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h: categoría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i: zona de localizació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494-BBE1-45C7-A0AE-091D0BFE17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3429000"/>
            <a:ext cx="8534520" cy="13716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7a5"/>
                </a:solidFill>
                <a:latin typeface="Times New Roman"/>
              </a:rPr>
              <a:t>LA DISPOSICION A PA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0666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existe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i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existe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175248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el monto que un hogar o firma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está dispuesto a pagar por  una localización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de manera de obtener un nivel de satisfacció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57360" y="3657600"/>
                <a:ext cx="8162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228600" y="5562720"/>
            <a:ext cx="54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vector de valoración de cada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3992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8292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773440" y="44956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144680" y="449568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F96C-4E21-43B0-B76E-F08EB46E4B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600200" y="1523880"/>
            <a:ext cx="6172200" cy="1219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EQUIVALE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944720" y="1752480"/>
                <a:ext cx="5199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83808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pción:  Trabajar con utilidades o co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2819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ecio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257800" y="2361960"/>
            <a:ext cx="380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6705360" y="23623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829120" y="2247840"/>
            <a:ext cx="380880" cy="2895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3962520"/>
            <a:ext cx="35053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dente del 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ARIACIÓN COMPENSA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429000"/>
            <a:ext cx="1143000" cy="609480"/>
          </a:xfrm>
          <a:prstGeom prst="wedgeRectCallout">
            <a:avLst>
              <a:gd name="adj1" fmla="val 80416"/>
              <a:gd name="adj2" fmla="val -198175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52640" y="3468600"/>
            <a:ext cx="10281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4F2-70E7-4F8B-BA0F-C9AE0846109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4114800"/>
            <a:ext cx="624816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localización es asignada 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800" spc="-1" strike="noStrike">
                <a:solidFill>
                  <a:srgbClr val="ff6633"/>
                </a:solidFill>
                <a:latin typeface="Times New Roman"/>
              </a:rPr>
              <a:t>mejor posto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ienes Ú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819520"/>
            <a:ext cx="739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elo Urbano es un bien “</a:t>
            </a: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cuasi-ún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s posible producir localizaciones de iguale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520-678F-48AE-874D-1954960D30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733920" y="1981080"/>
            <a:ext cx="5105160" cy="1067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057400"/>
            <a:ext cx="32004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4446720"/>
            <a:ext cx="26668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pos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245120" y="2209680"/>
                <a:ext cx="37764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4038480"/>
            <a:ext cx="5135400" cy="1905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995640" y="4581360"/>
                <a:ext cx="45547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/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789-B67B-4BC2-99F7-F9F462CF34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886200" y="4419720"/>
            <a:ext cx="48006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66680" y="2895480"/>
            <a:ext cx="68580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838080"/>
            <a:ext cx="8001000" cy="9907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ostor e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457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4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5120" y="21337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Equilibrio </a:t>
            </a:r>
            <a:r>
              <a:rPr b="1" i="1" lang="es-ES" sz="2400" spc="-1" strike="noStrike">
                <a:solidFill>
                  <a:srgbClr val="ff6633"/>
                </a:solidFill>
                <a:latin typeface="Times New Roman"/>
              </a:rPr>
              <a:t>BID-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hace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oferta qu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971640" y="1125360"/>
                <a:ext cx="31017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859280" y="1111320"/>
                <a:ext cx="3780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619280" y="3068640"/>
                <a:ext cx="57610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140360" y="4508640"/>
                <a:ext cx="439236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CDC-4EAF-43FA-8EC4-E6233BB2BE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62120" y="6858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CLUSION:  Modelo Bid-Ch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(oferta da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2133720"/>
            <a:ext cx="75438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114560" y="2378160"/>
                <a:ext cx="6084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  <m:r>
                          <m:t xml:space="preserve">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979640" y="3213000"/>
                <a:ext cx="49226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914400" y="4419720"/>
            <a:ext cx="74674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se observa un agente localizado, entonc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a localización maximiza su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renta representa su máxima disposición a pag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dada una ofert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41160" y="617220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Arial"/>
              </a:rPr>
              <a:t>BID ES CONDICIÓN SU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E841-185E-402F-987E-B448A49067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MODELO DE EQUILIBRIO ESTOCÁSTICO EN LOCALIZACIÓN Y USO DEL SUEL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D04-0A39-473E-A6EA-721817FA8C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Contexto Econó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mercado del suelo urb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últiples consumidores: residentes y fir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últiples atributo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xternalidade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na variedad de opciones zona-e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rcado de Remates: competencia imperfe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álisis de equilibrium de 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das en cambio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gul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s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043-7982-44CD-88B0-103F25F17D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cf4ea"/>
                </a:solidFill>
                <a:latin typeface="Times New Roman"/>
              </a:rPr>
              <a:t>¡Bien...per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cf4ea"/>
                </a:solidFill>
                <a:latin typeface="Times New Roman"/>
              </a:rPr>
              <a:t>¿ Cómo puedo saber exactamente el comporta-mient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3BCC-AB89-4BD5-9DB5-87774CDBBBCE}" type="slidenum">
              <a:t>30</a:t>
            </a:fld>
          </a:p>
        </p:txBody>
      </p:sp>
    </p:spTree>
  </p:cSld>
  <p:transition spd="med" advTm="16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2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nfoque de elección discret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19160" y="2265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0800" y="5054760"/>
            <a:ext cx="4756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,i1         v2,i2         vk,ik                          v,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91920" y="47498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4680" y="2158920"/>
            <a:ext cx="1571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52880" y="5724360"/>
            <a:ext cx="5701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imización utilidad de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4360" y="1828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C1F5-8757-40A5-8BD0-694520580EF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523880" y="3962520"/>
            <a:ext cx="5181840" cy="1600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Choice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- 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upuesto: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, precio p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ex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/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j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j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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828800" y="4038480"/>
                <a:ext cx="41911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- 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900000" y="5883120"/>
            <a:ext cx="6502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pred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49BE-12E5-4E20-BEAE-DC711E98098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nfoque remate 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(selección discreta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18440" y="2265480"/>
            <a:ext cx="4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,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20800" y="5054760"/>
            <a:ext cx="459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1                 h2           h3                         h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82440" y="22352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ente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60800" y="4902120"/>
            <a:ext cx="2152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idor/po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52520" y="5724360"/>
            <a:ext cx="625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imización utilidad del dueñ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83440" y="19051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E20-859A-4204-B17A-C26DC16FC2C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371600" y="365760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/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g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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030400" y="3654360"/>
                <a:ext cx="437040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833400" y="6019920"/>
            <a:ext cx="743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consumi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5720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B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1CDC-804C-4BBD-BA83-222655D5A36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66680" y="3809880"/>
            <a:ext cx="7696440" cy="2210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f4ea"/>
                </a:solidFill>
                <a:latin typeface="Times New Roman"/>
              </a:rPr>
              <a:t>Renta endóge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nta es valor esperado máxima pos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áx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IIDG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722600" y="4167360"/>
                <a:ext cx="635472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9BE5-4E56-4501-8847-621584C5710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209680" y="5029200"/>
            <a:ext cx="5747040" cy="160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52680" y="1066680"/>
            <a:ext cx="5029200" cy="3505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Resumen: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3909960" y="1219320"/>
                <a:ext cx="3535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780000" y="2349360"/>
                <a:ext cx="337644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780000" y="3500280"/>
                <a:ext cx="33573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45200" y="1403280"/>
            <a:ext cx="120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1) Ch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2600" y="2546280"/>
            <a:ext cx="83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2) B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21160" y="3689280"/>
            <a:ext cx="111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)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414520" y="5157720"/>
                <a:ext cx="532620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i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 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68A3-9F02-4F8F-9C31-005BAC7CE50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80800" y="30492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Equivalencia modelos estocástic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971640" y="1413000"/>
            <a:ext cx="7342200" cy="1778040"/>
            <a:chOff x="971640" y="1413000"/>
            <a:chExt cx="7342200" cy="1778040"/>
          </a:xfrm>
        </p:grpSpPr>
        <p:sp>
          <p:nvSpPr>
            <p:cNvPr id="313" name=""/>
            <p:cNvSpPr/>
            <p:nvPr/>
          </p:nvSpPr>
          <p:spPr>
            <a:xfrm>
              <a:off x="971640" y="1413000"/>
              <a:ext cx="7342200" cy="17780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1347840" y="1427040"/>
                  <a:ext cx="6404040" cy="16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i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h</m:t>
                                  </m:r>
                                </m:num>
                                <m:den>
                                  <m:r>
                                    <m:t xml:space="preserve">i</m:t>
                                  </m:r>
                                </m:den>
                              </m:f>
                            </m:sub>
                          </m:sSub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r>
                                <m:t xml:space="preserve">Ω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h</m:t>
                                      </m:r>
                                    </m:num>
                                    <m:den>
                                      <m:r>
                                        <m:t xml:space="preserve">j</m:t>
                                      </m:r>
                                    </m:den>
                                  </m:f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sSup>
                            <m:e>
                              <m:r>
                                <m:t xml:space="preserve">μ</m:t>
                              </m:r>
                            </m:e>
                            <m:sup>
                              <m:r>
                                <m:t xml:space="preserve">b</m:t>
                              </m:r>
                            </m:sup>
                          </m:sSup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h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r>
                                <m:t xml:space="preserve">Ω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exp</m:t>
                              </m:r>
                              <m:sSup>
                                <m:e>
                                  <m:r>
                                    <m:t xml:space="preserve">μ</m:t>
                                  </m:r>
                                </m:e>
                                <m:sup>
                                  <m:r>
                                    <m:t xml:space="preserve">b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hj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5" name=""/>
          <p:cNvSpPr/>
          <p:nvPr/>
        </p:nvSpPr>
        <p:spPr>
          <a:xfrm>
            <a:off x="1116000" y="3886200"/>
            <a:ext cx="5673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valencia ocurre s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factores de escala son idéntic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cios endógenos.. hay rem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es-E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=1 ,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oferta se remat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.equilibrio oferta deman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51080" y="6095880"/>
            <a:ext cx="47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33"/>
                </a:solidFill>
                <a:latin typeface="Arial"/>
              </a:rPr>
              <a:t>BID es aplicable siemp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2CC-E06C-4547-A5F8-2AA07249B63D}" type="slidenum">
              <a:t>37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alibr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415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rrelación entre atributos z y rentas r afecta parámetros de modelo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s posturas calibradas son truncada en ambas ver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mbigüedad en la función calibrada por choice: es de postura o utilidad. No hay ambigüedad en versión bi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arámetro de accesibilidad mejor en versión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clusión: estimar sistema de ecuaciones (P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h/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i/h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, 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FB7-9341-4ED0-BF3E-34FE2199A1D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7080" y="1916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EQUILIBRIO EN LOCALIZACIÓN Y USO DEL SUELO</a:t>
            </a:r>
            <a:br>
              <a:rPr sz="4400"/>
            </a:br>
            <a:r>
              <a:rPr b="1" lang="es-MX" sz="3600" spc="-1" strike="noStrike">
                <a:solidFill>
                  <a:srgbClr val="8cf4ea"/>
                </a:solidFill>
                <a:latin typeface="Times New Roman"/>
              </a:rPr>
              <a:t>(MODELO ESTOCÁSTIC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0FC-5F44-4E25-9E0D-69026952DE2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LA DISPOSICIÓN </a:t>
            </a:r>
            <a:br>
              <a:rPr sz="4800"/>
            </a:b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A PAGAR LOCALIZACIÓN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6CC-3582-481C-B51B-10B999D244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371600" y="236232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1335240" y="2438280"/>
                <a:ext cx="63990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833400" y="6019920"/>
            <a:ext cx="628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nto fijo en localización dadas utilidad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8cf4ea"/>
                </a:solidFill>
                <a:latin typeface="Times New Roman"/>
              </a:rPr>
              <a:t>Externalidades</a:t>
            </a:r>
            <a:br>
              <a:rPr sz="4000"/>
            </a:br>
            <a:r>
              <a:rPr b="1" lang="es-CL" sz="4000" spc="-1" strike="noStrike">
                <a:solidFill>
                  <a:srgbClr val="8cf4ea"/>
                </a:solidFill>
                <a:latin typeface="Times New Roman"/>
              </a:rPr>
              <a:t> Equilibrio corto plaz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286000" y="4724280"/>
                <a:ext cx="41148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8BEC-DD35-4324-91E7-5EC1F4062E2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49fff"/>
                </a:solidFill>
                <a:latin typeface="Tahoma"/>
              </a:rPr>
              <a:t>Caso utilidad cuasi lineal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550880" y="1600200"/>
                <a:ext cx="59277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693800" y="4114800"/>
                <a:ext cx="568188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vi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 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4DF-59C1-4803-85D1-F5A20C35071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34680" y="5907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2720" y="121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95880" y="24019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=L(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19560" y="1407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=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28120" y="19224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Probabilidad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72428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267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2590920"/>
            <a:ext cx="4952880" cy="2895480"/>
          </a:xfrm>
          <a:custGeom>
            <a:avLst/>
            <a:gdLst/>
            <a:ahLst/>
            <a:rect l="l" t="t" r="r" b="b"/>
            <a:pathLst>
              <a:path w="3504" h="2256">
                <a:moveTo>
                  <a:pt x="0" y="2256"/>
                </a:moveTo>
                <a:cubicBezTo>
                  <a:pt x="764" y="2084"/>
                  <a:pt x="1528" y="1912"/>
                  <a:pt x="1920" y="1584"/>
                </a:cubicBezTo>
                <a:cubicBezTo>
                  <a:pt x="2312" y="1256"/>
                  <a:pt x="2088" y="552"/>
                  <a:pt x="2352" y="288"/>
                </a:cubicBezTo>
                <a:cubicBezTo>
                  <a:pt x="2616" y="24"/>
                  <a:pt x="3312" y="48"/>
                  <a:pt x="3504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15000" y="2590920"/>
            <a:ext cx="228600" cy="1522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76920" y="3657600"/>
            <a:ext cx="152280" cy="1522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C1F1-829D-4762-B00E-E758E105546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23880" y="340920"/>
            <a:ext cx="7034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Equilibrio en Localización</a:t>
            </a:r>
            <a:br>
              <a:rPr sz="4000"/>
            </a:b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“Todo agente se localiza”</a:t>
            </a: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076480" y="4183200"/>
                <a:ext cx="575316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978920" y="6156360"/>
            <a:ext cx="41871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unto fijo de utilidad: 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=f(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2133720" y="2070000"/>
                <a:ext cx="5333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Î</m:t>
                        </m:r>
                        <m:r>
                          <m:t xml:space="preserve">Ω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C5E-F2B1-470D-9F76-C96DA36B767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42600" y="59072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00640" y="121932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07160" y="243828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=logsuma(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3240" y="1407960"/>
            <a:ext cx="8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=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31000" y="19224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Logs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94360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18112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8148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4953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6520" y="2743200"/>
            <a:ext cx="4876560" cy="2514600"/>
          </a:xfrm>
          <a:custGeom>
            <a:avLst/>
            <a:gdLst/>
            <a:ahLst/>
            <a:rect l="l" t="t" r="r" b="b"/>
            <a:pathLst>
              <a:path w="3072" h="1584">
                <a:moveTo>
                  <a:pt x="0" y="1584"/>
                </a:moveTo>
                <a:cubicBezTo>
                  <a:pt x="336" y="1584"/>
                  <a:pt x="672" y="1584"/>
                  <a:pt x="960" y="1536"/>
                </a:cubicBezTo>
                <a:cubicBezTo>
                  <a:pt x="1248" y="1488"/>
                  <a:pt x="1472" y="1448"/>
                  <a:pt x="1728" y="1296"/>
                </a:cubicBezTo>
                <a:cubicBezTo>
                  <a:pt x="1984" y="1144"/>
                  <a:pt x="2272" y="840"/>
                  <a:pt x="2496" y="624"/>
                </a:cubicBezTo>
                <a:cubicBezTo>
                  <a:pt x="2720" y="408"/>
                  <a:pt x="2968" y="112"/>
                  <a:pt x="3072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403-FAC7-426F-A275-DEE9F548C0D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33000" y="3413160"/>
            <a:ext cx="307764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P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564080" y="2590920"/>
            <a:ext cx="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64080" y="4343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5715000"/>
            <a:ext cx="1676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7238880" y="2057400"/>
            <a:ext cx="0" cy="3657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205740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7920" y="228600"/>
            <a:ext cx="7086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Algoritmo solución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1676520"/>
            <a:ext cx="297180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5105520"/>
            <a:ext cx="1981440" cy="1218960"/>
          </a:xfrm>
          <a:prstGeom prst="diamond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98800" y="54853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ve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794F-BB8D-4857-9975-7EBA665D55D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Beneficios de Uso del suelo: caso estocást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874880" y="3498840"/>
                <a:ext cx="60498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H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3429000" y="5257800"/>
            <a:ext cx="2286000" cy="990720"/>
          </a:xfrm>
          <a:prstGeom prst="wedgeRectCallout">
            <a:avLst>
              <a:gd name="adj1" fmla="val 1527"/>
              <a:gd name="adj2" fmla="val -123398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81280" y="5334120"/>
            <a:ext cx="24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Consum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43600" y="5181480"/>
            <a:ext cx="2133720" cy="1067040"/>
          </a:xfrm>
          <a:prstGeom prst="wedgeRectCallout">
            <a:avLst>
              <a:gd name="adj1" fmla="val -22546"/>
              <a:gd name="adj2" fmla="val -111162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0720" y="5334120"/>
            <a:ext cx="1937880" cy="825480"/>
          </a:xfrm>
          <a:prstGeom prst="rect">
            <a:avLst/>
          </a:prstGeom>
          <a:solidFill>
            <a:srgbClr val="302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Produc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52320" y="2252520"/>
                <a:ext cx="73044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U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F70-5A55-4648-A85E-E16581BDAFE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32320" y="1203480"/>
            <a:ext cx="1946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que falta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0663-9FFB-48E1-9215-23D906CCC7F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52480" y="1828800"/>
            <a:ext cx="5555880" cy="1887120"/>
            <a:chOff x="1752480" y="1828800"/>
            <a:chExt cx="5555880" cy="1887120"/>
          </a:xfrm>
        </p:grpSpPr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1752480" y="2022840"/>
                  <a:ext cx="5166360" cy="158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1752480" y="3715920"/>
              <a:ext cx="5555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08360" y="1828800"/>
              <a:ext cx="0" cy="188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258920" y="3989880"/>
            <a:ext cx="75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texto: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bien es la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ume un solo bien inmue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Bienes discretos y diferenciable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spacio dis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xtensiones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ngreso end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tilidad de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40720" y="3716280"/>
            <a:ext cx="1403280" cy="609480"/>
          </a:xfrm>
          <a:prstGeom prst="borderCallout1">
            <a:avLst>
              <a:gd name="adj1" fmla="val 18750"/>
              <a:gd name="adj2" fmla="val -8333"/>
              <a:gd name="adj3" fmla="val -56250"/>
              <a:gd name="adj4" fmla="val -16753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n b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600E-8004-49DF-B5D9-6C780A0670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5334120"/>
            <a:ext cx="669636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Derivación de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28800" y="1295280"/>
            <a:ext cx="5638320" cy="1752480"/>
            <a:chOff x="1828800" y="1295280"/>
            <a:chExt cx="5638320" cy="175248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828800" y="1475280"/>
                  <a:ext cx="5243040" cy="14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1828800" y="3047760"/>
              <a:ext cx="5638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67120" y="1295280"/>
              <a:ext cx="0" cy="175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34920" y="3424320"/>
                <a:ext cx="3276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179600" y="350532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14400" y="4308480"/>
                <a:ext cx="4521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853960" y="449568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: precio exóg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06360" y="5486400"/>
                <a:ext cx="58755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042920" y="628488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ado U. Demanda compens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C44D-38ED-4A25-A99C-D5502EB852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Caso utilidad cuasi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714680" y="1590840"/>
                <a:ext cx="6019560" cy="46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21B2-4829-4648-9DC8-1417855217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: interpret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áximo valor dispuesto a pagar para alcanzar nivel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manda compensada (Hicksiana) por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mpensa diferenciales de atributos entre opciones para mantener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ocalizaciones con precio igual a DP son indiferentes para el consumid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A8F-6D6A-493D-A466-142140FCEA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flipV="1">
            <a:off x="3348000" y="3789360"/>
            <a:ext cx="0" cy="1727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258560" y="3860640"/>
            <a:ext cx="2017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332000" y="486900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 gráfica: función de la ut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112920" y="5462640"/>
                <a:ext cx="3794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537320" y="5445000"/>
                <a:ext cx="419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332000" y="2565360"/>
            <a:ext cx="0" cy="29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5516640"/>
            <a:ext cx="669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616800">
            <a:off x="1835280" y="2492280"/>
            <a:ext cx="4897440" cy="208908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321300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2760" y="2297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49000" y="47721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41360" y="5084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57600" y="3952800"/>
            <a:ext cx="97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560" y="3573360"/>
            <a:ext cx="10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4640" y="4581360"/>
            <a:ext cx="10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6120" y="5734080"/>
            <a:ext cx="58654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-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 variable con la localizació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ero estrictamente positiva siemp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969240" y="5016600"/>
                <a:ext cx="1396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0E8-299B-4478-B6F2-1A30CE4C8A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martine</cp:lastModifiedBy>
  <dcterms:modified xsi:type="dcterms:W3CDTF">2006-10-02T08:07:52Z</dcterms:modified>
  <cp:revision>102</cp:revision>
  <dc:subject/>
  <dc:title>General</dc:title>
</cp:coreProperties>
</file>