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CB0-969D-44AE-A1F5-05FF6B80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C43-09BB-43D5-9204-12B0BD3C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537-9692-4230-968C-64511F2C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5D5-70B4-4A21-992E-E9877FCF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773-96C8-4580-BB5A-1B283933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7C7-A288-41C0-BCFB-B5DA1BA5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589-14D0-450D-9BB5-47E83528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975-F1D2-42E2-B6D1-751D0E90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C2B-AD82-484E-979B-DE152DE4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CF8-F0BB-4404-90D0-DA655D4C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22D-F29E-4304-AAA0-9D85277C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062-2059-40E3-AB69-AE64DC53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5C45-D5E1-480D-BF46-1084BAD22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600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752480"/>
            <a:ext cx="7467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UACION DE ADVECCION-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-DISPER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 - 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icialmente sólo para problemas de intrusión sa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álculos analíticos sin difusión, dispersión, adsorción ni reacciones ciné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 inicia en el área de la ingeniería quí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canza su auge con el estudio del movimiento de sustancias radioactivas en el agua subterrá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60 -&gt; Inicio de estudios teóricos y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70 -&gt; Aumento vertiginoso de estudi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udios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troducción de Elementos Fi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3:51:14Z</dcterms:created>
  <dc:creator>Carlos Espinoza</dc:creator>
  <dc:description/>
  <dc:language>en-US</dc:language>
  <cp:lastModifiedBy>cespinoza</cp:lastModifiedBy>
  <cp:lastPrinted>2003-06-10T12:46:13Z</cp:lastPrinted>
  <dcterms:modified xsi:type="dcterms:W3CDTF">2006-08-23T13:06:48Z</dcterms:modified>
  <cp:revision>103</cp:revision>
  <dc:subject/>
  <dc:title>Curso OIEA 2004</dc:title>
</cp:coreProperties>
</file>