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0E48-1100-4BEF-8070-B3209C431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C6B2-5956-4902-8D2F-67441AAC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B89F-2E7C-4559-A191-88BB04960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DCCF-7A62-43B2-9C5C-913224ECC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FB7F-8762-4D0F-8300-8CA8C05A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004D-8BDD-46A6-A68D-3F2560F2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BCE0-7D39-4AED-B852-179C53EB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9275-35A3-4CCF-9401-D2B881D1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1A90-A7E3-44AA-A066-9DA8D316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921B-F9A4-4A39-BEB0-74879434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39FF-5713-4867-9C3A-C048CE14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ACC6-4401-4CD0-B0BE-2912348D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100E-2694-4582-94C9-93F6DA240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8960" y="762120"/>
            <a:ext cx="7600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I61Q/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INCIPIOS DE REMEDIACION Y RESTAURACIO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TARE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85680" y="5562720"/>
            <a:ext cx="90504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1752480"/>
            <a:ext cx="74674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INTRO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CUACION DE ADVECCION-DISP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RANSPORTE ADV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RANSPORTE ADVECTIVO-DISPER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ULERI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AGRANGI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ULERIANO - LAGRANGI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92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85680" y="5562720"/>
            <a:ext cx="90504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68544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Inicialmente sólo para problemas de intrusión sal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Cálculos analíticos sin difusión, dispersión, adsorción ni reacciones cinét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Se inicia en el área de la ingeniería quím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Alcanza su auge con el estudio del movimiento de sustancias radioactivas en el agua subterráne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1960 -&gt; Inicio de estudios teóricos y numé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1970 -&gt; Aumento vertiginoso de estudios numé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studios de ca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Introducción de Elementos Fini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92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85680" y="5562720"/>
            <a:ext cx="90504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1T03:51:14Z</dcterms:created>
  <dc:creator>Carlos Espinoza</dc:creator>
  <dc:description/>
  <dc:language>en-US</dc:language>
  <cp:lastModifiedBy>cespinoza</cp:lastModifiedBy>
  <cp:lastPrinted>2003-06-10T12:46:13Z</cp:lastPrinted>
  <dcterms:modified xsi:type="dcterms:W3CDTF">2006-08-23T13:06:48Z</dcterms:modified>
  <cp:revision>103</cp:revision>
  <dc:subject/>
  <dc:title>Curso OIEA 2004</dc:title>
</cp:coreProperties>
</file>