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4C7-D360-4A00-A5A8-7DFF8F82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069A-3935-4ECE-BB5F-CF034D4B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825-5D8B-431E-A72E-F9E35BAE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181-4AC1-4ACB-A532-7C3E6B50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7E8-3176-4764-889C-AA0BDDF2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E539-8123-4F18-8C19-002AF85A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56F0-76F7-4DED-8961-B42AA905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C0D-B3D5-4ADF-98E2-7B63BD30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BFE-C9E3-464F-B457-E0647125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706E-F515-4648-AB2F-1FBD22A6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D1F-6C95-4DB4-9179-083F778F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EB9-1D56-4300-B9EC-3557870E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C568-AB39-4EB5-A3CD-88E1C05A2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7600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T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752480"/>
            <a:ext cx="74674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CUACION DE ADVECCION-DISP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NSPORTE ADV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NSPORTE ADVECTIVO-DISPER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ULER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GRANG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ULERIANO - LAGRANG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2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854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nicialmente sólo para problemas de intrusión sa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Cálculos analíticos sin difusión, dispersión, adsorción ni reacciones ciné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e inicia en el área de la ingeniería quí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lcanza su auge con el estudio del movimiento de sustancias radioactivas en el agua subterrán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960 -&gt; Inicio de estudios teóricos y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970 -&gt; Aumento vertiginoso de estudi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udios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ntroducción de Elementos Fin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03:51:14Z</dcterms:created>
  <dc:creator>Carlos Espinoza</dc:creator>
  <dc:description/>
  <dc:language>en-US</dc:language>
  <cp:lastModifiedBy>cespinoza</cp:lastModifiedBy>
  <cp:lastPrinted>2003-06-10T12:46:13Z</cp:lastPrinted>
  <dcterms:modified xsi:type="dcterms:W3CDTF">2006-08-23T13:06:48Z</dcterms:modified>
  <cp:revision>103</cp:revision>
  <dc:subject/>
  <dc:title>Curso OIEA 2004</dc:title>
</cp:coreProperties>
</file>