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BAC-0362-4124-AA8B-2A0F710A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842-7CB5-49EF-8E4E-58F9F3E8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292-3C5E-46F8-B6AD-E6693B01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38C-5607-489C-BA49-B0A2710D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694-E237-4B85-A8A0-47EFE809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867-C499-4126-9310-AEA09503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AB6-DE19-431F-81F1-1E383928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CA8-EBF9-488B-8B21-65E3C8B5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F6D-FD0A-43C0-A4E8-5AB3C4ED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2E3-3293-4A2D-96AD-DCB772F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256-EC99-477B-9D56-F362BE12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738-D99F-4FDE-B73D-F8EA98D4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AD95-BC23-49CA-808D-9B255DEE0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600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7524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UACION DE ADVECCION-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-DISPE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 - 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icialmente sólo para problemas de intrusión sa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álculos analíticos sin difusión, dispersión, adsorción ni reacciones ciné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 inicia en el área de la ingenierí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canza su auge con el estudio del movimiento de sustancias radioactivas en el agua subterrá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60 -&gt; Inicio de estudios teóricos y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70 -&gt; Aumento vertiginoso de estudi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udio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troducción de Elementos Fi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3:51:14Z</dcterms:created>
  <dc:creator>Carlos Espinoza</dc:creator>
  <dc:description/>
  <dc:language>en-US</dc:language>
  <cp:lastModifiedBy>cespinoza</cp:lastModifiedBy>
  <cp:lastPrinted>2003-06-10T12:46:13Z</cp:lastPrinted>
  <dcterms:modified xsi:type="dcterms:W3CDTF">2006-08-23T13:06:48Z</dcterms:modified>
  <cp:revision>103</cp:revision>
  <dc:subject/>
  <dc:title>Curso OIEA 2004</dc:title>
</cp:coreProperties>
</file>