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550D-A2DE-4989-AE0D-8253A3884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4CF6-766D-477A-9211-449BA767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282-A6D2-48D0-85E1-36D23650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82C9-51E9-4835-ADBD-4175E405D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FC3A-6FEF-41AA-9619-95D505F0F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811-7472-4963-8715-E897B7FC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EE1-183F-47DF-BE6A-EE0241C5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DD4C-F8EA-4621-9DB5-1EE46324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6B81-1575-481A-A18A-1F603718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4828-83CA-4FE8-B31E-80F04293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BF16-B137-4350-A429-BCD6AE18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BDD-9C0F-4BD1-9E7D-23899924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B42E-2888-4771-8DEE-4B013561F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D-MAIPU" descr=""/>
          <p:cNvPicPr/>
          <p:nvPr/>
        </p:nvPicPr>
        <p:blipFill>
          <a:blip r:embed="rId1"/>
          <a:srcRect l="26473" t="0" r="36557" b="0"/>
          <a:stretch/>
        </p:blipFill>
        <p:spPr>
          <a:xfrm>
            <a:off x="1700280" y="0"/>
            <a:ext cx="505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6T20:37:35Z</dcterms:created>
  <dc:creator>METRO S.A.</dc:creator>
  <dc:description/>
  <dc:language>en-US</dc:language>
  <cp:lastModifiedBy>METRO S.A.</cp:lastModifiedBy>
  <dcterms:modified xsi:type="dcterms:W3CDTF">2006-08-25T19:22:05Z</dcterms:modified>
  <cp:revision>2</cp:revision>
  <dc:subject/>
  <dc:title>Presentación de PowerPoint</dc:title>
</cp:coreProperties>
</file>