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036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1F5-DE34-4CCE-929A-E4BF8BDF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BB64-0F06-4EF4-9871-05BB2C74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0F2-F816-4475-88BE-A4D985D8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576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0440" y="144792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108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576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0440" y="3836160"/>
            <a:ext cx="2232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B86-8F80-4627-AD46-D421036E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BC9-734D-434F-9B4E-0ED9E7C4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5B0F-1296-43BD-BFAD-74153606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83CC-2720-4304-B69F-529B9942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3EAC-261A-47D0-A0AC-02F8FAA29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1080" y="304560"/>
            <a:ext cx="6934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89D-F266-4DDF-B5F0-F8928E24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1CA1-CD12-41B9-ACC5-9D898B34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280" y="383616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2CCF-9FAA-4830-83DE-D964B16F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10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280" y="1447920"/>
            <a:ext cx="338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1080" y="3836160"/>
            <a:ext cx="6934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BB7-5E9D-4CA5-8AA2-A31AB9A5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fondo1" descr=""/>
          <p:cNvPicPr/>
          <p:nvPr/>
        </p:nvPicPr>
        <p:blipFill>
          <a:blip r:embed="rId2"/>
          <a:stretch/>
        </p:blipFill>
        <p:spPr>
          <a:xfrm>
            <a:off x="936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934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1080" y="144792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213F-91AF-4F2B-B0F0-8153CF2DC3C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N DE DESARROLLO DE 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743200"/>
            <a:ext cx="72388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Gerencia de Línea Maip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71800" y="30492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PCIÓN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33720" y="1219320"/>
            <a:ext cx="6629400" cy="4495680"/>
          </a:xfrm>
          <a:prstGeom prst="roundRect">
            <a:avLst>
              <a:gd name="adj" fmla="val 15472"/>
            </a:avLst>
          </a:prstGeom>
          <a:solidFill>
            <a:srgbClr val="00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Descripción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RAZADO                                  13,5 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º ESTACIONES                    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VEL. COMERCIAL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        32 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87200"/>
                <a:tab algn="r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28800" y="228600"/>
            <a:ext cx="594360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 DE METRO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ren-ligero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4265640" cy="4800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flipH="1">
            <a:off x="5715000" y="1828800"/>
            <a:ext cx="1295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72480" y="1704960"/>
            <a:ext cx="1790640" cy="2761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657600"/>
            <a:ext cx="1409760" cy="33336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Red de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181120" y="2590920"/>
            <a:ext cx="2057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3080" y="1400040"/>
            <a:ext cx="1790640" cy="27648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Extensiones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152388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91120"/>
            <a:ext cx="1409760" cy="637920"/>
          </a:xfrm>
          <a:prstGeom prst="roundRect">
            <a:avLst>
              <a:gd name="adj" fmla="val 28333"/>
            </a:avLst>
          </a:prstGeom>
          <a:solidFill>
            <a:srgbClr val="66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Term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Intermod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60560" y="4266720"/>
            <a:ext cx="2611440" cy="24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8840" y="1114560"/>
            <a:ext cx="198108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990720"/>
            <a:ext cx="2171880" cy="304560"/>
          </a:xfrm>
          <a:prstGeom prst="roundRect">
            <a:avLst>
              <a:gd name="adj" fmla="val 28333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Ext. L2 Norte Vesp 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181120" y="312372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800240" y="3657240"/>
            <a:ext cx="2438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1447920"/>
            <a:ext cx="28954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266688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81080" y="2666880"/>
            <a:ext cx="245916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886200" y="2666880"/>
            <a:ext cx="53352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666880"/>
            <a:ext cx="1067040" cy="1371600"/>
          </a:xfrm>
          <a:custGeom>
            <a:avLst/>
            <a:gdLst/>
            <a:ahLst/>
            <a:rect l="l" t="t" r="r" b="b"/>
            <a:pathLst>
              <a:path w="672" h="864">
                <a:moveTo>
                  <a:pt x="672" y="0"/>
                </a:moveTo>
                <a:lnTo>
                  <a:pt x="336" y="48"/>
                </a:lnTo>
                <a:lnTo>
                  <a:pt x="192" y="48"/>
                </a:lnTo>
                <a:lnTo>
                  <a:pt x="96" y="96"/>
                </a:lnTo>
                <a:lnTo>
                  <a:pt x="0" y="240"/>
                </a:lnTo>
                <a:lnTo>
                  <a:pt x="48" y="432"/>
                </a:lnTo>
                <a:lnTo>
                  <a:pt x="48" y="624"/>
                </a:lnTo>
                <a:lnTo>
                  <a:pt x="48" y="864"/>
                </a:ln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715000" y="2057040"/>
            <a:ext cx="533520" cy="152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72480" y="23623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1 Or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590920"/>
            <a:ext cx="2171520" cy="304560"/>
          </a:xfrm>
          <a:prstGeom prst="roundRect">
            <a:avLst>
              <a:gd name="adj" fmla="val 28333"/>
            </a:avLst>
          </a:prstGeom>
          <a:solidFill>
            <a:srgbClr val="008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ínea Maip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1718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57200" y="2874240"/>
            <a:ext cx="10828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52480" y="236232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228600"/>
            <a:ext cx="6324480" cy="38088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DO DE AV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914400"/>
            <a:ext cx="7848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uncio Presidencial de Proyecto Línea Maipú 15 Noviembre del 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Piques y Galerías 28 de Junio del 2006, duración 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Básica 31 de Julio del 2006, duración 9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Ing. Detalles Túneles y Estaciones 15 de Octu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ició de Construcción de Piques y Galerías Tramo San Pablo y Eje Pajaritos 01 de Noviembre del 2006, duración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3880" y="1752480"/>
            <a:ext cx="5943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Times New Roman"/>
              </a:rPr>
              <a:t>TRABAJAMOS PARA MEJORAR SANTIA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 flipH="1" rot="10800000">
            <a:off x="2819520" y="532800"/>
            <a:ext cx="3660480" cy="742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477120" y="6019920"/>
            <a:ext cx="2438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4724280"/>
            <a:ext cx="3429000" cy="1143000"/>
          </a:xfrm>
          <a:prstGeom prst="roundRect">
            <a:avLst>
              <a:gd name="adj" fmla="val 41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13:33:44Z</dcterms:created>
  <dc:creator>Alejandro Orellana</dc:creator>
  <dc:description/>
  <dc:language>en-US</dc:language>
  <cp:lastModifiedBy>METRO S.A.</cp:lastModifiedBy>
  <cp:lastPrinted>2004-06-21T20:21:39Z</cp:lastPrinted>
  <dcterms:modified xsi:type="dcterms:W3CDTF">2006-08-25T19:23:36Z</dcterms:modified>
  <cp:revision>364</cp:revision>
  <dc:subject/>
  <dc:title>Presentación de PowerPoint</dc:title>
</cp:coreProperties>
</file>