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6A5-96D0-4B69-BE0F-441B5C81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000-DB2A-402B-9491-88582768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086-DBB6-444E-A104-E78408A7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576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044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576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044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FDC-DDCC-44D1-B65D-6E602B9D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4D5-0A6D-4C5A-981C-29107BBF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1E6-2B82-4F7B-BF1D-C57CDEC5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79F-3B7B-4D42-8F58-D6834946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7F2-B355-484D-B464-D1FD913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C5B-4F97-4713-BA69-C2AFC1AF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451-FB76-467C-9C9F-0A3341A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BFB-2DA2-41F7-A1B4-838E0D4B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663-3DD7-4B13-9A41-5934A91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o1" descr="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1D74-C7AC-4694-9EAB-66719001978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 DE DESARROLLO DE 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7432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Gerencia de Línea Maip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CRIP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219320"/>
            <a:ext cx="6629400" cy="4495680"/>
          </a:xfrm>
          <a:prstGeom prst="roundRect">
            <a:avLst>
              <a:gd name="adj" fmla="val 15472"/>
            </a:avLst>
          </a:prstGeom>
          <a:solidFill>
            <a:srgbClr val="00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scripción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ZADO                                  13,5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º ESTACIONES                    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VEL. COMERCIA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32 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22860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 DE METRO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en-ligero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426564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715000" y="18288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72480" y="1704960"/>
            <a:ext cx="1790640" cy="2761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3657600"/>
            <a:ext cx="1409760" cy="33336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Red de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181120" y="25909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080" y="1400040"/>
            <a:ext cx="1790640" cy="27648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Extensiones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523880"/>
            <a:ext cx="2361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91120"/>
            <a:ext cx="1409760" cy="6379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Term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termod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60560" y="4266720"/>
            <a:ext cx="261144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8840" y="1114560"/>
            <a:ext cx="1981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990720"/>
            <a:ext cx="2171880" cy="304560"/>
          </a:xfrm>
          <a:prstGeom prst="roundRect">
            <a:avLst>
              <a:gd name="adj" fmla="val 2833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xt. L2 Norte Vesp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181120" y="312372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800240" y="365724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447920"/>
            <a:ext cx="2895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26668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81080" y="2666880"/>
            <a:ext cx="24591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886200" y="2666880"/>
            <a:ext cx="5335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66688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672" y="0"/>
                </a:moveTo>
                <a:lnTo>
                  <a:pt x="336" y="48"/>
                </a:lnTo>
                <a:lnTo>
                  <a:pt x="192" y="48"/>
                </a:lnTo>
                <a:lnTo>
                  <a:pt x="96" y="96"/>
                </a:lnTo>
                <a:lnTo>
                  <a:pt x="0" y="240"/>
                </a:lnTo>
                <a:lnTo>
                  <a:pt x="48" y="432"/>
                </a:lnTo>
                <a:lnTo>
                  <a:pt x="48" y="624"/>
                </a:lnTo>
                <a:lnTo>
                  <a:pt x="48" y="86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715000" y="2057040"/>
            <a:ext cx="533520" cy="152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2480" y="23623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1 O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5909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Maip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1718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57200" y="2874240"/>
            <a:ext cx="10828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52480" y="2362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228600"/>
            <a:ext cx="632448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DO DE 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14400"/>
            <a:ext cx="7848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uncio Presidencial de Proyecto Línea Maipú 15 Noviembre del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Piques y Galerías 28 de Junio del 2006, duración 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Básica 31 de Julio del 2006, duración 9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Túneles y Estaciones 15 de Octu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Construcción de Piques y Galerías Tramo San Pablo y Eje Pajaritos 01 de Noviem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3880" y="1752480"/>
            <a:ext cx="5943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TRABAJAMOS PARA MEJORAR SANTIA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flipH="1" rot="10800000">
            <a:off x="2819520" y="532800"/>
            <a:ext cx="3660480" cy="74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77120" y="6019920"/>
            <a:ext cx="2438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724280"/>
            <a:ext cx="3429000" cy="114300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33:44Z</dcterms:created>
  <dc:creator>Alejandro Orellana</dc:creator>
  <dc:description/>
  <dc:language>en-US</dc:language>
  <cp:lastModifiedBy>METRO S.A.</cp:lastModifiedBy>
  <cp:lastPrinted>2004-06-21T20:21:39Z</cp:lastPrinted>
  <dcterms:modified xsi:type="dcterms:W3CDTF">2006-08-25T19:23:36Z</dcterms:modified>
  <cp:revision>364</cp:revision>
  <dc:subject/>
  <dc:title>Presentación de PowerPoint</dc:title>
</cp:coreProperties>
</file>