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11E5-12B9-4B89-9DD6-CE4A38A4F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11C0-0CF4-4AD4-809A-3DBE64C26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8067-9805-4541-A76A-BF870C7D0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4C0F-3CBC-488B-8D96-8E67E0F1B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4CEF-7765-4EB0-A18F-05F2E7054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AD83-2517-40AD-B4CF-3F5EE6F61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2883-E099-4E1B-8F18-57CEF2715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5B91-AE4C-4ACF-AFD2-C9FA58FE8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0666-06A2-45CE-84E5-EB0D87B2B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E9A9-0B0F-4C60-9464-5E23411B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1C2F-ECDF-42E5-A957-FEB03EEAA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0274-69C1-4142-95BB-03358E034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681DB-4617-467C-B65E-8AF8306738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D-MAIPU" descr=""/>
          <p:cNvPicPr/>
          <p:nvPr/>
        </p:nvPicPr>
        <p:blipFill>
          <a:blip r:embed="rId1"/>
          <a:srcRect l="26473" t="0" r="36557" b="0"/>
          <a:stretch/>
        </p:blipFill>
        <p:spPr>
          <a:xfrm>
            <a:off x="1700280" y="0"/>
            <a:ext cx="5057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6T20:37:35Z</dcterms:created>
  <dc:creator>METRO S.A.</dc:creator>
  <dc:description/>
  <dc:language>en-US</dc:language>
  <cp:lastModifiedBy>METRO S.A.</cp:lastModifiedBy>
  <dcterms:modified xsi:type="dcterms:W3CDTF">2006-08-25T19:22:05Z</dcterms:modified>
  <cp:revision>2</cp:revision>
  <dc:subject/>
  <dc:title>Presentación de PowerPoint</dc:title>
</cp:coreProperties>
</file>