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0BA-1A0A-4ECA-BE1E-8BFC56FB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EA0-8849-4133-ABDD-A7A779A0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968-ADA3-4761-9BAC-C4BB1841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D0B-781B-4BD2-B98E-4F68B649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375-891A-464F-B094-85D3432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AEB-FC49-46F5-835B-EA718193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D8D-D8A2-4F22-80DF-BB6B813D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075-DB51-4395-8AE2-D200EF5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DD5-814D-4E72-B46F-8F172CF9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E80-DFF5-4937-A689-42B86E3B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D5E-2D09-443B-B696-ADA9925F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068-C69B-44F9-B031-1DA0B64C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F028-6CED-4DE7-A82E-8B64A7F66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473" t="2143" r="37034" b="75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1240" y="4673520"/>
            <a:ext cx="432000" cy="432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5148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Área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28:52Z</dcterms:created>
  <dc:creator>NMARTELLI</dc:creator>
  <dc:description/>
  <dc:language>en-US</dc:language>
  <cp:lastModifiedBy>NMARTELLI</cp:lastModifiedBy>
  <dcterms:modified xsi:type="dcterms:W3CDTF">2006-07-27T01:50:15Z</dcterms:modified>
  <cp:revision>2</cp:revision>
  <dc:subject/>
  <dc:title>Diapositiva 1</dc:title>
</cp:coreProperties>
</file>