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C9A-3CF0-4158-A867-10758013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B024-28A3-437B-9A2E-9DF8E4C6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358-CC43-4C4C-87D3-3F04D27A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8B7-7B59-4686-87CD-29001B6C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C5F0-EAAA-43D5-8889-17F47E10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419-10BA-4056-9E99-06A5A28E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6134-AB5F-4866-93E4-9FB64065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6735-D79B-4099-9125-48847BFE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3CB-CB9A-4E95-9F65-BE82DBDE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E76D-CA4D-4A06-882B-85CD22D6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C18A-D3FD-4DDF-B650-7A9DEB1E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2952-98F2-48D0-9F83-10189336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B868-4B81-454F-A3E0-2E9560FD5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6473" t="2143" r="37034" b="750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41240" y="4673520"/>
            <a:ext cx="432000" cy="43200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0280" y="5148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Área de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1:28:52Z</dcterms:created>
  <dc:creator>NMARTELLI</dc:creator>
  <dc:description/>
  <dc:language>en-US</dc:language>
  <cp:lastModifiedBy>NMARTELLI</cp:lastModifiedBy>
  <dcterms:modified xsi:type="dcterms:W3CDTF">2006-07-27T01:50:15Z</dcterms:modified>
  <cp:revision>2</cp:revision>
  <dc:subject/>
  <dc:title>Diapositiva 1</dc:title>
</cp:coreProperties>
</file>