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C600-F3CF-4B7E-B4A1-B359E87B5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6BEB-1F1C-4B13-B298-41E884AB8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1D1C-9DDD-4D7B-9F08-A0BBF1BA2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7C1D-BC0B-48C2-B3CB-0E4E05873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6E05-615C-4FBB-847C-0A669068C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04F8-5F7F-498E-84E9-1685AD1B2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104C-5D85-41B4-83E4-2466D025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AD38-EB97-4180-A98E-BE5DEC795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FC1D-7B98-42A1-87C3-9EB44C0B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E3EB-F739-43D8-AE91-488549A8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7411-3E23-4E04-BF30-15A2E1C5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8385-883D-4836-B5C7-945D0C38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3051A-B14C-4B4B-8AC8-0B53B1010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26473" t="2143" r="37034" b="750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41240" y="4673520"/>
            <a:ext cx="432000" cy="432000"/>
          </a:xfrm>
          <a:prstGeom prst="ellips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0280" y="5148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Área de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7T01:28:52Z</dcterms:created>
  <dc:creator>NMARTELLI</dc:creator>
  <dc:description/>
  <dc:language>en-US</dc:language>
  <cp:lastModifiedBy>NMARTELLI</cp:lastModifiedBy>
  <dcterms:modified xsi:type="dcterms:W3CDTF">2006-07-27T01:50:15Z</dcterms:modified>
  <cp:revision>2</cp:revision>
  <dc:subject/>
  <dc:title>Diapositiva 1</dc:title>
</cp:coreProperties>
</file>