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D9B-9995-4C2A-83F9-9E9902FE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2B94-E6DE-4ED5-80F3-26CECB26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91E-3249-464A-A472-1EA7F3FC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6C2-EECA-4FD1-ACC9-BF35EF56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63F-390C-44F2-B130-5F6A9B16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37A-C093-4B99-A98E-FD506813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765-13EF-4CAC-81B3-F022113C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BBD-5BCD-4D6F-B47A-2F5AEA28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1F4-D61C-4249-A217-479F4815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791-4318-4190-97BE-6904CB76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D26D-3E2D-49FA-96B4-ADC76A6B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7DA-8A54-496E-9375-902F7DDC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8385-A29C-4063-840E-F351AE9CB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6473" t="2143" r="37034" b="750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41240" y="4673520"/>
            <a:ext cx="432000" cy="4320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0280" y="5148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Área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1:28:52Z</dcterms:created>
  <dc:creator>NMARTELLI</dc:creator>
  <dc:description/>
  <dc:language>en-US</dc:language>
  <cp:lastModifiedBy>NMARTELLI</cp:lastModifiedBy>
  <dcterms:modified xsi:type="dcterms:W3CDTF">2006-07-27T01:50:15Z</dcterms:modified>
  <cp:revision>2</cp:revision>
  <dc:subject/>
  <dc:title>Diapositiva 1</dc:title>
</cp:coreProperties>
</file>