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5B7-5BC9-4CAE-B739-1CAA9C27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350-A9EF-4270-89D0-4D0D4DEF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214-7DB5-4E41-82D4-1BF660E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F49-5B24-496E-ADC8-106876B0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6CD-2C76-4CED-ABF1-D8777712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9BA-78DF-4356-9FEC-ED5E05BD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279-5995-4E08-A362-8891F95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8FD-E747-4F5D-8194-7D4CC6A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B76-1CCC-4F85-8DD1-DDDC1DCA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06B-22CF-4E03-9638-0365C96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B0B-58C0-4DC3-A5E2-56ADA0AF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FF9-B00F-42EA-9DFE-81D17CC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F70-F83E-4AC4-ACFC-06DAD605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473" t="2143" r="37034" b="75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1240" y="4673520"/>
            <a:ext cx="432000" cy="432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5148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rea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28:52Z</dcterms:created>
  <dc:creator>NMARTELLI</dc:creator>
  <dc:description/>
  <dc:language>en-US</dc:language>
  <cp:lastModifiedBy>NMARTELLI</cp:lastModifiedBy>
  <dcterms:modified xsi:type="dcterms:W3CDTF">2006-07-27T01:50:15Z</dcterms:modified>
  <cp:revision>2</cp:revision>
  <dc:subject/>
  <dc:title>Diapositiva 1</dc:title>
</cp:coreProperties>
</file>