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09E-D0AC-4F5D-874C-D3293004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C45-E89B-4099-BAA6-C7666F09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C31-B2EC-4B94-947E-F08D71E7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3B5-786C-4C03-8B56-04A8C01B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C8C-D8AF-4582-8E99-BF2F8DB2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560-E3DD-41D0-8F6A-1E15F3CE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309-0259-48E0-A4B0-A4C16A9D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FCB-540B-45F0-B6CD-B782E9B3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2EF-0684-4A44-A43A-8A05E00A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8F9A-EB86-4EBF-AFEE-E6ECFF52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28B-332A-4221-95B5-2F4F376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666-1B7A-43CF-AB8C-9967486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6E59-5B7E-43BD-A863-05F4D127F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6473" t="2143" r="37034" b="75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1240" y="4673520"/>
            <a:ext cx="432000" cy="43200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5148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Área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28:52Z</dcterms:created>
  <dc:creator>NMARTELLI</dc:creator>
  <dc:description/>
  <dc:language>en-US</dc:language>
  <cp:lastModifiedBy>NMARTELLI</cp:lastModifiedBy>
  <dcterms:modified xsi:type="dcterms:W3CDTF">2006-07-27T01:50:15Z</dcterms:modified>
  <cp:revision>2</cp:revision>
  <dc:subject/>
  <dc:title>Diapositiva 1</dc:title>
</cp:coreProperties>
</file>