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98C-5769-4A51-93FD-95F2CD11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313-39CA-48F3-B090-67C08DBC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41F-1C16-4CB4-8EB7-139FDAC8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758-6727-40F6-8F3C-834094E9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8073-44ED-4203-80DD-DF6939DD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0431-20D7-4DD8-A0C1-87CE608B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17B8-367C-4FE1-A9CE-4C3C4196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F244-CDAD-4BB2-A0CB-73497B50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681C-5951-449D-8263-B81D4E7F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DE2B-10E6-40F8-A4EC-27A1376B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CA82-CE9A-4D07-A24A-686B18B8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2F8-00CF-489E-9883-81EF2954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08EE-D3D8-4778-A7FF-F8354A22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1D53-CFBF-46ED-A205-3599FCC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D1F0-940B-44E0-8CA1-C001588D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C1DD-C540-4A01-BF3C-D645BFAC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938F-56E8-4F0B-BE4B-F04D4B01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5D6-2328-40D9-AA25-010DEE94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59A-68A6-4CC0-84DA-F358F73F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8AF-582C-4719-93DC-811DB263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853-B09B-4E65-BD04-94C36B48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083-9C1E-4521-8AB3-6A3EF1BF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E16-5C1A-4011-B90C-4CB3324C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BE1-9670-4004-AE8A-5B67B05C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A292-8428-46ED-87D0-82CCE540706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E073-E1C3-4766-BD8D-000F7C59DDD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Prevención de contaminació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I66B-Hidrología Urb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talina O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1. Are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abrasivo mas comú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gunas medidas para disminuir la contaminación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ar arena limpia (libre de fino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arrer las calles antes y justo después del derretimiento primav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char los justo y necesa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2. Descongeladores de calle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sal es el mas usado debido principalmente a su bajo costo. Las medidas que se pueden tomar para disminuir la contaminación por sal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char la cantidad justa de sal de acuerdo a lo iluminada que sea la calle y al trafico que ten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sar métodos alternativos (generalmente mas caros y de un impacto ambiental 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sar aditivos para reducir la aplicación de descongeladores (impacto ambiental 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ar el tiempo de apl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ar los métodos que la esparcen para que se mantenga en el cam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ar lugares de almacenamiento (en superficies impermeabl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 Descongeladores en aeropuert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descongenlantes mas comunes s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lucosa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↑DB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trógeno (Toxico,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↑N lo que puede producir eutroficac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etatos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↑DB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Otra alternativas s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rretirla con agua caliente pero se puede recongelar. Se le debe agregar un spray con gluc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También puede ser tratada para disminuir la DBO y tratar los nutr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Lo otro es remover el deshielad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También se puede reciclar pero esto es poco común en los aeropuertos: El agua con glucosa puede ser acumulada en un estanque de almacenamiento y luego el agua es herv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Lo ultimo es almacenarla en lugares donde pueda infiltrar o disponerla directamente en un cuerpo de agu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0:33:59Z</dcterms:created>
  <dc:creator>alumno</dc:creator>
  <dc:description/>
  <dc:language>en-US</dc:language>
  <cp:lastModifiedBy>alumno</cp:lastModifiedBy>
  <dcterms:modified xsi:type="dcterms:W3CDTF">2006-11-06T21:00:22Z</dcterms:modified>
  <cp:revision>4</cp:revision>
  <dc:subject/>
  <dc:title>Prevención de contamin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