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543A-39B8-4C99-9CCA-C5BF24A56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A6E7-8217-425C-BEEF-95AD16B88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B475C-0E4A-4396-A157-648C7780F3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F973-28C0-480D-9E9B-0ECFFC14D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B146CD-E6B8-43B1-9D2D-447E3A026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57A5-E93B-4E1B-8832-F393DBD94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05EC7-5DA6-4698-AB22-AF685EBE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6637-7AF5-461C-8401-910783C6F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95113-07B9-4422-861E-A13FD9EEB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60304-D565-48B7-B16E-EE5C7E50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09DF4-53D6-4307-8A4F-127AF9809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96D39-1B4D-4B07-B75A-47BF32E4F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09B0A-415D-4DC4-A45D-953719ECD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B2C13-8EC7-455F-BF5F-7D37EC709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E6EC0-B347-4BB4-9898-2A4341DA3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F5490-4EF6-4E57-9B44-3DB97571C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0878A-0EE3-4395-B53A-2B8C9CA812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1FF2-C313-449B-B17A-417240A7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82CB1-EEC2-402D-B10F-9A33E5A5E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46A4B-7D38-45AC-9B7C-45E5FCE22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E4FF-6FC4-48F8-B043-DC893881A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48C23-9FE1-44A5-BFA1-6A546DC9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364B-2717-401F-99D5-4E569BE99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C7CE7-BE64-42D7-B4E7-C3E46F1D6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9566C-4488-449D-B4A3-11D395B4E450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66A5F-084E-430D-967B-5E5BCE4DAFE6}" type="slidenum">
              <a:rPr b="0" lang="es-C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Prevención de contaminación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I66B-Hidrología Urban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Catalina Orb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1. Arena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s el abrasivo mas comú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Algunas medidas para disminuir la contaminación s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Usar arena limpia (libre de finos)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Barrer las calles antes y justo después del derretimiento primaver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ff"/>
                </a:solidFill>
                <a:latin typeface="Arial"/>
              </a:rPr>
              <a:t>Echar los justo y necesari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2. Descongeladores de calles.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La sal es el mas usado debido principalmente a su bajo costo. Las medidas que se pueden tomar para disminuir la contaminación por sal so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Echar la cantidad justa de sal de acuerdo a lo iluminada que sea la calle y al trafico que teng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sar métodos alternativos (generalmente mas caros y de un impacto ambiental 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Usar aditivos para reducir la aplicación de descongeladores (impacto ambiental 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ar el tiempo de apl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ar los métodos que la esparcen para que se mantenga en el cami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Cambiar lugares de almacenamiento (en superficies impermeabl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ccecff"/>
                </a:solidFill>
                <a:latin typeface="Arial"/>
              </a:rPr>
              <a:t>3. Descongeladores en aeropuertos</a:t>
            </a:r>
            <a:endParaRPr b="0" lang="en-US" sz="4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Los descongenlantes mas comunes son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Glucosa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↑DB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Nitrógeno (Toxico,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↑N lo que puede producir eutroficac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Acetatos (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↑DBO</a:t>
            </a:r>
            <a:r>
              <a:rPr b="0" lang="es-ES" sz="1800" spc="-1" strike="noStrike" baseline="-25000">
                <a:solidFill>
                  <a:srgbClr val="ffffff"/>
                </a:solidFill>
                <a:latin typeface="Arial"/>
                <a:ea typeface="Arial"/>
              </a:rPr>
              <a:t>5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Otra alternativas son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Derretirla con agua caliente pero se puede recongelar. Se le debe agregar un spray con glucos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También puede ser tratada para disminuir la DBO y tratar los nutriente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Lo otro es remover el deshielador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También se puede reciclar pero esto es poco común en los aeropuertos: El agua con glucosa puede ser acumulada en un estanque de almacenamiento y luego el agua es hervid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Arial"/>
                <a:ea typeface="Arial"/>
              </a:rPr>
              <a:t>Lo ultimo es almacenarla en lugares donde pueda infiltrar o disponerla directamente en un cuerpo de agua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06T20:33:59Z</dcterms:created>
  <dc:creator>alumno</dc:creator>
  <dc:description/>
  <dc:language>en-US</dc:language>
  <cp:lastModifiedBy>alumno</cp:lastModifiedBy>
  <dcterms:modified xsi:type="dcterms:W3CDTF">2006-11-06T21:00:22Z</dcterms:modified>
  <cp:revision>4</cp:revision>
  <dc:subject/>
  <dc:title>Prevención de contaminació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