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CC2-EACB-41E8-873D-FA3546CD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47D-C179-4D57-B2CD-C6C15EF7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5E3-63AE-475F-9F53-24ED2056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49A-B4CA-4410-968A-32EF5196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7C9-F3E5-42CD-8986-2E7CDDC9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2EB0-4D8E-443C-BF5E-FF1A3E6C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6304-C263-41CE-8C64-B4D92E05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08C7-98B9-4AA7-BB51-728C70A0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A405-5D2D-4D37-BE60-382CD81F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713A-FAE2-4720-9103-807B2371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B876-7B1D-4EA5-8AA9-C7A1A70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16B-A1B1-494F-9D30-3781C4FB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5E72-5405-43E3-BAA1-6E69BF7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5DA2-EFB8-4664-9866-10C96FE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50B0-3A15-4CB7-ACB8-3AB799EF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709D-552E-4D0C-9F6B-23BB163B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E44F-8F03-4C24-A357-A61D36F0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7B2-91D9-4EDE-A34F-59B91A2E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900-AF13-487D-A289-8683F667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9E9-013F-469C-88AF-83514B6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D2F-DCC2-4E25-8729-E600F3CF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E9A-4D54-4BDF-9673-0EB875F9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EFA-200E-450B-ACAE-C13C6C2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118-8D75-447C-9DDE-31A5D5A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503-3A52-46A1-96FA-C91D9021315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4476-CEC2-487E-A211-72A89033A04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Prevención de contaminació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I66B-Hidrología Urb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talina O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1.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abrasivo mas comú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gunas medidas para disminuir la contaminación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ar arena limpia (libre de fin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arrer las calles antes y justo después del derretimiento primav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char los justo y neces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Descongeladores de call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sal es el mas usado debido principalmente a su bajo costo. Las medidas que se pueden tomar para disminuir la contaminación por sal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char la cantidad justa de sal de acuerdo a lo iluminada que sea la calle y al trafico que ten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métodos alternativos (generalmente mas caros y de un 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aditivos para reducir la aplicación de descongeladores (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el tiempo de a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os métodos que la esparcen para que se mantenga en el cam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ugares de almacenamiento (en superficies imperme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 Descongeladores en aeropuert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descongenlantes mas comunes s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lucosa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trógeno (Toxico,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N lo que puede producir eutroficac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etatos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tra alternativas s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rretirla con agua caliente pero se puede recongelar. Se le debe agregar un spray con gl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puede ser tratada para disminuir la DBO y tratar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otro es remover el deshiela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 reciclar pero esto es poco común en los aeropuertos: El agua con glucosa puede ser acumulada en un estanque de almacenamiento y luego el agua es herv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ultimo es almacenarla en lugares donde pueda infiltrar o disponerla directamente en un cuerpo de a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33:59Z</dcterms:created>
  <dc:creator>alumno</dc:creator>
  <dc:description/>
  <dc:language>en-US</dc:language>
  <cp:lastModifiedBy>alumno</cp:lastModifiedBy>
  <dcterms:modified xsi:type="dcterms:W3CDTF">2006-11-06T21:00:22Z</dcterms:modified>
  <cp:revision>4</cp:revision>
  <dc:subject/>
  <dc:title>Prevención de contamin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