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188B-A0E0-4DFC-9D18-C2EF73016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04A8-5F76-4FD6-BDAA-419514AE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4FD7-B76D-4066-AF99-3E1478A2C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9274-C7AA-4657-81BD-997EBF993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6DD8-D874-43A7-9657-33168FA73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25C3-B0D5-446D-9876-C7E28689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0E3B-4947-4685-97B0-DB9A7A89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AE41-D5B4-47FF-A0DD-19BB9998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76C0-C8CB-47EB-8B4F-63444AC0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F25A-ADB0-49EB-AAE3-279D6900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B738-2B3E-4795-AE08-422C5212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7F95-4732-4333-B73B-1C279613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132A-954F-47E0-A050-593DEF40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F67E-2D5A-45A3-94AD-A578A43E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8001-EB21-41FD-81D8-A507956D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21D9-DB5C-4CA2-8997-119D0F1DF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1A15-FD48-439D-A582-ECA3E6ADA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BC9B-9F8F-4D5E-AEE4-E43B60EB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4A94-A5E5-43BB-8A5A-D7A041A3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0C0A-4091-40B9-8E93-71AF3CF7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FE30-743B-44F8-8B04-E39A1BB5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D6EE-AF7D-43F9-BA42-E6210A9B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B6B1-8DCC-4D5F-9FBA-27ABF9D3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A57F-0436-4686-982F-D9CD7D45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AB08-B81E-46C4-A443-27476A89967C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94E8-79CF-43EF-8339-6C6F5A3D3F20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Prevención de contaminació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I66B-Hidrología Urb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atalina Or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1. Are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el abrasivo mas comú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lgunas medidas para disminuir la contaminación s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sar arena limpia (libre de fino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Barrer las calles antes y justo después del derretimiento primaver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char los justo y necesar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2. Descongeladores de calles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sal es el mas usado debido principalmente a su bajo costo. Las medidas que se pueden tomar para disminuir la contaminación por sal s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char la cantidad justa de sal de acuerdo a lo iluminada que sea la calle y al trafico que teng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Usar métodos alternativos (generalmente mas caros y de un impacto ambiental nega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Usar aditivos para reducir la aplicación de descongeladores (impacto ambiental nega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mbiar el tiempo de aplic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mbiar los métodos que la esparcen para que se mantenga en el cami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mbiar lugares de almacenamiento (en superficies impermeabl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3. Descongeladores en aeropuerto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os descongenlantes mas comunes s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lucosa (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↑DBO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5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itrógeno (Toxico,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↑N lo que puede producir eutroficac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etatos (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↑DBO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5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Otra alternativas s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erretirla con agua caliente pero se puede recongelar. Se le debe agregar un spray con gluco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También puede ser tratada para disminuir la DBO y tratar los nutrie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Lo otro es remover el deshielad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También se puede reciclar pero esto es poco común en los aeropuertos: El agua con glucosa puede ser acumulada en un estanque de almacenamiento y luego el agua es hervi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Lo ultimo es almacenarla en lugares donde pueda infiltrar o disponerla directamente en un cuerpo de agu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20:33:59Z</dcterms:created>
  <dc:creator>alumno</dc:creator>
  <dc:description/>
  <dc:language>en-US</dc:language>
  <cp:lastModifiedBy>alumno</cp:lastModifiedBy>
  <dcterms:modified xsi:type="dcterms:W3CDTF">2006-11-06T21:00:22Z</dcterms:modified>
  <cp:revision>4</cp:revision>
  <dc:subject/>
  <dc:title>Prevención de contaminació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