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0577-EFCB-40CD-8E25-4E5636E01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A432-341E-4FC1-A3F2-7591FF5E9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8C69-97D7-4569-B9F4-43B0E702D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56DE-B9C4-4C40-BF0A-373CF67F8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BFBEE-B209-4481-8E1E-CF0AE0CC2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0BEF2-A150-480C-8A25-F22201635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D36ED-E617-4B86-9054-DAD9F7018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D8075-A456-4A9D-B3F1-ED6D89CEC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F7F79-2DF5-41BC-8351-90C74EC1F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B63C3-8CD6-41C2-8698-78749AB6D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0FA57-F696-49A3-91F1-7278E524F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A088-A2AD-4B94-93C7-A657E3DFB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BBE2E-A402-4D7F-BAC2-6ADE55E92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92A41-4604-45AB-9AFA-AEE9F45CB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24996-8302-4E21-A3F2-9E228D83F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F2E32-A354-46F7-B654-8BF10E3FF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62F76-8A1F-468E-A856-F714E0A24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03B3-67FC-4CEB-8F9B-8506598A4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105D-0776-444E-ADD4-E38098AD4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F697-EC20-4BAF-AEE0-B1FC36554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7E4C-C416-47D6-98C8-3788E6A1E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0700-07A2-4629-8169-FDD976A1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20FC-A45C-4ABB-89A6-0C1DD526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CA92-8E94-43A3-BB28-D6889529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6F7D3-510C-4BC7-A0AE-3F2D14EDAFE1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FE5BF-119C-4ACB-9056-45AED9D8E747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Prevención de contaminació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I66B-Hidrología Urba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atalina Or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1. Aren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 el abrasivo mas comú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lgunas medidas para disminuir la contaminación s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Usar arena limpia (libre de fino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Barrer las calles antes y justo después del derretimiento primaver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char los justo y necesari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2. Descongeladores de calles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a sal es el mas usado debido principalmente a su bajo costo. Las medidas que se pueden tomar para disminuir la contaminación por sal s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char la cantidad justa de sal de acuerdo a lo iluminada que sea la calle y al trafico que teng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Usar métodos alternativos (generalmente mas caros y de un impacto ambiental negativ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Usar aditivos para reducir la aplicación de descongeladores (impacto ambiental negativ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ambiar el tiempo de aplic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ambiar los métodos que la esparcen para que se mantenga en el camin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ambiar lugares de almacenamiento (en superficies impermeable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3. Descongeladores en aeropuerto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os descongenlantes mas comunes s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Glucosa (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↑DBO</a:t>
            </a:r>
            <a:r>
              <a:rPr b="0" lang="es-E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5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Nitrógeno (Toxico,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↑N lo que puede producir eutroficaci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cetatos (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↑DBO</a:t>
            </a:r>
            <a:r>
              <a:rPr b="0" lang="es-E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5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Otra alternativas son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Derretirla con agua caliente pero se puede recongelar. Se le debe agregar un spray con glucos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También puede ser tratada para disminuir la DBO y tratar los nutrien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Lo otro es remover el deshielad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También se puede reciclar pero esto es poco común en los aeropuertos: El agua con glucosa puede ser acumulada en un estanque de almacenamiento y luego el agua es hervid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Lo ultimo es almacenarla en lugares donde pueda infiltrar o disponerla directamente en un cuerpo de agu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6T20:33:59Z</dcterms:created>
  <dc:creator>alumno</dc:creator>
  <dc:description/>
  <dc:language>en-US</dc:language>
  <cp:lastModifiedBy>alumno</cp:lastModifiedBy>
  <dcterms:modified xsi:type="dcterms:W3CDTF">2006-11-06T21:00:22Z</dcterms:modified>
  <cp:revision>4</cp:revision>
  <dc:subject/>
  <dc:title>Prevención de contaminació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