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C60-E007-41C6-BE6B-F542900E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06C-CA26-4DEE-9481-19737CDB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FB2-456F-4371-ADC5-5CAD1006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A8F-CB1D-4B27-A1F8-6A6E8420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7187-E84D-441A-80E2-0D770C32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27B2-EAE8-48B7-93DB-9A9EE1EF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9821-95FE-4AEB-B77A-D8E22213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4A09-E7AD-48D6-AD2B-301D6EFC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1067-58AB-4DCF-A2B0-5F73D338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67CE-D229-44DC-B120-BAF3D9A9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CE55-D357-4431-AA60-3480278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806-D12C-4309-8332-56CFBAA0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7778-8A9B-452C-9EA3-71A1CB1C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6F5-D2F8-45EC-93FE-83C3600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1839-6434-4617-8584-CC506BAC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E60-AA72-475D-8499-2164F8E3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5E4B-F219-4650-9DA6-CA01F0E2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8E8-31B0-4D50-8838-8419B5C9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301-B139-4500-B997-AAA557B6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CF3-85A6-45EB-B228-06855EE0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0B2-4D3A-4A33-9DFB-CE403E5E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896-09BF-4028-B59C-7F36C15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6DE-0440-45A3-AA68-46DA220C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385-F345-4F01-BC6F-42720536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DFE9-5278-4C76-8F49-D318AD8C2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FF99-EECB-4BA6-B806-AB8C48A68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58104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83808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609480"/>
            <a:ext cx="7086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acultad de Ciencias Físicas y Matemá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artamento de Ingeniería Civ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4653000"/>
            <a:ext cx="576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fesor: Ximena Var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lumnos: Rodrigo Arbu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609300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ntiago, 6 de noviembre de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025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7e7ff"/>
                </a:solidFill>
                <a:latin typeface="Times New Roman"/>
              </a:rPr>
              <a:t>Seminario Hidrología Urbana</a:t>
            </a:r>
            <a:br>
              <a:rPr sz="1800"/>
            </a:br>
            <a:r>
              <a:rPr b="0" lang="es-ES" sz="1800" spc="-1" strike="noStrike">
                <a:solidFill>
                  <a:srgbClr val="b7e7ff"/>
                </a:solidFill>
                <a:latin typeface="Times New Roman"/>
              </a:rPr>
              <a:t>CI66B</a:t>
            </a:r>
            <a:br>
              <a:rPr sz="1800"/>
            </a:br>
            <a:br>
              <a:rPr sz="1800"/>
            </a:br>
            <a:r>
              <a:rPr b="0" lang="es-ES" sz="2400" spc="-1" strike="noStrike">
                <a:solidFill>
                  <a:srgbClr val="b7e7ff"/>
                </a:solidFill>
                <a:latin typeface="Times New Roman"/>
              </a:rPr>
              <a:t>Sistemas de Infiltración para Climas Fríos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2000" y="142920"/>
            <a:ext cx="6275160" cy="6715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a4"/>
                </a:solidFill>
                <a:latin typeface="Arial"/>
              </a:rPr>
              <a:t>Dispositivos locales de Infiltració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10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a4"/>
                </a:solidFill>
                <a:latin typeface="Arial"/>
              </a:rPr>
              <a:t>Modificaciones para filtros de aguas lluvia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a4"/>
                </a:solidFill>
                <a:latin typeface="Arial"/>
              </a:rPr>
              <a:t>Opciones de diseños de tratamiento para Filtr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1440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5:09Z</dcterms:created>
  <dc:creator>alumno</dc:creator>
  <dc:description/>
  <dc:language>en-US</dc:language>
  <cp:lastModifiedBy>alumno</cp:lastModifiedBy>
  <dcterms:modified xsi:type="dcterms:W3CDTF">2006-11-06T20:55:44Z</dcterms:modified>
  <cp:revision>3</cp:revision>
  <dc:subject/>
  <dc:title>Dispositivos locales de Infiltración</dc:title>
</cp:coreProperties>
</file>