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FA6-D5F0-4C27-9A53-ECDDAD80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D6F-A775-4250-A4D8-2EEA942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0D8-A382-4E17-BDD8-C308632F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CA9-94F4-448C-BDA2-43734D6B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BDD5-0B8F-4E22-810D-50E5EC1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6F76-9608-4A02-A159-D595EBC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BBC0-44CD-4A03-816F-5F728CB5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7CA4-D6E8-48B4-B6D7-C6B65D2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D19B-04FE-40DA-AF0B-4B498DF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522D-437D-4884-9870-647347A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19F-A669-4007-8675-1ABB3D60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805-8E2F-4872-B027-A189616D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885-D4E1-4C76-8450-1DB5957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4A1-CF0D-447C-AB7B-0EF0B85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897A-7BB8-4529-881E-2B3CC3E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A079-EC6E-4BF0-B315-5EE637F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175-0F0F-41E2-94C8-38004EB9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0BD-2533-497B-9299-35148EB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036-9D17-437D-8DA7-99A9B3B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C59-76CD-40A5-9F4F-7E0D061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B2C-B9D7-478F-9B68-B89F905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C9A-CE7E-4DDC-8A10-8A8E832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DA6-F9DC-4703-87C7-5BCE99B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13C-4343-4079-A929-F14B89F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27A9-AFD5-4390-93D7-65946D31F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E3D-5127-4DF8-AF8D-3CC0433F0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58104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8380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09480"/>
            <a:ext cx="7086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ultad de Ciencias Físicas y Matemá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653000"/>
            <a:ext cx="576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fesor: Ximena Var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umnos: Rodrigo Arb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6093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ntiago, 6 de noviembre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Seminario Hidrología Urbana</a:t>
            </a:r>
            <a:br>
              <a:rPr sz="1800"/>
            </a:b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CI66B</a:t>
            </a:r>
            <a:br>
              <a:rPr sz="1800"/>
            </a:br>
            <a:br>
              <a:rPr sz="1800"/>
            </a:br>
            <a:r>
              <a:rPr b="0" lang="es-ES" sz="2400" spc="-1" strike="noStrike">
                <a:solidFill>
                  <a:srgbClr val="b7e7ff"/>
                </a:solidFill>
                <a:latin typeface="Times New Roman"/>
              </a:rPr>
              <a:t>Sistemas de Infiltración para Climas Fríos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42920"/>
            <a:ext cx="6275160" cy="6715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Dispositivos locales de Infiltració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a4"/>
                </a:solidFill>
                <a:latin typeface="Arial"/>
              </a:rPr>
              <a:t>Modificaciones para filtros de aguas lluvia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Opciones de diseños de tratamiento para Filtr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5:09Z</dcterms:created>
  <dc:creator>alumno</dc:creator>
  <dc:description/>
  <dc:language>en-US</dc:language>
  <cp:lastModifiedBy>alumno</cp:lastModifiedBy>
  <dcterms:modified xsi:type="dcterms:W3CDTF">2006-11-06T20:55:44Z</dcterms:modified>
  <cp:revision>3</cp:revision>
  <dc:subject/>
  <dc:title>Dispositivos locales de Infiltración</dc:title>
</cp:coreProperties>
</file>