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9B3-D424-4A8B-BD22-DF90D021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C65-8F07-4F77-9BF4-A14C1460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E19-ED31-4077-9171-9AF8FE73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10B-C97D-4ACC-9DEE-09117A07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0BD3-DFCB-4A11-A585-610342B4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122-DCFE-4762-B446-66A5D788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5F5D-6DF8-4673-B8DF-99AEFC8F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E5ED-7761-404D-953B-C90D88B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BD5D-B772-459E-9CF9-6DF9FCE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BD9-44B9-4640-BE1E-CE62B9C3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EA9-FF4F-4C97-9114-95716B8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2B6-85B8-4264-AC8B-96E1EABB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E6F-6D52-4E72-8099-26A58AC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299A-551E-4C5D-8B83-355EA37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FCD-E5FB-4826-AECD-C6CA1BFC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0EF-80FE-40DD-A041-788EBA7F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E6A-D2FF-4BD9-817B-7F62C5E4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B46-311A-4A91-A59E-5E9B35D0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315-9741-4015-A55C-0CC527F2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2FD-5C1B-42F7-9F27-4DB940CC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F7C-E429-4CE1-90E4-0AA6B726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5DE-BCEB-40BD-AA40-689C5CE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C29-1A14-4BE9-B3FE-FD16F8F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E0F-815B-4A0C-9E72-7F3471E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673-EA23-4E76-8268-B4FE7A08A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8154-5D94-4BDB-A5E2-03894816E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58104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8380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609480"/>
            <a:ext cx="7086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acultad de Ciencias Físicas y Matemá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653000"/>
            <a:ext cx="576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fesor: Ximena Var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umnos: Rodrigo Arb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609300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ntiago, 6 de noviembre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025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Seminario Hidrología Urbana</a:t>
            </a:r>
            <a:br>
              <a:rPr sz="1800"/>
            </a:b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CI66B</a:t>
            </a:r>
            <a:br>
              <a:rPr sz="1800"/>
            </a:br>
            <a:br>
              <a:rPr sz="1800"/>
            </a:br>
            <a:r>
              <a:rPr b="0" lang="es-ES" sz="2400" spc="-1" strike="noStrike">
                <a:solidFill>
                  <a:srgbClr val="b7e7ff"/>
                </a:solidFill>
                <a:latin typeface="Times New Roman"/>
              </a:rPr>
              <a:t>Sistemas de Infiltración para Climas Fríos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142920"/>
            <a:ext cx="6275160" cy="6715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Dispositivos locales de Infiltració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a4"/>
                </a:solidFill>
                <a:latin typeface="Arial"/>
              </a:rPr>
              <a:t>Modificaciones para filtros de aguas lluvia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Opciones de diseños de tratamiento para Filtr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5:09Z</dcterms:created>
  <dc:creator>alumno</dc:creator>
  <dc:description/>
  <dc:language>en-US</dc:language>
  <cp:lastModifiedBy>alumno</cp:lastModifiedBy>
  <dcterms:modified xsi:type="dcterms:W3CDTF">2006-11-06T20:55:44Z</dcterms:modified>
  <cp:revision>3</cp:revision>
  <dc:subject/>
  <dc:title>Dispositivos locales de Infiltración</dc:title>
</cp:coreProperties>
</file>