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06F1A-6555-4D0A-9B90-33CFF572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D4F-744A-40B3-90E8-31FA47FE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44ED-4C0D-48E6-B2A5-80E81B0C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EFEA-4270-47F5-A3EA-75C80F026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81B2-991C-4D9D-B651-7FB4A76D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0F57-C6E3-464A-ADBB-CBBCA4C1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8EBDD-64B9-4E71-9246-E4CC94A4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CA8E-70A5-4BA8-A74C-C5EECDB60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BBF8C-4191-4295-B4CF-7DC030D5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72E1-6CF8-44DA-84B0-A55A0B50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9028-4FD3-4B3C-8E38-F83AC60B1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1E6D-4279-4D6E-B891-4B58323D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1A13-9B05-4292-869E-20DE8A6B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1DA6-BED2-4010-988C-B0F0B62B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B9FF-9548-40F0-A469-351557BE5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5968-AB46-4024-8D09-E039B1189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F32B-A3F5-4863-9078-197B3D50A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E963-1596-4A80-BD20-021A44C2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E840-4D87-4F5C-89A4-75838CDB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ADED-0165-4A81-899F-B09CF60F4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BF73-108A-4342-8780-80146992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421C-343D-4FA6-9A29-2FBCD970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638A-9652-4AD2-ABFE-0A5546AE6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D445-9E01-49A3-A092-61F5D9AD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AB102-4DEB-47B8-A44B-31CF75EF1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DBB2-78B0-44B3-95E2-ADA55F7A1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533520"/>
            <a:ext cx="581040" cy="9144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95280" y="838080"/>
            <a:ext cx="67820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609480"/>
            <a:ext cx="708660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Facultad de Ciencias Físicas y Matemátic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partamento de Ingeniería Civ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4653000"/>
            <a:ext cx="576108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Profesor: Ximena Varg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lumnos: Rodrigo Arbu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692360" y="609300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Santiago, 6 de noviembre de 200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55640" y="1773000"/>
            <a:ext cx="770256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b7e7ff"/>
                </a:solidFill>
                <a:latin typeface="Times New Roman"/>
              </a:rPr>
              <a:t>Seminario Hidrología Urbana</a:t>
            </a:r>
            <a:br>
              <a:rPr sz="1800"/>
            </a:br>
            <a:r>
              <a:rPr b="0" lang="es-ES" sz="1800" spc="-1" strike="noStrike">
                <a:solidFill>
                  <a:srgbClr val="b7e7ff"/>
                </a:solidFill>
                <a:latin typeface="Times New Roman"/>
              </a:rPr>
              <a:t>CI66B</a:t>
            </a:r>
            <a:br>
              <a:rPr sz="1800"/>
            </a:br>
            <a:br>
              <a:rPr sz="1800"/>
            </a:br>
            <a:r>
              <a:rPr b="0" lang="es-ES" sz="2400" spc="-1" strike="noStrike">
                <a:solidFill>
                  <a:srgbClr val="b7e7ff"/>
                </a:solidFill>
                <a:latin typeface="Times New Roman"/>
              </a:rPr>
              <a:t>Sistemas de Infiltración para Climas Fríos</a:t>
            </a:r>
            <a:r>
              <a:rPr b="0" lang="es-ES" sz="48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32000" y="142920"/>
            <a:ext cx="6275160" cy="6715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a4"/>
                </a:solidFill>
                <a:latin typeface="Arial"/>
              </a:rPr>
              <a:t>Dispositivos locales de Infiltración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5104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a4"/>
                </a:solidFill>
                <a:latin typeface="Arial"/>
              </a:rPr>
              <a:t>Modificaciones para filtros de aguas lluvia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9144000" cy="37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510400" cy="82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a4"/>
                </a:solidFill>
                <a:latin typeface="Arial"/>
              </a:rPr>
              <a:t>Opciones de diseños de tratamiento para Filtros</a:t>
            </a:r>
            <a:endParaRPr b="0" lang="en-US" sz="28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2205000"/>
            <a:ext cx="9144000" cy="28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19:55:09Z</dcterms:created>
  <dc:creator>alumno</dc:creator>
  <dc:description/>
  <dc:language>en-US</dc:language>
  <cp:lastModifiedBy>alumno</cp:lastModifiedBy>
  <dcterms:modified xsi:type="dcterms:W3CDTF">2006-11-06T20:55:44Z</dcterms:modified>
  <cp:revision>3</cp:revision>
  <dc:subject/>
  <dc:title>Dispositivos locales de Infiltración</dc:title>
</cp:coreProperties>
</file>