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21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32.jpeg" ContentType="image/jpeg"/>
  <Override PartName="/ppt/media/image25.jpeg" ContentType="image/jpeg"/>
  <Override PartName="/ppt/media/image4.jpeg" ContentType="image/jpeg"/>
  <Override PartName="/ppt/media/image31.jpeg" ContentType="image/jpeg"/>
  <Override PartName="/ppt/media/image10.wmf" ContentType="image/x-wmf"/>
  <Override PartName="/ppt/media/image7.jpeg" ContentType="image/jpeg"/>
  <Override PartName="/ppt/media/image34.jpeg" ContentType="image/jpeg"/>
  <Override PartName="/ppt/media/image28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wmf" ContentType="image/x-wmf"/>
  <Override PartName="/ppt/media/image5.jpeg" ContentType="image/jpeg"/>
  <Override PartName="/ppt/media/image26.jpeg" ContentType="image/jpeg"/>
  <Override PartName="/ppt/media/image3.png" ContentType="image/png"/>
  <Override PartName="/ppt/media/image20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4.wmf" ContentType="image/x-wmf"/>
  <Override PartName="/ppt/media/image15.jpeg" ContentType="image/jpeg"/>
  <Override PartName="/ppt/media/image1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2DD3D-0ED7-4ED2-AC45-D36AD4959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757B-FFE3-471C-BCCA-A1B510CAF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5DA1-DC9F-4CFE-9D3C-E25789A8A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C0DC-0D56-4397-B98E-6A27C64DCC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70EE7-6884-4583-83A9-7F372BD3D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59BEB-E67B-4508-A52C-A8137F3CB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AFE69-A904-43F9-A346-B1D093BF8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368-14E3-4A5A-8E09-7FA799FBF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1489A-BB36-463C-882C-3A2918E9B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C5FB-DF63-46B5-9D81-228908165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4D6A-AEA4-43E0-8FBF-6A8B95BF0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816-D39B-491F-8B4F-AAC763179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4CF0D-6139-449E-95C8-ABBE26B33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14400" y="0"/>
            <a:ext cx="342720" cy="70812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395280" y="0"/>
            <a:ext cx="0" cy="6858000"/>
          </a:xfrm>
          <a:prstGeom prst="line">
            <a:avLst/>
          </a:prstGeom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26920" y="2276280"/>
            <a:ext cx="777240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CI66B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os numéricos y uso de Softwares hidrául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EC-R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HEC-RAS: Modelo del US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AS: River Analysis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C: Hydrologic Engineering C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programa realiza cálculos hidráulicos unidimensionales para redes hídricas ya sea naturales o construid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¿Que hace HEC-RA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nálisis hidrául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égimen 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Régimen Imperman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ransporte de Sedimentos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Trabaja en forma modulada, a través de archivos “planes” se ligan los distintos modulos. Esto da gran flexibilidad a la model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porte de resulta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Gráf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abl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 uni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743280" cy="280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5308560" y="2133720"/>
            <a:ext cx="3324240" cy="345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2" name=""/>
          <p:cNvSpPr/>
          <p:nvPr/>
        </p:nvSpPr>
        <p:spPr>
          <a:xfrm>
            <a:off x="4500720" y="3429000"/>
            <a:ext cx="431640" cy="504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516720" y="2349360"/>
            <a:ext cx="1008000" cy="287640"/>
          </a:xfrm>
          <a:prstGeom prst="ellipse">
            <a:avLst/>
          </a:prstGeom>
          <a:noFill/>
          <a:ln w="1908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ecciones Transver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56000" y="1600200"/>
            <a:ext cx="4330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perpendicular a la sec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álculos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SOL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en seccion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ometría para definir áreas de flujo y perímetro moja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889440" cy="3208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necesar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objetivo principal del programa HEC-RAS es calcular alturas de agua en todas las localidades de interés para determinados caudales. Los datos necesarios para realizar estos cómputos están divididos en 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Geométr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os de Flujo Perman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116000" y="5857920"/>
            <a:ext cx="7272360" cy="130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3300"/>
                </a:solidFill>
                <a:latin typeface="Arial"/>
              </a:rPr>
              <a:t>Datos geométricos se requieren en cualquier análisis realizado dentro de HEC-R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geomét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squema de rí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Morfología de la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nectividad entre cau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efinición de puntos de inter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Nomenclatura (Cauces, tramos e interseccion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cciones transvers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Topografía del cau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istancia entre s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ngularidad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eficientes de pérdida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 permanen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s datos de flujo permanente  necesarios para calcular el perfil de la superficie del agua. Son básicamen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Régimen del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audales del sistema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13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modelo realiza sus cálculos a partir de 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sección transversal con condiciones iniciales conocidas o supuestas y siguen aguas arriba para flujo subcrítico o aguas abajo para flujo supercrít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régime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bcrí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 modelo restringe como resultados correctos valores mayores a la altura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atos de flu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ara régimen </a:t>
            </a:r>
            <a:r>
              <a:rPr b="1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supercrític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l modelo restringe como resultados correctos valores menores a la altura crític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n casos donde el régimen de flujo cambia de subcrítico a supercrítico, o viceversa, el usuario debe ejecutar el programa en modo de régimen de flujo mixto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Diseño Ingenier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mensionamiento de Ob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parámetros físico-económ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o en condiciones nomin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Uso en eventos extrem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iciones de B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gún el régimen en que se encuentre el flujo, su comportamiento estará condicionado desde aguas arriba (torrente) o aguas abajo (río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 régimen subcrítico (río) se requieren condiciones de borde en la ultima sección de aguas ab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iciones de bor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régimen supercrítico (torrente) se requieren condiciones de borde en la primera sección de aguas arrib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ara régimen mixto, HEC-RAS necesita ambas condiciones de bor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0244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tre una sección y otra, se resuelve la ecuación de energía (Bernoulli) para obtener las alturas de escurri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2843280" y="3117960"/>
                <a:ext cx="3024000" cy="601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2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sSup>
                              <m:e>
                                <m:r>
                                  <m:t xml:space="preserve">1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b>
                        </m:sSub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468360" y="4149720"/>
            <a:ext cx="8366040" cy="22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ond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Y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ltura de agua en las secciones transversales 1 y 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Z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Z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ta de terreno las secciones transversales 1 y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, V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velocidades promedio de la sección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α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, α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eficientes de ajuste de velocidades velocidade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g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celeración de la gravedad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es-E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=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érdida de car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258920" y="1773360"/>
            <a:ext cx="6985080" cy="4162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075520" cy="190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érdida de carga (h</a:t>
            </a:r>
            <a:r>
              <a:rPr b="0" lang="es-ES" sz="24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) es considerada como la suma de la pérdida friccional entre dos secciones y la diferencia entre cargas de velocidad entre secciones ponderadas por un coeficiente de pérdida por contracción o expansió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2987640" y="3500280"/>
                <a:ext cx="2735280" cy="816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e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L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+</m:t>
                    </m:r>
                    <m:r>
                      <m:t xml:space="preserve">C</m:t>
                    </m:r>
                    <m:d>
                      <m:dPr>
                        <m:begChr m:val="|"/>
                        <m:endChr m:val="|"/>
                      </m:dPr>
                      <m:e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2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sSup>
                                  <m:e>
                                    <m:r>
                                      <m:t xml:space="preserve">1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sub>
                            </m:sSub>
                          </m:num>
                          <m:den>
                            <m:r>
                              <m:t xml:space="preserve">2</m:t>
                            </m:r>
                            <m:r>
                              <m:t xml:space="preserve">g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684360" y="4365720"/>
            <a:ext cx="8028000" cy="232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    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rgo representativo del tramo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CL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  =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endiente de fricción representativa entre dos secci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    =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eficiente de pérdida por expansión o contracc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ff3300"/>
                </a:solidFill>
                <a:latin typeface="Arial"/>
              </a:rPr>
              <a:t>L se calcula como la suma de las distancia entre las subsecciones (planicies laterales y canal principal) ponderadas por sus respectivos caudales promedios  y dividido por el caudal promedio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eficiente alf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55700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Dado que el modelo es unidimensional es necesario utilizar solo una altura de velocidad, este coeficiente compatibiliza las diferencias entre las alturas de velocidad de las distintas subseccio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en función de las áreas de flujo y la capacidad de condu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4" name=""/>
              <p:cNvSpPr txBox="1"/>
              <p:nvPr/>
            </p:nvSpPr>
            <p:spPr>
              <a:xfrm>
                <a:off x="611280" y="3933720"/>
                <a:ext cx="3809880" cy="1206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A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l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h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ch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</m:num>
                              <m:den>
                                <m:sSup>
                                  <m:e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A</m:t>
                                            </m:r>
                                          </m:e>
                                          <m:sub>
                                            <m:r>
                                              <m:rPr>
                                                <m:lit/>
                                                <m:nor/>
                                              </m:rPr>
                                              <m:t xml:space="preserve">rob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den>
                            </m:f>
                          </m:e>
                        </m:d>
                      </m:num>
                      <m:den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t</m:t>
                                    </m:r>
                                  </m:sub>
                                </m:sSub>
                              </m:e>
                            </m:d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5219640" y="3789360"/>
            <a:ext cx="3492720" cy="1542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ucción o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628640"/>
            <a:ext cx="8291520" cy="13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e define  la capacidad de conducción de una subsección como el caudal dividido por la raíz de la pérdida de carga, esto se introduce en la ecuación de Man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8" name=""/>
              <p:cNvSpPr txBox="1"/>
              <p:nvPr/>
            </p:nvSpPr>
            <p:spPr>
              <a:xfrm>
                <a:off x="4932360" y="3141720"/>
                <a:ext cx="2262240" cy="71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R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2</m:t>
                            </m:r>
                          </m:num>
                          <m:den>
                            <m:r>
                              <m:t xml:space="preserve">3</m:t>
                            </m:r>
                          </m:den>
                        </m:f>
                      </m:sup>
                    </m:sSup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332000" y="2997360"/>
                <a:ext cx="1962000" cy="855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K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Q</m:t>
                        </m:r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f</m:t>
                                </m:r>
                              </m:sub>
                            </m:sSub>
                          </m:e>
                        </m:rad>
                      </m:den>
                    </m:f>
                    <m:r>
                      <m:t xml:space="preserve">(</m:t>
                    </m:r>
                    <m:f>
                      <m:fPr>
                        <m:type m:val="lin"/>
                      </m:fPr>
                      <m:num>
                        <m:sSup>
                          <m:e>
                            <m:r>
                              <m:t xml:space="preserve">m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s</m:t>
                        </m:r>
                      </m:den>
                    </m:f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0" name=""/>
          <p:cNvSpPr/>
          <p:nvPr/>
        </p:nvSpPr>
        <p:spPr>
          <a:xfrm>
            <a:off x="684360" y="4365720"/>
            <a:ext cx="800100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apacidad de transporte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eficiente de  Manning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área de flujo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1146240"/>
                <a:tab algn="l" pos="1596960"/>
                <a:tab algn="l" pos="1944720"/>
                <a:tab algn="l" pos="2235240"/>
                <a:tab algn="l" pos="2293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=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adio hidráulico de una subdivisió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onducción o transpor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defecto HEC-RAS considera subsecciones en donde existe variación del coeficiente de rugosidad de Manning, sin embargo, por compatibilidad con HEC-2 puede modificarse la definición de subsecciones en cada nodo del perfil (Estilo HEC-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conducción total de una sección será la suma de la conducción de las subsec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340000" y="4076640"/>
            <a:ext cx="5040360" cy="2373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érdida fric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62864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pérdida friccional se evalúa como la ponderación de la pendiente friccional representativa entre dos secciones por la distancia representativa L entre ella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619280" y="3716280"/>
                <a:ext cx="1293840" cy="831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Q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3564000" y="3933720"/>
                <a:ext cx="39830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r>
                            <m:rPr>
                              <m:lit/>
                              <m:nor/>
                            </m:rPr>
                            <m:t xml:space="preserve">Pérdida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friccional</m:t>
                          </m:r>
                        </m:e>
                      </m:mr>
                    </m:m>
                    <m:r>
                      <m:t xml:space="preserve">=</m:t>
                    </m:r>
                    <m:r>
                      <m:t xml:space="preserve">L·</m:t>
                    </m:r>
                    <m:sSub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S</m:t>
                            </m:r>
                          </m:e>
                        </m:bar>
                      </m:e>
                      <m:sub>
                        <m:r>
                          <m:t xml:space="preserve">f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24000" y="5300640"/>
            <a:ext cx="85899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3300"/>
                </a:solidFill>
                <a:latin typeface="Arial"/>
              </a:rPr>
              <a:t>Para obtener la pendiente representativa HEC-RAS cuenta con cuatro métodos, por defecto utiliza el cuadrado de caudal total sobre la conducción to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ál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r defecto, HEC-RAS realiza 20 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so de no encontrar una solución adecuada compara la altura crítica con el resultado de menor error de las iteracio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 concuerda con el régimen del problema y su error es menor a 10 cm el programa entrega este valor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n caso de que no cumpla, HEC-RAS arrojará altura crítica en esa sec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24000" y="4797360"/>
            <a:ext cx="8229600" cy="23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Ninguna de las dos soluciones es la correcta, HEC-RAS está diseñado para terminar los cálculos de la modelación por lo que SIEMPRE debe revisar las advertencias que el software arroja y aplicar su criterio para cerciorarse que las soluciones son adecuada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Caracterización de la r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lución analít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implificación máxima primera aproxim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ormulas  empír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 numé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ación fís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Altura crít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39640" y="155736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ltura crítica de una sección se define como el punto en que la energía (H) es míni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4" name=""/>
              <p:cNvSpPr txBox="1"/>
              <p:nvPr/>
            </p:nvSpPr>
            <p:spPr>
              <a:xfrm>
                <a:off x="1116000" y="3068640"/>
                <a:ext cx="203508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  <m:r>
                      <m:t xml:space="preserve">=</m:t>
                    </m:r>
                    <m:r>
                      <m:t xml:space="preserve">Z</m:t>
                    </m:r>
                    <m:r>
                      <m:t xml:space="preserve">+</m:t>
                    </m:r>
                    <m:r>
                      <m:t xml:space="preserve">Y</m:t>
                    </m:r>
                    <m:r>
                      <m:t xml:space="preserve">+</m:t>
                    </m:r>
                    <m:f>
                      <m:num>
                        <m:sSup>
                          <m:e>
                            <m:r>
                              <m:t xml:space="preserve">αV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5" name=""/>
          <p:cNvSpPr/>
          <p:nvPr/>
        </p:nvSpPr>
        <p:spPr>
          <a:xfrm>
            <a:off x="539640" y="5013360"/>
            <a:ext cx="8229600" cy="151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HEC-RAS utiliza dos métodos iterativos para obtener dicha altura, el método “parabólico” (por defecto) y  el de “secante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572000" y="2781360"/>
            <a:ext cx="2938320" cy="19317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uando el flujo deja de ser  gradualmente variado, la ecuación de energía ya no es váli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Las transiciones entre distintos regímenes (al pasar por crisis) no cumplen esta condi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l cambio de régimen puede ocurrir por diversos motivos (cambios bruscos de pendiente, sección, obstáculos,  estructuras como puentes, alcantarillas, vertederos, etc) HEC-RAS alterna entre la aplicación de ecuaciones empíricas para estructuras especiales con un balance de fuerzas, o ecuación de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cuación de Moment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94920" y="4149720"/>
            <a:ext cx="4753080" cy="25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Donde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resión hidrostática en la sección 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Peso del agua en la direcció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Fuerza de fric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Q: Caud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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Densidad del agu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s-ES" sz="16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: Cambio de velocidad de la sección 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Arial"/>
              </a:rPr>
              <a:t>        2 a la 1en la dirección 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484360" y="1484280"/>
            <a:ext cx="4032360" cy="2597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5219640" y="4724280"/>
                <a:ext cx="372276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W</m:t>
                        </m:r>
                      </m:e>
                      <m:sub>
                        <m:r>
                          <m:t xml:space="preserve">x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f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Q·ρ·ΔV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Limitacio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gradualmente variado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be cumplirse ley hidrostática de presio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En pequeños tramos que es rápidamente variado utiliza ec. de moment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lujo unidimen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Secciones SIEMPRE perpendiculares al flu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ndientes menores a 10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ltura de presión es considerada igual a la cota de agu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rcRect l="15981" t="23531" r="18815" b="12197"/>
          <a:stretch/>
        </p:blipFill>
        <p:spPr>
          <a:xfrm>
            <a:off x="0" y="0"/>
            <a:ext cx="9144000" cy="675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1"/>
          <a:srcRect l="15617" t="23531" r="18815" b="12197"/>
          <a:stretch/>
        </p:blipFill>
        <p:spPr>
          <a:xfrm>
            <a:off x="0" y="-27000"/>
            <a:ext cx="9180360" cy="674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390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STORMC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roduc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grama diseño red urbana de A.L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Fácil mane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mig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fi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mpatibilidad con otros program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utoC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RC/INF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Poten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seño de múltiples sistemas de aguas llu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álisis de distintos escenar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anejo de tormen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últiples análisis de resultad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ción de reportes de buena c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Buena presentación gráfica de resulta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8880" y="263664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Teoría detrás del program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Fórmulas empíric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uchas son empírico-analític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 su mayoría solución acot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Uso generalizado en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obredimens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229360"/>
            <a:ext cx="7704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3300"/>
                </a:solidFill>
                <a:latin typeface="Arial"/>
              </a:rPr>
              <a:t>SEGÚN LA COMPLEJIDAD DEL PROBLEMA EN MUCHOS CASO BASTA CON SU USO PARA HACER UNA BUENA APROXIMACIÓN DEL PROBLEM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HIDROLOGIA</a:t>
            </a:r>
            <a:br>
              <a:rPr sz="4000"/>
            </a:br>
            <a:br>
              <a:rPr sz="4000"/>
            </a:b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udales de entra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26560" y="227628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= 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L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A. Lluvia (Formula racion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adicionales (no dependen necesariamente de la 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C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 Caudales consta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826920" y="333000"/>
            <a:ext cx="3927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Áreas a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187280" y="1268280"/>
            <a:ext cx="5113440" cy="2492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mc:AlternateContent>
        <mc:Choice xmlns:a14="http://schemas.microsoft.com/office/drawing/2010/main" Requires="a14">
          <p:sp>
            <p:nvSpPr>
              <p:cNvPr id="147" name=""/>
              <p:cNvSpPr txBox="1"/>
              <p:nvPr/>
            </p:nvSpPr>
            <p:spPr>
              <a:xfrm>
                <a:off x="2222640" y="4879800"/>
                <a:ext cx="3093840" cy="7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·A</m:t>
                        </m:r>
                      </m:e>
                      <m:sub>
                        <m:r>
                          <m:t xml:space="preserve">T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·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8" name=""/>
          <p:cNvSpPr/>
          <p:nvPr/>
        </p:nvSpPr>
        <p:spPr>
          <a:xfrm>
            <a:off x="900000" y="4005360"/>
            <a:ext cx="65167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posición de áreas aportan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Supuestos método racio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99640" y="1628640"/>
            <a:ext cx="800748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Áreas aportantes &lt; 120 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s-ES" sz="3200" spc="-1" strike="noStrike" baseline="-25000">
                <a:solidFill>
                  <a:srgbClr val="000000"/>
                </a:solidFill>
                <a:latin typeface="Arial"/>
              </a:rPr>
              <a:t>peak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ocurre cuando el total del área aportante contribuye a la escorren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Intensidad de pp uniforme para un tiempo </a:t>
            </a:r>
            <a:r>
              <a:rPr b="0" lang="es-ES" sz="32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l tiempo de concentr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eficiente racional, independiente de la intensidad de la lluv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Intensidad de Lluv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7315200" cy="22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A través de tablas con valores conoc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ediante ecuaciones de ajuste a curvas ID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1703520" y="3790800"/>
                <a:ext cx="4037040" cy="2133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a·R</m:t>
                                </m:r>
                              </m:e>
                              <m:sub>
                                <m:r>
                                  <m:t xml:space="preserve">P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num>
                          <m:den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D</m:t>
                            </m: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n</m:t>
                                </m:r>
                              </m:sup>
                            </m:sSup>
                          </m:den>
                        </m:f>
                      </m:e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a</m:t>
                        </m:r>
                        <m:r>
                          <m:t xml:space="preserve">+</m:t>
                        </m:r>
                        <m:r>
                          <m:t xml:space="preserve">b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c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d·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ln</m:t>
                        </m:r>
                        <m:r>
                          <m:t xml:space="preserve">D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HIDRÁU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690264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cuación de Ener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álculo de Pérdidas Friccion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hez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Kut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Mann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arcy-Weisb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lebrook-Wh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Hazen-Willi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1407960" y="2235240"/>
                <a:ext cx="5034240" cy="105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sSub>
                              <m:e/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γ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z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2</m:t>
                        </m:r>
                        <m:r>
                          <m:t xml:space="preserve">g</m:t>
                        </m:r>
                      </m:den>
                    </m:f>
                    <m:r>
                      <m:t xml:space="preserve">+</m:t>
                    </m:r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L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Pérdidas Singula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érdidas en Uniones se evalúan co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Absolu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Valor Fijo establecido por usu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Están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ponderado por la energía y velo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HEC-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Similar a Estánd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Factor </a:t>
            </a:r>
            <a:r>
              <a:rPr b="0" i="1" lang="es-ES" sz="2400" spc="-1" strike="noStrike">
                <a:solidFill>
                  <a:srgbClr val="000000"/>
                </a:solidFill>
                <a:latin typeface="Arial"/>
              </a:rPr>
              <a:t>k 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orregido por condiciones del fluj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Método AASH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Tipos de Sumideros (4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70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Rejil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Gu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mbin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De Ranu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3995640" y="1844640"/>
            <a:ext cx="4864320" cy="354492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116000" y="2060640"/>
            <a:ext cx="6969240" cy="4154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163" name=""/>
          <p:cNvSpPr/>
          <p:nvPr/>
        </p:nvSpPr>
        <p:spPr>
          <a:xfrm>
            <a:off x="673200" y="460440"/>
            <a:ext cx="838512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Arial"/>
              </a:rPr>
              <a:t>Geometría de Entrada en  Sumideros de  Guí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270828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000000"/>
                </a:solidFill>
                <a:latin typeface="Arial"/>
              </a:rPr>
              <a:t>Program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539640" y="692280"/>
            <a:ext cx="8142480" cy="5851440"/>
          </a:xfrm>
          <a:prstGeom prst="rect">
            <a:avLst/>
          </a:prstGeom>
          <a:ln w="0">
            <a:noFill/>
          </a:ln>
        </p:spPr>
      </p:pic>
      <p:grpSp>
        <p:nvGrpSpPr>
          <p:cNvPr id="166" name=""/>
          <p:cNvGrpSpPr/>
          <p:nvPr/>
        </p:nvGrpSpPr>
        <p:grpSpPr>
          <a:xfrm>
            <a:off x="468360" y="1557360"/>
            <a:ext cx="3814560" cy="663120"/>
            <a:chOff x="468360" y="1557360"/>
            <a:chExt cx="3814560" cy="663120"/>
          </a:xfrm>
        </p:grpSpPr>
        <p:grpSp>
          <p:nvGrpSpPr>
            <p:cNvPr id="167" name=""/>
            <p:cNvGrpSpPr/>
            <p:nvPr/>
          </p:nvGrpSpPr>
          <p:grpSpPr>
            <a:xfrm>
              <a:off x="468360" y="1557360"/>
              <a:ext cx="1511280" cy="360360"/>
              <a:chOff x="468360" y="1557360"/>
              <a:chExt cx="1511280" cy="360360"/>
            </a:xfrm>
          </p:grpSpPr>
          <p:sp>
            <p:nvSpPr>
              <p:cNvPr id="168" name=""/>
              <p:cNvSpPr/>
              <p:nvPr/>
            </p:nvSpPr>
            <p:spPr>
              <a:xfrm>
                <a:off x="468360" y="155736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826920" y="177336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050920" y="1700280"/>
              <a:ext cx="2232000" cy="520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elementos y un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468360" y="1773360"/>
            <a:ext cx="4390920" cy="378360"/>
            <a:chOff x="468360" y="1773360"/>
            <a:chExt cx="4390920" cy="378360"/>
          </a:xfrm>
        </p:grpSpPr>
        <p:grpSp>
          <p:nvGrpSpPr>
            <p:cNvPr id="172" name=""/>
            <p:cNvGrpSpPr/>
            <p:nvPr/>
          </p:nvGrpSpPr>
          <p:grpSpPr>
            <a:xfrm>
              <a:off x="468360" y="1773360"/>
              <a:ext cx="1511280" cy="360360"/>
              <a:chOff x="468360" y="1773360"/>
              <a:chExt cx="1511280" cy="360360"/>
            </a:xfrm>
          </p:grpSpPr>
          <p:sp>
            <p:nvSpPr>
              <p:cNvPr id="173" name=""/>
              <p:cNvSpPr/>
              <p:nvPr/>
            </p:nvSpPr>
            <p:spPr>
              <a:xfrm>
                <a:off x="468360" y="177336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826920" y="198936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2052720" y="1844640"/>
              <a:ext cx="280656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Sumideros (entradas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"/>
          <p:cNvGrpSpPr/>
          <p:nvPr/>
        </p:nvGrpSpPr>
        <p:grpSpPr>
          <a:xfrm>
            <a:off x="468360" y="1974960"/>
            <a:ext cx="4319640" cy="374400"/>
            <a:chOff x="468360" y="1974960"/>
            <a:chExt cx="4319640" cy="374400"/>
          </a:xfrm>
        </p:grpSpPr>
        <p:grpSp>
          <p:nvGrpSpPr>
            <p:cNvPr id="177" name=""/>
            <p:cNvGrpSpPr/>
            <p:nvPr/>
          </p:nvGrpSpPr>
          <p:grpSpPr>
            <a:xfrm>
              <a:off x="468360" y="1989000"/>
              <a:ext cx="1511280" cy="360360"/>
              <a:chOff x="468360" y="1989000"/>
              <a:chExt cx="1511280" cy="360360"/>
            </a:xfrm>
          </p:grpSpPr>
          <p:sp>
            <p:nvSpPr>
              <p:cNvPr id="178" name=""/>
              <p:cNvSpPr/>
              <p:nvPr/>
            </p:nvSpPr>
            <p:spPr>
              <a:xfrm>
                <a:off x="468360" y="1989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826920" y="2205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0" name=""/>
            <p:cNvSpPr/>
            <p:nvPr/>
          </p:nvSpPr>
          <p:spPr>
            <a:xfrm>
              <a:off x="2050920" y="197496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union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468360" y="2190600"/>
            <a:ext cx="4319640" cy="374760"/>
            <a:chOff x="468360" y="2190600"/>
            <a:chExt cx="4319640" cy="374760"/>
          </a:xfrm>
        </p:grpSpPr>
        <p:grpSp>
          <p:nvGrpSpPr>
            <p:cNvPr id="182" name=""/>
            <p:cNvGrpSpPr/>
            <p:nvPr/>
          </p:nvGrpSpPr>
          <p:grpSpPr>
            <a:xfrm>
              <a:off x="468360" y="2205000"/>
              <a:ext cx="1511280" cy="360360"/>
              <a:chOff x="468360" y="2205000"/>
              <a:chExt cx="1511280" cy="360360"/>
            </a:xfrm>
          </p:grpSpPr>
          <p:sp>
            <p:nvSpPr>
              <p:cNvPr id="183" name=""/>
              <p:cNvSpPr/>
              <p:nvPr/>
            </p:nvSpPr>
            <p:spPr>
              <a:xfrm>
                <a:off x="468360" y="2205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826920" y="2421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"/>
            <p:cNvSpPr/>
            <p:nvPr/>
          </p:nvSpPr>
          <p:spPr>
            <a:xfrm>
              <a:off x="2050920" y="219060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Salida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468360" y="2421000"/>
            <a:ext cx="4319640" cy="362520"/>
            <a:chOff x="468360" y="2421000"/>
            <a:chExt cx="4319640" cy="362520"/>
          </a:xfrm>
        </p:grpSpPr>
        <p:grpSp>
          <p:nvGrpSpPr>
            <p:cNvPr id="187" name=""/>
            <p:cNvGrpSpPr/>
            <p:nvPr/>
          </p:nvGrpSpPr>
          <p:grpSpPr>
            <a:xfrm>
              <a:off x="468360" y="2421000"/>
              <a:ext cx="1511280" cy="360360"/>
              <a:chOff x="468360" y="2421000"/>
              <a:chExt cx="1511280" cy="360360"/>
            </a:xfrm>
          </p:grpSpPr>
          <p:sp>
            <p:nvSpPr>
              <p:cNvPr id="188" name=""/>
              <p:cNvSpPr/>
              <p:nvPr/>
            </p:nvSpPr>
            <p:spPr>
              <a:xfrm>
                <a:off x="468360" y="2421000"/>
                <a:ext cx="360360" cy="360360"/>
              </a:xfrm>
              <a:prstGeom prst="ellipse">
                <a:avLst/>
              </a:prstGeom>
              <a:noFill/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826920" y="2637000"/>
                <a:ext cx="11527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"/>
            <p:cNvSpPr/>
            <p:nvPr/>
          </p:nvSpPr>
          <p:spPr>
            <a:xfrm>
              <a:off x="2050920" y="2476440"/>
              <a:ext cx="2737080" cy="3070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Insertar texto, líneas, et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99760" y="260280"/>
            <a:ext cx="4043160" cy="12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s fís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89080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poyo en solución de problemas complejos, requiere además apoyo de modelos numér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716360" y="-27000"/>
            <a:ext cx="4842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600120" y="274680"/>
            <a:ext cx="7942320" cy="5851440"/>
          </a:xfrm>
          <a:prstGeom prst="rect">
            <a:avLst/>
          </a:prstGeom>
          <a:ln w="0">
            <a:noFill/>
          </a:ln>
        </p:spPr>
      </p:pic>
      <p:grpSp>
        <p:nvGrpSpPr>
          <p:cNvPr id="192" name=""/>
          <p:cNvGrpSpPr/>
          <p:nvPr/>
        </p:nvGrpSpPr>
        <p:grpSpPr>
          <a:xfrm>
            <a:off x="2052720" y="2125800"/>
            <a:ext cx="5759280" cy="2432520"/>
            <a:chOff x="2052720" y="2125800"/>
            <a:chExt cx="5759280" cy="2432520"/>
          </a:xfrm>
        </p:grpSpPr>
        <p:grpSp>
          <p:nvGrpSpPr>
            <p:cNvPr id="193" name=""/>
            <p:cNvGrpSpPr/>
            <p:nvPr/>
          </p:nvGrpSpPr>
          <p:grpSpPr>
            <a:xfrm>
              <a:off x="4429080" y="2125800"/>
              <a:ext cx="3382920" cy="368280"/>
              <a:chOff x="4429080" y="2125800"/>
              <a:chExt cx="3382920" cy="368280"/>
            </a:xfrm>
          </p:grpSpPr>
          <p:grpSp>
            <p:nvGrpSpPr>
              <p:cNvPr id="194" name=""/>
              <p:cNvGrpSpPr/>
              <p:nvPr/>
            </p:nvGrpSpPr>
            <p:grpSpPr>
              <a:xfrm>
                <a:off x="4429080" y="2133720"/>
                <a:ext cx="1511280" cy="360360"/>
                <a:chOff x="4429080" y="2133720"/>
                <a:chExt cx="1511280" cy="360360"/>
              </a:xfrm>
            </p:grpSpPr>
            <p:sp>
              <p:nvSpPr>
                <p:cNvPr id="195" name=""/>
                <p:cNvSpPr/>
                <p:nvPr/>
              </p:nvSpPr>
              <p:spPr>
                <a:xfrm>
                  <a:off x="4429080" y="2133720"/>
                  <a:ext cx="360360" cy="3603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4787640" y="2349720"/>
                  <a:ext cx="1152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7" name=""/>
              <p:cNvSpPr/>
              <p:nvPr/>
            </p:nvSpPr>
            <p:spPr>
              <a:xfrm>
                <a:off x="6084720" y="2125800"/>
                <a:ext cx="17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Entrada (inle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"/>
            <p:cNvGrpSpPr/>
            <p:nvPr/>
          </p:nvGrpSpPr>
          <p:grpSpPr>
            <a:xfrm>
              <a:off x="2052720" y="3164040"/>
              <a:ext cx="2445840" cy="337320"/>
              <a:chOff x="2052720" y="3164040"/>
              <a:chExt cx="2445840" cy="337320"/>
            </a:xfrm>
          </p:grpSpPr>
          <p:sp>
            <p:nvSpPr>
              <p:cNvPr id="199" name=""/>
              <p:cNvSpPr/>
              <p:nvPr/>
            </p:nvSpPr>
            <p:spPr>
              <a:xfrm flipH="1">
                <a:off x="3347640" y="3357720"/>
                <a:ext cx="115092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52720" y="3164040"/>
                <a:ext cx="1727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Ducto (pipe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"/>
            <p:cNvGrpSpPr/>
            <p:nvPr/>
          </p:nvGrpSpPr>
          <p:grpSpPr>
            <a:xfrm>
              <a:off x="4427640" y="4148280"/>
              <a:ext cx="3311280" cy="410040"/>
              <a:chOff x="4427640" y="4148280"/>
              <a:chExt cx="3311280" cy="41004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4427640" y="4148280"/>
                <a:ext cx="1511280" cy="360360"/>
                <a:chOff x="4427640" y="4148280"/>
                <a:chExt cx="1511280" cy="36036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4427640" y="4148280"/>
                  <a:ext cx="360360" cy="360360"/>
                </a:xfrm>
                <a:prstGeom prst="ellipse">
                  <a:avLst/>
                </a:prstGeom>
                <a:noFill/>
                <a:ln w="28440">
                  <a:solidFill>
                    <a:srgbClr val="ff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786200" y="4364280"/>
                  <a:ext cx="1152720" cy="0"/>
                </a:xfrm>
                <a:prstGeom prst="line">
                  <a:avLst/>
                </a:prstGeom>
                <a:ln w="28440">
                  <a:solidFill>
                    <a:srgbClr val="ff33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05" name=""/>
              <p:cNvSpPr/>
              <p:nvPr/>
            </p:nvSpPr>
            <p:spPr>
              <a:xfrm>
                <a:off x="6012000" y="4221000"/>
                <a:ext cx="17269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600" spc="-1" strike="noStrike">
                    <a:solidFill>
                      <a:srgbClr val="ffffff"/>
                    </a:solidFill>
                    <a:latin typeface="Arial"/>
                  </a:rPr>
                  <a:t>Salida (outlet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6" name=""/>
          <p:cNvSpPr/>
          <p:nvPr/>
        </p:nvSpPr>
        <p:spPr>
          <a:xfrm>
            <a:off x="2843280" y="2708280"/>
            <a:ext cx="39607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Para acceder a los menús de propiedades de cada uno de los elementos, basta con hacer doble click sobre ell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581040" y="169920"/>
            <a:ext cx="8139240" cy="585144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627280" y="198900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608040" y="274680"/>
            <a:ext cx="792648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10" name=""/>
          <p:cNvGrpSpPr/>
          <p:nvPr/>
        </p:nvGrpSpPr>
        <p:grpSpPr>
          <a:xfrm>
            <a:off x="395280" y="2349360"/>
            <a:ext cx="3457440" cy="2165040"/>
            <a:chOff x="395280" y="2349360"/>
            <a:chExt cx="3457440" cy="2165040"/>
          </a:xfrm>
        </p:grpSpPr>
        <p:sp>
          <p:nvSpPr>
            <p:cNvPr id="211" name=""/>
            <p:cNvSpPr/>
            <p:nvPr/>
          </p:nvSpPr>
          <p:spPr>
            <a:xfrm>
              <a:off x="2411280" y="2349360"/>
              <a:ext cx="1441440" cy="1152720"/>
            </a:xfrm>
            <a:prstGeom prst="ellipse">
              <a:avLst/>
            </a:prstGeom>
            <a:noFill/>
            <a:ln w="1908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2124000" y="3068640"/>
              <a:ext cx="287280" cy="2160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95280" y="3141720"/>
              <a:ext cx="1657440" cy="13726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Posibilidad de ingresar mas de un area aportante con diferentes coeficientes de escorrentía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4" name=""/>
          <p:cNvSpPr/>
          <p:nvPr/>
        </p:nvSpPr>
        <p:spPr>
          <a:xfrm>
            <a:off x="4140360" y="19162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0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595440" y="274680"/>
            <a:ext cx="7951680" cy="585144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464328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40000" y="1916280"/>
            <a:ext cx="2376360" cy="649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68360" y="2349360"/>
            <a:ext cx="2376720" cy="93672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68360" y="3141720"/>
            <a:ext cx="2376720" cy="122400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69880" y="274680"/>
            <a:ext cx="8004240" cy="585144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35600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724360" y="3573360"/>
            <a:ext cx="2735280" cy="1727280"/>
            <a:chOff x="5724360" y="3573360"/>
            <a:chExt cx="2735280" cy="1727280"/>
          </a:xfrm>
        </p:grpSpPr>
        <p:grpSp>
          <p:nvGrpSpPr>
            <p:cNvPr id="223" name=""/>
            <p:cNvGrpSpPr/>
            <p:nvPr/>
          </p:nvGrpSpPr>
          <p:grpSpPr>
            <a:xfrm>
              <a:off x="5724360" y="4292280"/>
              <a:ext cx="1511640" cy="1008360"/>
              <a:chOff x="5724360" y="4292280"/>
              <a:chExt cx="1511640" cy="1008360"/>
            </a:xfrm>
          </p:grpSpPr>
          <p:sp>
            <p:nvSpPr>
              <p:cNvPr id="224" name=""/>
              <p:cNvSpPr/>
              <p:nvPr/>
            </p:nvSpPr>
            <p:spPr>
              <a:xfrm>
                <a:off x="5724360" y="4653000"/>
                <a:ext cx="1295640" cy="647640"/>
              </a:xfrm>
              <a:prstGeom prst="ellipse">
                <a:avLst/>
              </a:prstGeom>
              <a:noFill/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6659640" y="4292280"/>
                <a:ext cx="576360" cy="43164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6" name=""/>
            <p:cNvSpPr/>
            <p:nvPr/>
          </p:nvSpPr>
          <p:spPr>
            <a:xfrm>
              <a:off x="7236000" y="3573360"/>
              <a:ext cx="1223640" cy="146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Link hacia menu del ducto aguas abaj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0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06600" y="274680"/>
            <a:ext cx="79308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28" name=""/>
          <p:cNvGrpSpPr/>
          <p:nvPr/>
        </p:nvGrpSpPr>
        <p:grpSpPr>
          <a:xfrm>
            <a:off x="4572000" y="1628640"/>
            <a:ext cx="4392720" cy="2864520"/>
            <a:chOff x="4572000" y="1628640"/>
            <a:chExt cx="4392720" cy="2864520"/>
          </a:xfrm>
        </p:grpSpPr>
        <p:sp>
          <p:nvSpPr>
            <p:cNvPr id="229" name=""/>
            <p:cNvSpPr/>
            <p:nvPr/>
          </p:nvSpPr>
          <p:spPr>
            <a:xfrm>
              <a:off x="4572000" y="1628640"/>
              <a:ext cx="2160720" cy="136872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V="1">
              <a:off x="6659640" y="1773360"/>
              <a:ext cx="649080" cy="28728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380360" y="1628640"/>
              <a:ext cx="1584360" cy="28645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En Scaled, el programa adopta largos y ángulos correspondientes a la escala, útil si se trabaja sobre plano de autocad, en Schematic es necesario ingresar largos y angulos (c/r a ducto siguiente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2484360" y="1916280"/>
            <a:ext cx="28908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7937280" cy="585144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3348000" y="1916280"/>
            <a:ext cx="3603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4500720" y="1700280"/>
            <a:ext cx="4392360" cy="1800000"/>
            <a:chOff x="4500720" y="1700280"/>
            <a:chExt cx="4392360" cy="1800000"/>
          </a:xfrm>
        </p:grpSpPr>
        <p:sp>
          <p:nvSpPr>
            <p:cNvPr id="236" name=""/>
            <p:cNvSpPr/>
            <p:nvPr/>
          </p:nvSpPr>
          <p:spPr>
            <a:xfrm>
              <a:off x="4500720" y="1700280"/>
              <a:ext cx="2160360" cy="1800000"/>
            </a:xfrm>
            <a:prstGeom prst="ellipse">
              <a:avLst/>
            </a:prstGeom>
            <a:noFill/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V="1">
              <a:off x="6588000" y="1844640"/>
              <a:ext cx="649440" cy="37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308720" y="1700280"/>
              <a:ext cx="1584360" cy="5202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ff"/>
                  </a:solidFill>
                  <a:latin typeface="Arial"/>
                </a:rPr>
                <a:t>Restricciones del ducto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1042920" y="1844640"/>
            <a:ext cx="1441080" cy="246240"/>
            <a:chOff x="1042920" y="1844640"/>
            <a:chExt cx="1441080" cy="246240"/>
          </a:xfrm>
        </p:grpSpPr>
        <p:sp>
          <p:nvSpPr>
            <p:cNvPr id="240" name=""/>
            <p:cNvSpPr/>
            <p:nvPr/>
          </p:nvSpPr>
          <p:spPr>
            <a:xfrm flipH="1">
              <a:off x="2123640" y="198900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042920" y="1844640"/>
              <a:ext cx="1152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Diseñar diámetro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2" name=""/>
          <p:cNvGrpSpPr/>
          <p:nvPr/>
        </p:nvGrpSpPr>
        <p:grpSpPr>
          <a:xfrm>
            <a:off x="973080" y="2133720"/>
            <a:ext cx="1510920" cy="287280"/>
            <a:chOff x="973080" y="2133720"/>
            <a:chExt cx="1510920" cy="287280"/>
          </a:xfrm>
        </p:grpSpPr>
        <p:sp>
          <p:nvSpPr>
            <p:cNvPr id="243" name=""/>
            <p:cNvSpPr/>
            <p:nvPr/>
          </p:nvSpPr>
          <p:spPr>
            <a:xfrm rot="10800000">
              <a:off x="2123640" y="2133720"/>
              <a:ext cx="360360" cy="287280"/>
            </a:xfrm>
            <a:prstGeom prst="rightArrow">
              <a:avLst>
                <a:gd name="adj1" fmla="val 50000"/>
                <a:gd name="adj2" fmla="val 31360"/>
              </a:avLst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973080" y="21337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Diseñar pendien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794880" y="2708280"/>
            <a:ext cx="773748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Ejemplo de Apl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" descr=""/>
          <p:cNvPicPr/>
          <p:nvPr/>
        </p:nvPicPr>
        <p:blipFill>
          <a:blip r:embed="rId1"/>
          <a:stretch/>
        </p:blipFill>
        <p:spPr>
          <a:xfrm>
            <a:off x="611280" y="260280"/>
            <a:ext cx="8099280" cy="585144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4932360" y="2205000"/>
            <a:ext cx="2519280" cy="1465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Se consideraron las áreas aportantes y pendientes, correspondientes al ejercicio 1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971640" y="2205000"/>
            <a:ext cx="1871640" cy="15130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CONDICION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i : 200 mm/h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T</a:t>
            </a:r>
            <a:r>
              <a:rPr b="0" lang="es-ES" sz="1600" spc="-1" strike="noStrike" baseline="-25000">
                <a:solidFill>
                  <a:srgbClr val="0000ff"/>
                </a:solidFill>
                <a:latin typeface="Arial"/>
              </a:rPr>
              <a:t>c</a:t>
            </a: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: 10 m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ff"/>
                </a:solidFill>
                <a:latin typeface="Arial"/>
              </a:rPr>
              <a:t>L: 50 y 100 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979640" y="4292640"/>
            <a:ext cx="4176720" cy="7855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Material ductos: P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ff"/>
                </a:solidFill>
                <a:latin typeface="Arial"/>
              </a:rPr>
              <a:t>n:0.010 (recomendado por softwa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rot="5400000">
            <a:off x="2015640" y="1015560"/>
            <a:ext cx="2016360" cy="1800360"/>
          </a:xfrm>
          <a:prstGeom prst="leftArrowCallout">
            <a:avLst>
              <a:gd name="adj1" fmla="val 25002"/>
              <a:gd name="adj2" fmla="val 25000"/>
              <a:gd name="adj3" fmla="val 18666"/>
              <a:gd name="adj4" fmla="val 66673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orrer progra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03360" y="274680"/>
            <a:ext cx="7937280" cy="5851440"/>
          </a:xfrm>
          <a:prstGeom prst="rect">
            <a:avLst/>
          </a:prstGeom>
          <a:ln w="0">
            <a:noFill/>
          </a:ln>
        </p:spPr>
      </p:pic>
      <p:sp>
        <p:nvSpPr>
          <p:cNvPr id="252" name=""/>
          <p:cNvSpPr/>
          <p:nvPr/>
        </p:nvSpPr>
        <p:spPr>
          <a:xfrm>
            <a:off x="2411280" y="2131920"/>
            <a:ext cx="2376720" cy="649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340000" y="2635200"/>
            <a:ext cx="3311640" cy="86508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2268360" y="3500280"/>
            <a:ext cx="3024360" cy="8654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419640" y="0"/>
            <a:ext cx="5724360" cy="3735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0" y="3184560"/>
            <a:ext cx="4897440" cy="36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" descr=""/>
          <p:cNvPicPr/>
          <p:nvPr/>
        </p:nvPicPr>
        <p:blipFill>
          <a:blip r:embed="rId1"/>
          <a:stretch/>
        </p:blipFill>
        <p:spPr>
          <a:xfrm>
            <a:off x="574560" y="274680"/>
            <a:ext cx="7994880" cy="58514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3780000" y="2133720"/>
            <a:ext cx="7221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 rot="5400000">
            <a:off x="2302920" y="1088640"/>
            <a:ext cx="2016360" cy="1800360"/>
          </a:xfrm>
          <a:prstGeom prst="leftArrowCallout">
            <a:avLst>
              <a:gd name="adj1" fmla="val 25002"/>
              <a:gd name="adj2" fmla="val 25000"/>
              <a:gd name="adj3" fmla="val 18666"/>
              <a:gd name="adj4" fmla="val 66673"/>
            </a:avLst>
          </a:prstGeom>
          <a:solidFill>
            <a:srgbClr val="ff3300"/>
          </a:solidFill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Ver Tablas c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del progra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55640" y="260280"/>
            <a:ext cx="8107200" cy="5851440"/>
          </a:xfrm>
          <a:prstGeom prst="rect">
            <a:avLst/>
          </a:prstGeom>
          <a:ln w="0">
            <a:noFill/>
          </a:ln>
        </p:spPr>
      </p:pic>
      <p:grpSp>
        <p:nvGrpSpPr>
          <p:cNvPr id="259" name=""/>
          <p:cNvGrpSpPr/>
          <p:nvPr/>
        </p:nvGrpSpPr>
        <p:grpSpPr>
          <a:xfrm>
            <a:off x="6084360" y="2924280"/>
            <a:ext cx="3059640" cy="368280"/>
            <a:chOff x="6084360" y="2924280"/>
            <a:chExt cx="3059640" cy="368280"/>
          </a:xfrm>
        </p:grpSpPr>
        <p:sp>
          <p:nvSpPr>
            <p:cNvPr id="260" name=""/>
            <p:cNvSpPr/>
            <p:nvPr/>
          </p:nvSpPr>
          <p:spPr>
            <a:xfrm flipH="1">
              <a:off x="6084360" y="3068640"/>
              <a:ext cx="863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948360" y="2924280"/>
              <a:ext cx="219564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Arial"/>
                </a:rPr>
                <a:t>Editar tabla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50920" y="476280"/>
            <a:ext cx="8675640" cy="246528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250920" y="3357720"/>
            <a:ext cx="439236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593640" y="274680"/>
            <a:ext cx="7954920" cy="585144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4788000" y="3284640"/>
            <a:ext cx="790560" cy="647640"/>
          </a:xfrm>
          <a:prstGeom prst="ellipse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593640" y="274680"/>
            <a:ext cx="795492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353844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Arial"/>
              </a:rPr>
              <a:t>Modelación numér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53844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Parametrizar el problema y caracterizar la r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Conocer las limitaciones del mode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Imprescindible visitas a terren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4032360" y="-27000"/>
            <a:ext cx="6948360" cy="690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3995640" y="0"/>
            <a:ext cx="5256360" cy="6885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339408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R CRÍTIC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odelos numér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7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Modelos comerciales por lo general entregan una solución, no siempre es correc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3635280" y="2924280"/>
            <a:ext cx="4888080" cy="36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13T18:53:00Z</dcterms:created>
  <dc:creator>Julio Aguirre</dc:creator>
  <dc:description/>
  <dc:language>en-US</dc:language>
  <cp:lastModifiedBy>KOSLAN S.A</cp:lastModifiedBy>
  <dcterms:modified xsi:type="dcterms:W3CDTF">2006-08-29T16:03:43Z</dcterms:modified>
  <cp:revision>29</cp:revision>
  <dc:subject/>
  <dc:title>HEC-RAS CURSO BÁSICO</dc:title>
</cp:coreProperties>
</file>