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2.jpeg" ContentType="image/jpeg"/>
  <Override PartName="/ppt/media/image21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32.jpeg" ContentType="image/jpeg"/>
  <Override PartName="/ppt/media/image25.jpeg" ContentType="image/jpeg"/>
  <Override PartName="/ppt/media/image4.jpeg" ContentType="image/jpeg"/>
  <Override PartName="/ppt/media/image31.jpeg" ContentType="image/jpeg"/>
  <Override PartName="/ppt/media/image10.wmf" ContentType="image/x-wmf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8.jpeg" ContentType="image/jpeg"/>
  <Override PartName="/ppt/media/image35.jpeg" ContentType="image/jpeg"/>
  <Override PartName="/ppt/media/image13.jpeg" ContentType="image/jpeg"/>
  <Override PartName="/ppt/media/image30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wmf" ContentType="image/x-wmf"/>
  <Override PartName="/ppt/media/image5.jpeg" ContentType="image/jpeg"/>
  <Override PartName="/ppt/media/image26.jpeg" ContentType="image/jpeg"/>
  <Override PartName="/ppt/media/image3.png" ContentType="image/png"/>
  <Override PartName="/ppt/media/image20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wmf" ContentType="image/x-wmf"/>
  <Override PartName="/ppt/media/image15.jpeg" ContentType="image/jpeg"/>
  <Override PartName="/ppt/media/image1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AC48-1904-45C4-872D-19B3AB3EF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D6AB-9B51-4E40-92B6-98F412074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7170-F6FF-4FBC-AC95-ECD8DF44C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C9CA-153E-44ED-80FD-C02E74FFE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8BC6-52AB-40D4-98D3-5E9D9C78D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1995-5950-4AF4-82E8-546920D8A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0DB3-CB88-4372-B23A-98F8B4843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ED3A-F661-4DC5-89B9-8E64EEBA4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E77A-AE97-4B1F-B05B-5E11DDA27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FE8F-DBC1-4A3D-83F5-90537D8E6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E200-B836-4BA7-AF6E-57399140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3601-3496-4E26-8A0D-A8486E22B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88B34-6BE1-407C-A02A-CB41E9C10B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4400" y="0"/>
            <a:ext cx="342720" cy="7081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39528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26920" y="227628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I66B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Modelos numéricos y uso de Softwares hidrául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HEC-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EC-RAS: Modelo del US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AS: River Analysis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EC: Hydrologic Engineering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programa realiza cálculos hidráulicos unidimensionales para redes hídricas ya sea naturales o construid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¿Que hace HEC-R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nálisis hidrául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égimen Perman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égimen Imperman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ransporte de Sedimentos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rabaja en forma modulada, a través de archivos “planes” se ligan los distintos modulos. Esto da gran flexibilidad a la model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porte de result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Gráf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ab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odelo uni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24000" y="2421000"/>
            <a:ext cx="3743280" cy="2808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308560" y="2133720"/>
            <a:ext cx="3324240" cy="345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4500720" y="3429000"/>
            <a:ext cx="431640" cy="504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516720" y="2349360"/>
            <a:ext cx="1008000" cy="28764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ecciones Transvers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560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lujo perpendicular a la se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álculos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SOL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en secci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Geometría para definir áreas de flujo y perímetro moj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50920" y="2205000"/>
            <a:ext cx="3889440" cy="3208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Datos necesar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objetivo principal del programa HEC-RAS es calcular alturas de agua en todas las localidades de interés para determinados caudales. Los datos necesarios para realizar estos cómputos están divididos e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os Geométr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os de Flujo Perman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16000" y="5857920"/>
            <a:ext cx="727236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Datos geométricos se requieren en cualquier análisis realizado dentro de HEC-R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Datos geométr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quema de rí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orfología de la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ectividad entre cau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finición de puntos de interse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omenclatura (Cauces, tramos e interseccio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cciones transvers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opografía del cau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stancia entre se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ngularidad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eficientes de pérdida de ener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Datos de flujo perman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os datos de flujo permanente  necesarios para calcular el perfil de la superficie del agua. Son básicam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égimen del flu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ndiciones de bor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audales del sistem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Datos de flu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modelo realiza sus cálculos a partir de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una sección transversal con condiciones iniciales conocidas o supuestas y siguen aguas arriba para flujo subcrítico o aguas abajo para flujo supercrít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ara régimen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ubcrític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el modelo restringe como resultados correctos valores mayores a la altura crít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Datos de flu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ara régimen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upercrític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el modelo restringe como resultados correctos valores menores a la altura crít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n casos donde el régimen de flujo cambia de subcrítico a supercrítico, o viceversa, el usuario debe ejecutar el programa en modo de régimen de flujo mixt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Diseño Ingenie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imensionamiento de Ob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gún parámetros físico-económ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odelación de funcion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so en condiciones nomi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so en eventos extre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ndiciones de Bor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gún el régimen en que se encuentre el flujo, su comportamiento estará condicionado desde aguas arriba (torrente) o aguas abajo (río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ara régimen subcrítico (río) se requieren condiciones de borde en la ultima sección de aguas abaj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ndiciones de bor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ra régimen supercrítico (torrente) se requieren condiciones de borde en la primera sección de aguas arrib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ra régimen mixto, HEC-RAS necesita ambas condiciones de bor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cuación de Energ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tre una sección y otra, se resuelve la ecuación de energía (Bernoulli) para obtener las alturas de escurr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2843280" y="3117960"/>
                <a:ext cx="302400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468360" y="4149720"/>
            <a:ext cx="836604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ond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ltura de agua en las secciones transversales 1 y 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Z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ta de terreno las secciones transversales 1 y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elocidades promedio de la sec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, α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eficientes de ajuste de velocidades velocidad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celeración de la gravedad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érdida de car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cuación de Energ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6985080" cy="4162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érdid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pérdida de carga (h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) es considerada como la suma de la pérdida friccional entre dos secciones y la diferencia entre cargas de velocidad entre secciones ponderadas por un coeficiente de pérdida por contracción o expans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2987640" y="3500280"/>
                <a:ext cx="2735280" cy="8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L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C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684360" y="4365720"/>
            <a:ext cx="802800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  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rgo representativo del tramo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=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ndiente de fricción representativa entre dos secci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    =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eficiente de pérdida por expansión o contracció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3300"/>
                </a:solidFill>
                <a:latin typeface="Arial"/>
              </a:rPr>
              <a:t>L se calcula como la suma de las distancia entre las subsecciones (planicies laterales y canal principal) ponderadas por sus respectivos caudales promedios  y dividido por el caudal promedio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eficiente alf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ado que el modelo es unidimensional es necesario utilizar solo una altura de velocidad, este coeficiente compatibiliza las diferencias entre las alturas de velocidad de las distintas subsecci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define en función de las áreas de flujo y la capacidad de con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611280" y="3933720"/>
                <a:ext cx="3809880" cy="12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lob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lob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ch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ch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rob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219640" y="3789360"/>
            <a:ext cx="3492720" cy="1542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nducción o Transpor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91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define  la capacidad de conducción de una subsección como el caudal dividido por la raíz de la pérdida de carga, esto se introduce en la ecuación de Ma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4932360" y="3141720"/>
                <a:ext cx="226224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332000" y="2997360"/>
                <a:ext cx="1962000" cy="85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rad>
                      </m:den>
                    </m:f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684360" y="4365720"/>
            <a:ext cx="800100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146240"/>
                <a:tab algn="l" pos="1596960"/>
                <a:tab algn="l" pos="1944720"/>
                <a:tab algn="l" pos="2235240"/>
                <a:tab algn="l" pos="2293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46240"/>
                <a:tab algn="l" pos="1596960"/>
                <a:tab algn="l" pos="1944720"/>
                <a:tab algn="l" pos="2235240"/>
                <a:tab algn="l" pos="2293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apacidad de transporte de una subdivisió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46240"/>
                <a:tab algn="l" pos="1596960"/>
                <a:tab algn="l" pos="1944720"/>
                <a:tab algn="l" pos="2235240"/>
                <a:tab algn="l" pos="2293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eficiente de  Manning de una subdivisió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46240"/>
                <a:tab algn="l" pos="1596960"/>
                <a:tab algn="l" pos="1944720"/>
                <a:tab algn="l" pos="2235240"/>
                <a:tab algn="l" pos="2293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área de flujo de una subdivisió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46240"/>
                <a:tab algn="l" pos="1596960"/>
                <a:tab algn="l" pos="1944720"/>
                <a:tab algn="l" pos="2235240"/>
                <a:tab algn="l" pos="2293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adio hidráulico de una subdivisió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nducción o transpor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or defecto HEC-RAS considera subsecciones en donde existe variación del coeficiente de rugosidad de Manning, sin embargo, por compatibilidad con HEC-2 puede modificarse la definición de subsecciones en cada nodo del perfil (Estilo HEC-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conducción total de una sección será la suma de la conducción de las subse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340000" y="4076640"/>
            <a:ext cx="5040360" cy="2373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érdida fricc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62864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pérdida friccional se evalúa como la ponderación de la pendiente friccional representativa entre dos secciones por la distancia representativa L entre ell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619280" y="3716280"/>
                <a:ext cx="129384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Q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3564000" y="3933720"/>
                <a:ext cx="398304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Pérdida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friccional</m:t>
                          </m:r>
                        </m:e>
                      </m:mr>
                    </m:m>
                    <m:r>
                      <m:t xml:space="preserve">=</m:t>
                    </m:r>
                    <m:r>
                      <m:t xml:space="preserve">L·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S</m:t>
                            </m:r>
                          </m:e>
                        </m:ba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24000" y="5300640"/>
            <a:ext cx="85899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Para obtener la pendiente representativa HEC-RAS cuenta con cuatro métodos, por defecto utiliza el cuadrado de caudal total sobre la conducción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álcu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or defecto, HEC-RAS realiza 20 iter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caso de no encontrar una solución adecuada compara la altura crítica con el resultado de menor error de las iter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 concuerda con el régimen del problema y su error es menor a 10 cm el programa entrega este valo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caso de que no cumpla, HEC-RAS arrojará altura crítica en esa se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4797360"/>
            <a:ext cx="8229600" cy="23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Ninguna de las dos soluciones es la correcta, HEC-RAS está diseñado para terminar los cálculos de la modelación por lo que SIEMPRE debe revisar las advertencias que el software arroja y aplicar su criterio para cerciorarse que las soluciones son adecuad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aracterización de la rea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olución analí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implificación máxima primera aproxim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ormulas  empír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odelación  numé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odelación fís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Altura crí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altura crítica de una sección se define como el punto en que la energía (H) es míni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1116000" y="3068640"/>
                <a:ext cx="203508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r>
                      <m:t xml:space="preserve">Z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α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539640" y="5013360"/>
            <a:ext cx="82296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EC-RAS utiliza dos métodos iterativos para obtener dicha altura, el método “parabólico” (por defecto) y  el de “secante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572000" y="2781360"/>
            <a:ext cx="2938320" cy="1931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cuación de Moment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ando el flujo deja de ser  gradualmente variado, la ecuación de energía ya no es váli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s transiciones entre distintos regímenes (al pasar por crisis) no cumplen esta condi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cambio de régimen puede ocurrir por diversos motivos (cambios bruscos de pendiente, sección, obstáculos,  estructuras como puentes, alcantarillas, vertederos, etc) HEC-RAS alterna entre la aplicación de ecuaciones empíricas para estructuras especiales con un balance de fuerzas, o ecuación de Moment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cuación de Moment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4920" y="4149720"/>
            <a:ext cx="47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ond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: Presión hidrostática en la sección 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: Peso del agua en la dirección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: Fuerza de fri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Q: Caud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: Densidad del agu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: Cambio de velocidad de la sección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    2 a la 1en la dirección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484360" y="1484280"/>
            <a:ext cx="4032360" cy="2597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5219640" y="4724280"/>
                <a:ext cx="372276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Q·ρ·Δ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imitacio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lujo gradualmente variad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be cumplirse ley hidrostática de pres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pequeños tramos que es rápidamente variado utiliza ec. de moment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lujo unidimen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cciones SIEMPRE perpendiculares al flu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endientes menores a 1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ltura de presión es considerada igual a la cota de agu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rcRect l="15981" t="23531" r="18815" b="12197"/>
          <a:stretch/>
        </p:blipFill>
        <p:spPr>
          <a:xfrm>
            <a:off x="0" y="0"/>
            <a:ext cx="9144000" cy="675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15617" t="23531" r="18815" b="12197"/>
          <a:stretch/>
        </p:blipFill>
        <p:spPr>
          <a:xfrm>
            <a:off x="0" y="-27000"/>
            <a:ext cx="9180360" cy="674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390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TORMC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grama diseño red urbana de A.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ácil manej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mig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f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mpatibilidad con otros progra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utoC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RC/IN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oten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iseño de múltiples sistemas de aguas lluv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nálisis de distintos escenari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anejo de tormen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últiples análisis de resultad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Generación de reportes de buena c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Buena presentación gráfica de result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58880" y="263664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eoría detrás del progra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órmulas empír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uchas son empírico-analít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 su mayoría solución acot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Uso generalizado en dise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obredimension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229360"/>
            <a:ext cx="770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SEGÚN LA COMPLEJIDAD DEL PROBLEMA EN MUCHOS CASO BASTA CON SU USO PARA HACER UNA BUENA APROXIMACIÓN DEL PROBL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HIDROLOGIA</a:t>
            </a:r>
            <a:br>
              <a:rPr sz="4000"/>
            </a:br>
            <a:br>
              <a:rPr sz="4000"/>
            </a:b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udales de entr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560" y="227628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= Q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LL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LL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 Caudales A. Lluvia (Formula racion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 Caudales adicionales (no dependen necesariamente de la p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 Caudales constan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26920" y="333000"/>
            <a:ext cx="39276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Áreas aport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187280" y="1268280"/>
            <a:ext cx="5113440" cy="2492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2222640" y="4879800"/>
                <a:ext cx="3093840" cy="75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·A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·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900000" y="4005360"/>
            <a:ext cx="6516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mposición de áreas aport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Supuestos método rac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99640" y="162864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Áreas aportantes &lt; 120 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peak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ocurre cuando el total del área aportante contribuye a la escorrentí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tensidad de pp uniforme para un tiempo </a:t>
            </a: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al tiempo de concent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eficiente racional, independiente de la intensidad de la lluv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ntensidad de Lluv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3152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 través de tablas con valores conoc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ediante ecuaciones de ajuste a curvas ID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1703520" y="3790800"/>
                <a:ext cx="4037040" cy="21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a·R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·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c·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D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d·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D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HIDRÁUL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690264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cuación de Ener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álculo de Pérdidas Fricci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hez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Ku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arcy-Weisb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lebrook-Wh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azen-Willi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1407960" y="2235240"/>
                <a:ext cx="503424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γ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γ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Pérdidas Singula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érdidas en Uniones se evalúan c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étodo Absolu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Valor Fijo establecido por usu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étodo Están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actor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onderado por la energía y velo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étodo HEC-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milar a Estánd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actor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rregido por condiciones del flu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étodo AASH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Tipos de Sumideros (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7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ji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 Gu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mbin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 Ran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995640" y="1844640"/>
            <a:ext cx="4864320" cy="3544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116000" y="2060640"/>
            <a:ext cx="6969240" cy="4154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63" name=""/>
          <p:cNvSpPr/>
          <p:nvPr/>
        </p:nvSpPr>
        <p:spPr>
          <a:xfrm>
            <a:off x="673200" y="460440"/>
            <a:ext cx="838512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Geometría de Entrada en  Sumideros de  Gu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2708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Program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8142480" cy="5851440"/>
          </a:xfrm>
          <a:prstGeom prst="rect">
            <a:avLst/>
          </a:prstGeom>
          <a:ln w="0">
            <a:noFill/>
          </a:ln>
        </p:spPr>
      </p:pic>
      <p:grpSp>
        <p:nvGrpSpPr>
          <p:cNvPr id="166" name=""/>
          <p:cNvGrpSpPr/>
          <p:nvPr/>
        </p:nvGrpSpPr>
        <p:grpSpPr>
          <a:xfrm>
            <a:off x="468360" y="1557360"/>
            <a:ext cx="3814560" cy="663120"/>
            <a:chOff x="468360" y="1557360"/>
            <a:chExt cx="3814560" cy="663120"/>
          </a:xfrm>
        </p:grpSpPr>
        <p:grpSp>
          <p:nvGrpSpPr>
            <p:cNvPr id="167" name=""/>
            <p:cNvGrpSpPr/>
            <p:nvPr/>
          </p:nvGrpSpPr>
          <p:grpSpPr>
            <a:xfrm>
              <a:off x="468360" y="1557360"/>
              <a:ext cx="1511280" cy="360360"/>
              <a:chOff x="468360" y="1557360"/>
              <a:chExt cx="1511280" cy="360360"/>
            </a:xfrm>
          </p:grpSpPr>
          <p:sp>
            <p:nvSpPr>
              <p:cNvPr id="168" name=""/>
              <p:cNvSpPr/>
              <p:nvPr/>
            </p:nvSpPr>
            <p:spPr>
              <a:xfrm>
                <a:off x="468360" y="1557360"/>
                <a:ext cx="360360" cy="360360"/>
              </a:xfrm>
              <a:prstGeom prst="ellipse">
                <a:avLst/>
              </a:prstGeom>
              <a:noFill/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26920" y="1773360"/>
                <a:ext cx="115272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2050920" y="1700280"/>
              <a:ext cx="2232000" cy="520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ff"/>
                  </a:solidFill>
                  <a:latin typeface="Arial"/>
                </a:rPr>
                <a:t>Insertar elementos y unio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8360" y="1773360"/>
            <a:ext cx="4390920" cy="378360"/>
            <a:chOff x="468360" y="1773360"/>
            <a:chExt cx="4390920" cy="378360"/>
          </a:xfrm>
        </p:grpSpPr>
        <p:grpSp>
          <p:nvGrpSpPr>
            <p:cNvPr id="172" name=""/>
            <p:cNvGrpSpPr/>
            <p:nvPr/>
          </p:nvGrpSpPr>
          <p:grpSpPr>
            <a:xfrm>
              <a:off x="468360" y="1773360"/>
              <a:ext cx="1511280" cy="360360"/>
              <a:chOff x="468360" y="1773360"/>
              <a:chExt cx="1511280" cy="360360"/>
            </a:xfrm>
          </p:grpSpPr>
          <p:sp>
            <p:nvSpPr>
              <p:cNvPr id="173" name=""/>
              <p:cNvSpPr/>
              <p:nvPr/>
            </p:nvSpPr>
            <p:spPr>
              <a:xfrm>
                <a:off x="468360" y="1773360"/>
                <a:ext cx="360360" cy="360360"/>
              </a:xfrm>
              <a:prstGeom prst="ellipse">
                <a:avLst/>
              </a:prstGeom>
              <a:noFill/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26920" y="1989360"/>
                <a:ext cx="115272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2052720" y="1844640"/>
              <a:ext cx="2806560" cy="307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ff"/>
                  </a:solidFill>
                  <a:latin typeface="Arial"/>
                </a:rPr>
                <a:t>Insertar Sumideros (entrada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468360" y="1974960"/>
            <a:ext cx="4319640" cy="374400"/>
            <a:chOff x="468360" y="1974960"/>
            <a:chExt cx="4319640" cy="374400"/>
          </a:xfrm>
        </p:grpSpPr>
        <p:grpSp>
          <p:nvGrpSpPr>
            <p:cNvPr id="177" name=""/>
            <p:cNvGrpSpPr/>
            <p:nvPr/>
          </p:nvGrpSpPr>
          <p:grpSpPr>
            <a:xfrm>
              <a:off x="468360" y="1989000"/>
              <a:ext cx="1511280" cy="360360"/>
              <a:chOff x="468360" y="1989000"/>
              <a:chExt cx="1511280" cy="360360"/>
            </a:xfrm>
          </p:grpSpPr>
          <p:sp>
            <p:nvSpPr>
              <p:cNvPr id="178" name=""/>
              <p:cNvSpPr/>
              <p:nvPr/>
            </p:nvSpPr>
            <p:spPr>
              <a:xfrm>
                <a:off x="468360" y="1989000"/>
                <a:ext cx="360360" cy="360360"/>
              </a:xfrm>
              <a:prstGeom prst="ellipse">
                <a:avLst/>
              </a:prstGeom>
              <a:noFill/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26920" y="2205000"/>
                <a:ext cx="115272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>
              <a:off x="2050920" y="1974960"/>
              <a:ext cx="2737080" cy="307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ff"/>
                  </a:solidFill>
                  <a:latin typeface="Arial"/>
                </a:rPr>
                <a:t>Insertar unio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468360" y="2190600"/>
            <a:ext cx="4319640" cy="374760"/>
            <a:chOff x="468360" y="2190600"/>
            <a:chExt cx="4319640" cy="374760"/>
          </a:xfrm>
        </p:grpSpPr>
        <p:grpSp>
          <p:nvGrpSpPr>
            <p:cNvPr id="182" name=""/>
            <p:cNvGrpSpPr/>
            <p:nvPr/>
          </p:nvGrpSpPr>
          <p:grpSpPr>
            <a:xfrm>
              <a:off x="468360" y="2205000"/>
              <a:ext cx="1511280" cy="360360"/>
              <a:chOff x="468360" y="2205000"/>
              <a:chExt cx="1511280" cy="360360"/>
            </a:xfrm>
          </p:grpSpPr>
          <p:sp>
            <p:nvSpPr>
              <p:cNvPr id="183" name=""/>
              <p:cNvSpPr/>
              <p:nvPr/>
            </p:nvSpPr>
            <p:spPr>
              <a:xfrm>
                <a:off x="468360" y="2205000"/>
                <a:ext cx="360360" cy="360360"/>
              </a:xfrm>
              <a:prstGeom prst="ellipse">
                <a:avLst/>
              </a:prstGeom>
              <a:noFill/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26920" y="2421000"/>
                <a:ext cx="115272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2050920" y="2190600"/>
              <a:ext cx="2737080" cy="307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ff"/>
                  </a:solidFill>
                  <a:latin typeface="Arial"/>
                </a:rPr>
                <a:t>Insertar Salid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468360" y="2421000"/>
            <a:ext cx="4319640" cy="362520"/>
            <a:chOff x="468360" y="2421000"/>
            <a:chExt cx="4319640" cy="362520"/>
          </a:xfrm>
        </p:grpSpPr>
        <p:grpSp>
          <p:nvGrpSpPr>
            <p:cNvPr id="187" name=""/>
            <p:cNvGrpSpPr/>
            <p:nvPr/>
          </p:nvGrpSpPr>
          <p:grpSpPr>
            <a:xfrm>
              <a:off x="468360" y="2421000"/>
              <a:ext cx="1511280" cy="360360"/>
              <a:chOff x="468360" y="2421000"/>
              <a:chExt cx="1511280" cy="360360"/>
            </a:xfrm>
          </p:grpSpPr>
          <p:sp>
            <p:nvSpPr>
              <p:cNvPr id="188" name=""/>
              <p:cNvSpPr/>
              <p:nvPr/>
            </p:nvSpPr>
            <p:spPr>
              <a:xfrm>
                <a:off x="468360" y="2421000"/>
                <a:ext cx="360360" cy="360360"/>
              </a:xfrm>
              <a:prstGeom prst="ellipse">
                <a:avLst/>
              </a:prstGeom>
              <a:noFill/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26920" y="2637000"/>
                <a:ext cx="115272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2050920" y="2476440"/>
              <a:ext cx="2737080" cy="307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ff"/>
                  </a:solidFill>
                  <a:latin typeface="Arial"/>
                </a:rPr>
                <a:t>Insertar texto, líneas, et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9760" y="260280"/>
            <a:ext cx="404316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odelos fís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890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poyo en solución de problemas complejos, requiere además apoyo de modelos numér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716360" y="-27000"/>
            <a:ext cx="4842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600120" y="274680"/>
            <a:ext cx="7942320" cy="5851440"/>
          </a:xfrm>
          <a:prstGeom prst="rect">
            <a:avLst/>
          </a:prstGeom>
          <a:ln w="0">
            <a:noFill/>
          </a:ln>
        </p:spPr>
      </p:pic>
      <p:grpSp>
        <p:nvGrpSpPr>
          <p:cNvPr id="192" name=""/>
          <p:cNvGrpSpPr/>
          <p:nvPr/>
        </p:nvGrpSpPr>
        <p:grpSpPr>
          <a:xfrm>
            <a:off x="2052720" y="2125800"/>
            <a:ext cx="5759280" cy="2432520"/>
            <a:chOff x="2052720" y="2125800"/>
            <a:chExt cx="5759280" cy="2432520"/>
          </a:xfrm>
        </p:grpSpPr>
        <p:grpSp>
          <p:nvGrpSpPr>
            <p:cNvPr id="193" name=""/>
            <p:cNvGrpSpPr/>
            <p:nvPr/>
          </p:nvGrpSpPr>
          <p:grpSpPr>
            <a:xfrm>
              <a:off x="4429080" y="2125800"/>
              <a:ext cx="3382920" cy="368280"/>
              <a:chOff x="4429080" y="2125800"/>
              <a:chExt cx="3382920" cy="36828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4429080" y="2133720"/>
                <a:ext cx="1511280" cy="360360"/>
                <a:chOff x="4429080" y="2133720"/>
                <a:chExt cx="1511280" cy="360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4429080" y="2133720"/>
                  <a:ext cx="360360" cy="36036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4787640" y="2349720"/>
                  <a:ext cx="1152720" cy="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84720" y="2125800"/>
                <a:ext cx="1727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ffffff"/>
                    </a:solidFill>
                    <a:latin typeface="Arial"/>
                  </a:rPr>
                  <a:t>Entrada (inle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2052720" y="3164040"/>
              <a:ext cx="2445840" cy="337320"/>
              <a:chOff x="2052720" y="3164040"/>
              <a:chExt cx="2445840" cy="337320"/>
            </a:xfrm>
          </p:grpSpPr>
          <p:sp>
            <p:nvSpPr>
              <p:cNvPr id="199" name=""/>
              <p:cNvSpPr/>
              <p:nvPr/>
            </p:nvSpPr>
            <p:spPr>
              <a:xfrm flipH="1">
                <a:off x="3347640" y="3357720"/>
                <a:ext cx="115092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052720" y="3164040"/>
                <a:ext cx="1727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ffffff"/>
                    </a:solidFill>
                    <a:latin typeface="Arial"/>
                  </a:rPr>
                  <a:t>Ducto (pipe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4427640" y="4148280"/>
              <a:ext cx="3311280" cy="410040"/>
              <a:chOff x="4427640" y="4148280"/>
              <a:chExt cx="3311280" cy="41004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4427640" y="4148280"/>
                <a:ext cx="1511280" cy="360360"/>
                <a:chOff x="4427640" y="4148280"/>
                <a:chExt cx="1511280" cy="36036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4427640" y="4148280"/>
                  <a:ext cx="360360" cy="36036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4786200" y="4364280"/>
                  <a:ext cx="1152720" cy="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6012000" y="4221000"/>
                <a:ext cx="1726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ffffff"/>
                    </a:solidFill>
                    <a:latin typeface="Arial"/>
                  </a:rPr>
                  <a:t>Salida (outle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6" name=""/>
          <p:cNvSpPr/>
          <p:nvPr/>
        </p:nvSpPr>
        <p:spPr>
          <a:xfrm>
            <a:off x="2843280" y="2708280"/>
            <a:ext cx="396072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Para acceder a los menús de propiedades de cada uno de los elementos, basta con hacer doble click sobre el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581040" y="169920"/>
            <a:ext cx="8139240" cy="585144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2627280" y="1989000"/>
            <a:ext cx="3603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608040" y="274680"/>
            <a:ext cx="7926480" cy="5851440"/>
          </a:xfrm>
          <a:prstGeom prst="rect">
            <a:avLst/>
          </a:prstGeom>
          <a:ln w="0">
            <a:noFill/>
          </a:ln>
        </p:spPr>
      </p:pic>
      <p:grpSp>
        <p:nvGrpSpPr>
          <p:cNvPr id="210" name=""/>
          <p:cNvGrpSpPr/>
          <p:nvPr/>
        </p:nvGrpSpPr>
        <p:grpSpPr>
          <a:xfrm>
            <a:off x="395280" y="2349360"/>
            <a:ext cx="3457440" cy="2165040"/>
            <a:chOff x="395280" y="2349360"/>
            <a:chExt cx="3457440" cy="2165040"/>
          </a:xfrm>
        </p:grpSpPr>
        <p:sp>
          <p:nvSpPr>
            <p:cNvPr id="211" name=""/>
            <p:cNvSpPr/>
            <p:nvPr/>
          </p:nvSpPr>
          <p:spPr>
            <a:xfrm>
              <a:off x="2411280" y="2349360"/>
              <a:ext cx="1441440" cy="1152720"/>
            </a:xfrm>
            <a:prstGeom prst="ellipse">
              <a:avLst/>
            </a:prstGeom>
            <a:noFill/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2124000" y="3068640"/>
              <a:ext cx="287280" cy="2160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95280" y="3141720"/>
              <a:ext cx="1657440" cy="137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ff"/>
                  </a:solidFill>
                  <a:latin typeface="Arial"/>
                </a:rPr>
                <a:t>Posibilidad de ingresar mas de un area aportante con diferentes coeficientes de escorrentí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40360" y="1916280"/>
            <a:ext cx="3603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595440" y="274680"/>
            <a:ext cx="7951680" cy="585144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4643280" y="1916280"/>
            <a:ext cx="2890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340000" y="1916280"/>
            <a:ext cx="2376360" cy="6490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268360" y="2349360"/>
            <a:ext cx="2376720" cy="93672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268360" y="3141720"/>
            <a:ext cx="2376720" cy="122400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69880" y="274680"/>
            <a:ext cx="8004240" cy="58514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4356000" y="1916280"/>
            <a:ext cx="2890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5724360" y="3573360"/>
            <a:ext cx="2735280" cy="1727280"/>
            <a:chOff x="5724360" y="3573360"/>
            <a:chExt cx="2735280" cy="1727280"/>
          </a:xfrm>
        </p:grpSpPr>
        <p:grpSp>
          <p:nvGrpSpPr>
            <p:cNvPr id="223" name=""/>
            <p:cNvGrpSpPr/>
            <p:nvPr/>
          </p:nvGrpSpPr>
          <p:grpSpPr>
            <a:xfrm>
              <a:off x="5724360" y="4292280"/>
              <a:ext cx="1511640" cy="1008360"/>
              <a:chOff x="5724360" y="4292280"/>
              <a:chExt cx="1511640" cy="1008360"/>
            </a:xfrm>
          </p:grpSpPr>
          <p:sp>
            <p:nvSpPr>
              <p:cNvPr id="224" name=""/>
              <p:cNvSpPr/>
              <p:nvPr/>
            </p:nvSpPr>
            <p:spPr>
              <a:xfrm>
                <a:off x="5724360" y="4653000"/>
                <a:ext cx="1295640" cy="647640"/>
              </a:xfrm>
              <a:prstGeom prst="ellipse">
                <a:avLst/>
              </a:prstGeom>
              <a:noFill/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V="1">
                <a:off x="6659640" y="4292280"/>
                <a:ext cx="576360" cy="4316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>
              <a:off x="7236000" y="3573360"/>
              <a:ext cx="1223640" cy="146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Link hacia menu del ducto aguas abaj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606600" y="274680"/>
            <a:ext cx="7930800" cy="5851440"/>
          </a:xfrm>
          <a:prstGeom prst="rect">
            <a:avLst/>
          </a:prstGeom>
          <a:ln w="0">
            <a:noFill/>
          </a:ln>
        </p:spPr>
      </p:pic>
      <p:grpSp>
        <p:nvGrpSpPr>
          <p:cNvPr id="228" name=""/>
          <p:cNvGrpSpPr/>
          <p:nvPr/>
        </p:nvGrpSpPr>
        <p:grpSpPr>
          <a:xfrm>
            <a:off x="4572000" y="1628640"/>
            <a:ext cx="4392720" cy="2864520"/>
            <a:chOff x="4572000" y="1628640"/>
            <a:chExt cx="4392720" cy="2864520"/>
          </a:xfrm>
        </p:grpSpPr>
        <p:sp>
          <p:nvSpPr>
            <p:cNvPr id="229" name=""/>
            <p:cNvSpPr/>
            <p:nvPr/>
          </p:nvSpPr>
          <p:spPr>
            <a:xfrm>
              <a:off x="4572000" y="1628640"/>
              <a:ext cx="2160720" cy="136872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6659640" y="1773360"/>
              <a:ext cx="649080" cy="287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380360" y="1628640"/>
              <a:ext cx="1584360" cy="2864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ff"/>
                  </a:solidFill>
                  <a:latin typeface="Arial"/>
                </a:rPr>
                <a:t>En Scaled, el programa adopta largos y ángulos correspondientes a la escala, útil si se trabaja sobre plano de autocad, en Schematic es necesario ingresar largos y angulos (c/r a ducto siguient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484360" y="1916280"/>
            <a:ext cx="2890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603360" y="274680"/>
            <a:ext cx="7937280" cy="58514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3348000" y="1916280"/>
            <a:ext cx="3603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4500720" y="1700280"/>
            <a:ext cx="4392360" cy="1800000"/>
            <a:chOff x="4500720" y="1700280"/>
            <a:chExt cx="4392360" cy="1800000"/>
          </a:xfrm>
        </p:grpSpPr>
        <p:sp>
          <p:nvSpPr>
            <p:cNvPr id="236" name=""/>
            <p:cNvSpPr/>
            <p:nvPr/>
          </p:nvSpPr>
          <p:spPr>
            <a:xfrm>
              <a:off x="4500720" y="1700280"/>
              <a:ext cx="2160360" cy="18000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6588000" y="1844640"/>
              <a:ext cx="649440" cy="37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308720" y="1700280"/>
              <a:ext cx="1584360" cy="52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ff"/>
                  </a:solidFill>
                  <a:latin typeface="Arial"/>
                </a:rPr>
                <a:t>Restricciones del duc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1042920" y="1844640"/>
            <a:ext cx="1441080" cy="246240"/>
            <a:chOff x="1042920" y="1844640"/>
            <a:chExt cx="1441080" cy="246240"/>
          </a:xfrm>
        </p:grpSpPr>
        <p:sp>
          <p:nvSpPr>
            <p:cNvPr id="240" name=""/>
            <p:cNvSpPr/>
            <p:nvPr/>
          </p:nvSpPr>
          <p:spPr>
            <a:xfrm flipH="1">
              <a:off x="2123640" y="1989000"/>
              <a:ext cx="360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042920" y="1844640"/>
              <a:ext cx="1152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Diseñar diámetr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973080" y="2133720"/>
            <a:ext cx="1510920" cy="287280"/>
            <a:chOff x="973080" y="2133720"/>
            <a:chExt cx="1510920" cy="287280"/>
          </a:xfrm>
        </p:grpSpPr>
        <p:sp>
          <p:nvSpPr>
            <p:cNvPr id="243" name=""/>
            <p:cNvSpPr/>
            <p:nvPr/>
          </p:nvSpPr>
          <p:spPr>
            <a:xfrm rot="10800000">
              <a:off x="2123640" y="2133720"/>
              <a:ext cx="360360" cy="287280"/>
            </a:xfrm>
            <a:prstGeom prst="rightArrow">
              <a:avLst>
                <a:gd name="adj1" fmla="val 50000"/>
                <a:gd name="adj2" fmla="val 3136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973080" y="2133720"/>
              <a:ext cx="12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Diseñar pendien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94880" y="2708280"/>
            <a:ext cx="77374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jemplo de Aplic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8099280" cy="585144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4932360" y="2205000"/>
            <a:ext cx="2519280" cy="1465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Se consideraron las áreas aportantes y pendientes, correspondientes al ejercicio 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971640" y="2205000"/>
            <a:ext cx="1871640" cy="1513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CONDICION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ff"/>
                </a:solidFill>
                <a:latin typeface="Arial"/>
              </a:rPr>
              <a:t>i : 200 mm/h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0" lang="es-ES" sz="1600" spc="-1" strike="noStrike" baseline="-25000">
                <a:solidFill>
                  <a:srgbClr val="0000ff"/>
                </a:solidFill>
                <a:latin typeface="Arial"/>
              </a:rPr>
              <a:t>c</a:t>
            </a:r>
            <a:r>
              <a:rPr b="0" lang="es-ES" sz="1600" spc="-1" strike="noStrike">
                <a:solidFill>
                  <a:srgbClr val="0000ff"/>
                </a:solidFill>
                <a:latin typeface="Arial"/>
              </a:rPr>
              <a:t>: 10 m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ff"/>
                </a:solidFill>
                <a:latin typeface="Arial"/>
              </a:rPr>
              <a:t>L: 50 y 100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979640" y="4292640"/>
            <a:ext cx="4176720" cy="785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Material ductos: P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n:0.010 (recomendado por softwa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rot="5400000">
            <a:off x="2015640" y="1015560"/>
            <a:ext cx="2016360" cy="1800360"/>
          </a:xfrm>
          <a:prstGeom prst="leftArrowCallout">
            <a:avLst>
              <a:gd name="adj1" fmla="val 25002"/>
              <a:gd name="adj2" fmla="val 25000"/>
              <a:gd name="adj3" fmla="val 18666"/>
              <a:gd name="adj4" fmla="val 66673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rrer pro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603360" y="274680"/>
            <a:ext cx="7937280" cy="585144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2411280" y="2131920"/>
            <a:ext cx="2376720" cy="64944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340000" y="2635200"/>
            <a:ext cx="3311640" cy="8650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68360" y="3500280"/>
            <a:ext cx="3024360" cy="86544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419640" y="0"/>
            <a:ext cx="5724360" cy="3735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3184560"/>
            <a:ext cx="489744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574560" y="274680"/>
            <a:ext cx="7994880" cy="585144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3780000" y="2133720"/>
            <a:ext cx="7221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rot="5400000">
            <a:off x="2302920" y="1088640"/>
            <a:ext cx="2016360" cy="1800360"/>
          </a:xfrm>
          <a:prstGeom prst="leftArrowCallout">
            <a:avLst>
              <a:gd name="adj1" fmla="val 25002"/>
              <a:gd name="adj2" fmla="val 25000"/>
              <a:gd name="adj3" fmla="val 18666"/>
              <a:gd name="adj4" fmla="val 66673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Ver Tablas c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l progra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8107200" cy="5851440"/>
          </a:xfrm>
          <a:prstGeom prst="rect">
            <a:avLst/>
          </a:prstGeom>
          <a:ln w="0">
            <a:noFill/>
          </a:ln>
        </p:spPr>
      </p:pic>
      <p:grpSp>
        <p:nvGrpSpPr>
          <p:cNvPr id="259" name=""/>
          <p:cNvGrpSpPr/>
          <p:nvPr/>
        </p:nvGrpSpPr>
        <p:grpSpPr>
          <a:xfrm>
            <a:off x="6084360" y="2924280"/>
            <a:ext cx="3059640" cy="368280"/>
            <a:chOff x="6084360" y="2924280"/>
            <a:chExt cx="3059640" cy="368280"/>
          </a:xfrm>
        </p:grpSpPr>
        <p:sp>
          <p:nvSpPr>
            <p:cNvPr id="260" name=""/>
            <p:cNvSpPr/>
            <p:nvPr/>
          </p:nvSpPr>
          <p:spPr>
            <a:xfrm flipH="1">
              <a:off x="6084360" y="3068640"/>
              <a:ext cx="863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948360" y="2924280"/>
              <a:ext cx="21956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Editar tabl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675640" cy="2465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250920" y="3357720"/>
            <a:ext cx="4392360" cy="25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593640" y="274680"/>
            <a:ext cx="7954920" cy="585144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4788000" y="3284640"/>
            <a:ext cx="790560" cy="64764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593640" y="274680"/>
            <a:ext cx="795492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35384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Modelación numér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538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arametrizar el problema y caracterizar la re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ocer las limitaciones del mode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mprescindible visitas a terr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032360" y="-27000"/>
            <a:ext cx="6948360" cy="69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995640" y="0"/>
            <a:ext cx="5256360" cy="6885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3394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R CRÍ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odelos numér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odelos comerciales por lo general entregan una solución, no siempre es correc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635280" y="2924280"/>
            <a:ext cx="4888080" cy="36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3T18:53:00Z</dcterms:created>
  <dc:creator>Julio Aguirre</dc:creator>
  <dc:description/>
  <dc:language>en-US</dc:language>
  <cp:lastModifiedBy>KOSLAN S.A</cp:lastModifiedBy>
  <dcterms:modified xsi:type="dcterms:W3CDTF">2006-08-29T16:03:43Z</dcterms:modified>
  <cp:revision>29</cp:revision>
  <dc:subject/>
  <dc:title>HEC-RAS CURSO BÁSICO</dc:title>
</cp:coreProperties>
</file>