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wmf" ContentType="image/x-wmf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DEB-5030-4E35-B59D-F40B3FF0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7D1-B45E-450D-B7DE-51C1235D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356-A55F-417B-B5AB-CE39BB1D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FF7-1AD7-471F-B02E-96A25A84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4B2-67DA-4793-9960-8ACF8B4C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48F-D49F-4183-8977-45CAB7B2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F36-0E39-4D86-8AAD-0F30FD6C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17C-9377-4981-B9EC-4140AD2E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74C-8A28-4D06-B51D-4C9452E9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68A-BF67-4EA2-895C-6AD0D51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976-045F-456F-88BD-F4607232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B66-5D25-4255-BB02-CC4205D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7D51-153B-4D95-A969-527F32181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0"/>
            <a:ext cx="342720" cy="708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I66B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os numéricos y uso de Software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C-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C-RAS: Modelo del US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S: River Analys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C: Hydrologic Engineer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ograma realiza cálculos hidráulicos unidimensionales para redes hídricas ya sea naturales o constru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e hace HEC-R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hidráu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égimen Im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de Sedimento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 en forma modulada, a través de archivos “planes” se ligan los distintos modulos. Esto da gran flexibilidad a la mode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orte de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uni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08560" y="2133720"/>
            <a:ext cx="332424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4500720" y="3429000"/>
            <a:ext cx="43164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2349360"/>
            <a:ext cx="1008000" cy="287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ciones Transver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perpendicular a la s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álcu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SO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ometría para definir áreas de flujo y perímetro moj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889440" cy="32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objetivo principal del programa HEC-RAS es calcular alturas de agua en todas las localidades de interés para determinados caudales. Los datos necesarios para realizar estos cómputos están divididos e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Geomé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de Fluj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5857920"/>
            <a:ext cx="7272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Datos geométricos se requieren en cualquier análisis realizado dentro de HEC-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geomé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de rí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fología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ectividad entr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ción de puntos de inter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enclatura (Cauces, tramos e intersec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cciones transver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pografía del c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ancia entre s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gular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eficientes de pérdid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 perman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s datos de flujo permanente  necesarios para calcular el perfil de la superficie del agua. Son bás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égimen del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udales del sistem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modelo realiza sus cálculos a partir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sección transversal con condiciones iniciales conocidas o supuestas y siguen aguas arriba para flujo subcrítico o aguas abajo para flujo supercr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régime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bcrí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 modelo restringe como resultados correctos valores mayores a la altura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régime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rí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 modelo restringe como resultados correctos valores menores a la altura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casos donde el régimen de flujo cambia de subcrítico a supercrítico, o viceversa, el usuario debe ejecutar el programa en modo de régimen de flujo mix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eño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mensionamiento de 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parámetros físico-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o en condiciones nom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o en eventos ext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iciones de B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el régimen en que se encuentre el flujo, su comportamiento estará condicionado desde aguas arriba (torrente) o aguas abajo (rí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régimen subcrítico (río) se requieren condiciones de borde en la ultima sección de aguas 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iciones de b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régimen supercrítico (torrente) se requieren condiciones de borde en la primera sección de aguas arri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régimen mixto, HEC-RAS necesita ambas condiciones de bo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 una sección y otra, se resuelve la ecuación de energía (Bernoulli) para obtener las alturas de escur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843280" y="3117960"/>
                <a:ext cx="3024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8360" y="4149720"/>
            <a:ext cx="83660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ura de agua en las secciones transversales 1 y 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ta de terreno las secciones transversales 1 y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locidades promedio de la se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α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eficientes de ajuste de velocidades veloc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eleración de la grave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érdida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85080" cy="41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érdida de carga (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es considerada como la suma de la pérdida friccional entre dos secciones y la diferencia entre cargas de velocidad entre secciones ponderadas por un coeficiente de pérdida por contracción o expans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987640" y="3500280"/>
                <a:ext cx="2735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84360" y="4365720"/>
            <a:ext cx="802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rgo representativo del tram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=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ndiente de fricción representativa entre dos se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   =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eficiente de pérdida por expansión o contra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L se calcula como la suma de las distancia entre las subsecciones (planicies laterales y canal principal) ponderadas por sus respectivos caudales promedios  y dividido por el caudal promedio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eficiente al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do que el modelo es unidimensional es necesario utilizar solo una altura de velocidad, este coeficiente compatibiliza las diferencias entre las alturas de velocidad de las distintas subse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en función de las áreas de flujo y la capacidad de con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11280" y="3933720"/>
                <a:ext cx="3809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h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h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r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492720" cy="154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ucción o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 la capacidad de conducción de una subsección como el caudal dividido por la raíz de la pérdida de carga, esto se introduce en la ecuación de M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932360" y="3141720"/>
                <a:ext cx="2262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332000" y="2997360"/>
                <a:ext cx="196200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4360" y="4365720"/>
            <a:ext cx="8001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 de transporte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eficiente de  Manning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rea de flujo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hidráulico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ucción o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defecto HEC-RAS considera subsecciones en donde existe variación del coeficiente de rugosidad de Manning, sin embargo, por compatibilidad con HEC-2 puede modificarse la definición de subsecciones en cada nodo del perfil (Estilo HEC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nducción total de una sección será la suma de la conducción de las subs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40000" y="4076640"/>
            <a:ext cx="5040360" cy="237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 fric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érdida friccional se evalúa como la ponderación de la pendiente friccional representativa entre dos secciones por la distancia representativa L entre ell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19280" y="3716280"/>
                <a:ext cx="12938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564000" y="3933720"/>
                <a:ext cx="3983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érdid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riccional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L·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4000" y="5300640"/>
            <a:ext cx="8589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ara obtener la pendiente representativa HEC-RAS cuenta con cuatro métodos, por defecto utiliza el cuadrado de caudal total sobre la conducción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ál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defecto, HEC-RAS realiza 20 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so de no encontrar una solución adecuada compara la altura crítica con el resultado de menor error de las 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concuerda con el régimen del problema y su error es menor a 10 cm el programa entrega este va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so de que no cumpla, HEC-RAS arrojará altura crítica en es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inguna de las dos soluciones es la correcta, HEC-RAS está diseñado para terminar los cálculos de la modelación por lo que SIEMPRE debe revisar las advertencias que el software arroja y aplicar su criterio para cerciorarse que las soluciones son adecu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racterización de la r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ución ana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mplificación máxima primera aproxi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ulas  empí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 nu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fí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cr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crítica de una sección se define como el punto en que la energía (H) es mín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16000" y="3068640"/>
                <a:ext cx="2035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α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39640" y="501336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C-RAS utiliza dos métodos iterativos para obtener dicha altura, el método “parabólico” (por defecto) y  el de “secant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2938320" cy="193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el flujo deja de ser  gradualmente variado, la ecuación de energía ya no es vál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transiciones entre distintos regímenes (al pasar por crisis) no cumplen esta cond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ambio de régimen puede ocurrir por diversos motivos (cambios bruscos de pendiente, sección, obstáculos,  estructuras como puentes, alcantarillas, vertederos, etc) HEC-RAS alterna entre la aplicación de ecuaciones empíricas para estructuras especiales con un balance de fuerzas, o ecuación de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4149720"/>
            <a:ext cx="47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resión hidrostática en la sección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eso del agua en la direcció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Fuerza de fri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: Cau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Densidad del 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mbio de velocidad de la secci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2 a la 1en la direcció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032360" cy="25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219640" y="4724280"/>
                <a:ext cx="37227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·ρ·Δ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i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gradualmente vari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e cumplirse ley hidrostática de 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pequeños tramos que es rápidamente variado utiliza ec. de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cciones SIEMPRE perpendiculares al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ndientes menores a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ura de presión es considerada igual a la cota de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5981" t="23531" r="18815" b="12197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5617" t="23531" r="18815" b="12197"/>
          <a:stretch/>
        </p:blipFill>
        <p:spPr>
          <a:xfrm>
            <a:off x="0" y="-27000"/>
            <a:ext cx="918036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TORM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iseño red urbana de A.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ácil man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mig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atibilidad con otros pro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C/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t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múltiples sistemas de aguas llu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distintos escen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ejo de torm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últiples análisis de result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ción de reportes de buena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presentación gráfica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888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oría detrás del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órmulas empí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chas son empírico-anal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mayoría solución aco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o generalizado en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bredimens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22936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GÚN LA COMPLEJIDAD DEL PROBLEMA EN MUCHOS CASO BASTA CON SU USO PARA HACER UNA BUENA APROXIMA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IDROLOGIA</a:t>
            </a:r>
            <a:br>
              <a:rPr sz="4000"/>
            </a:b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dales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A. Lluvia (Formula ra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adicionales (no dependen necesariamente de la 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con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26920" y="333000"/>
            <a:ext cx="3927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reas a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5113440" cy="249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22640" y="4879800"/>
                <a:ext cx="3093840" cy="7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·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·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900000" y="4005360"/>
            <a:ext cx="65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osición de áreas a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puestos método r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Áreas aportantes &lt; 120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eak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curre cuando el total del área aportante contribuye a la escorren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sidad de pp uniforme para un tiempo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l tiempo de concen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eficiente racional, independiente de la intensidad de la llu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ensidad de Llu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través de tablas con valores cono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ecuaciones de ajuste a curvas ID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03520" y="3790800"/>
                <a:ext cx="40370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a·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902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álculo de Pérdidas Fri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e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cy-Weisb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ebrook-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zen-Willi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407960" y="2235240"/>
                <a:ext cx="50342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érdidas Sing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érdidas en Uniones se evalúan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Abso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or Fijo establecido por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nderado por la energía y vel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HEC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milar 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regido por condiciones del fl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AASH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pos de Sumideros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j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b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Ran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864320" cy="354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969240" cy="41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73200" y="46044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ometría de Entrada en  Sumideros de  Gu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42480" cy="58514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8360" y="1557360"/>
            <a:ext cx="3814560" cy="663120"/>
            <a:chOff x="468360" y="1557360"/>
            <a:chExt cx="3814560" cy="663120"/>
          </a:xfrm>
        </p:grpSpPr>
        <p:grpSp>
          <p:nvGrpSpPr>
            <p:cNvPr id="167" name=""/>
            <p:cNvGrpSpPr/>
            <p:nvPr/>
          </p:nvGrpSpPr>
          <p:grpSpPr>
            <a:xfrm>
              <a:off x="468360" y="1557360"/>
              <a:ext cx="1511280" cy="360360"/>
              <a:chOff x="468360" y="1557360"/>
              <a:chExt cx="1511280" cy="360360"/>
            </a:xfrm>
          </p:grpSpPr>
          <p:sp>
            <p:nvSpPr>
              <p:cNvPr id="168" name=""/>
              <p:cNvSpPr/>
              <p:nvPr/>
            </p:nvSpPr>
            <p:spPr>
              <a:xfrm>
                <a:off x="468360" y="155736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6920" y="177336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050920" y="1700280"/>
              <a:ext cx="2232000" cy="5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elementos y un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8360" y="1773360"/>
            <a:ext cx="4390920" cy="378360"/>
            <a:chOff x="468360" y="1773360"/>
            <a:chExt cx="4390920" cy="378360"/>
          </a:xfrm>
        </p:grpSpPr>
        <p:grpSp>
          <p:nvGrpSpPr>
            <p:cNvPr id="172" name=""/>
            <p:cNvGrpSpPr/>
            <p:nvPr/>
          </p:nvGrpSpPr>
          <p:grpSpPr>
            <a:xfrm>
              <a:off x="468360" y="1773360"/>
              <a:ext cx="1511280" cy="360360"/>
              <a:chOff x="468360" y="1773360"/>
              <a:chExt cx="1511280" cy="360360"/>
            </a:xfrm>
          </p:grpSpPr>
          <p:sp>
            <p:nvSpPr>
              <p:cNvPr id="173" name=""/>
              <p:cNvSpPr/>
              <p:nvPr/>
            </p:nvSpPr>
            <p:spPr>
              <a:xfrm>
                <a:off x="468360" y="177336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6920" y="198936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052720" y="1844640"/>
              <a:ext cx="280656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Sumideros (entra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68360" y="1974960"/>
            <a:ext cx="4319640" cy="374400"/>
            <a:chOff x="468360" y="1974960"/>
            <a:chExt cx="4319640" cy="374400"/>
          </a:xfrm>
        </p:grpSpPr>
        <p:grpSp>
          <p:nvGrpSpPr>
            <p:cNvPr id="177" name=""/>
            <p:cNvGrpSpPr/>
            <p:nvPr/>
          </p:nvGrpSpPr>
          <p:grpSpPr>
            <a:xfrm>
              <a:off x="468360" y="1989000"/>
              <a:ext cx="1511280" cy="360360"/>
              <a:chOff x="468360" y="1989000"/>
              <a:chExt cx="1511280" cy="360360"/>
            </a:xfrm>
          </p:grpSpPr>
          <p:sp>
            <p:nvSpPr>
              <p:cNvPr id="178" name=""/>
              <p:cNvSpPr/>
              <p:nvPr/>
            </p:nvSpPr>
            <p:spPr>
              <a:xfrm>
                <a:off x="468360" y="1989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6920" y="2205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050920" y="197496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un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8360" y="2190600"/>
            <a:ext cx="4319640" cy="374760"/>
            <a:chOff x="468360" y="2190600"/>
            <a:chExt cx="4319640" cy="374760"/>
          </a:xfrm>
        </p:grpSpPr>
        <p:grpSp>
          <p:nvGrpSpPr>
            <p:cNvPr id="182" name=""/>
            <p:cNvGrpSpPr/>
            <p:nvPr/>
          </p:nvGrpSpPr>
          <p:grpSpPr>
            <a:xfrm>
              <a:off x="468360" y="2205000"/>
              <a:ext cx="1511280" cy="360360"/>
              <a:chOff x="468360" y="2205000"/>
              <a:chExt cx="1511280" cy="360360"/>
            </a:xfrm>
          </p:grpSpPr>
          <p:sp>
            <p:nvSpPr>
              <p:cNvPr id="183" name=""/>
              <p:cNvSpPr/>
              <p:nvPr/>
            </p:nvSpPr>
            <p:spPr>
              <a:xfrm>
                <a:off x="468360" y="2205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6920" y="2421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050920" y="219060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Sali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8360" y="2421000"/>
            <a:ext cx="4319640" cy="362520"/>
            <a:chOff x="468360" y="2421000"/>
            <a:chExt cx="4319640" cy="362520"/>
          </a:xfrm>
        </p:grpSpPr>
        <p:grpSp>
          <p:nvGrpSpPr>
            <p:cNvPr id="187" name=""/>
            <p:cNvGrpSpPr/>
            <p:nvPr/>
          </p:nvGrpSpPr>
          <p:grpSpPr>
            <a:xfrm>
              <a:off x="468360" y="2421000"/>
              <a:ext cx="1511280" cy="360360"/>
              <a:chOff x="468360" y="2421000"/>
              <a:chExt cx="151128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468360" y="2421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26920" y="2637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050920" y="247644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texto, líneas, e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9760" y="260280"/>
            <a:ext cx="4043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s fí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oyo en solución de problemas complejos, requiere además apoyo de modelos numé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-27000"/>
            <a:ext cx="484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0120" y="274680"/>
            <a:ext cx="7942320" cy="58514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2052720" y="2125800"/>
            <a:ext cx="5759280" cy="2432520"/>
            <a:chOff x="2052720" y="2125800"/>
            <a:chExt cx="5759280" cy="2432520"/>
          </a:xfrm>
        </p:grpSpPr>
        <p:grpSp>
          <p:nvGrpSpPr>
            <p:cNvPr id="193" name=""/>
            <p:cNvGrpSpPr/>
            <p:nvPr/>
          </p:nvGrpSpPr>
          <p:grpSpPr>
            <a:xfrm>
              <a:off x="4429080" y="2125800"/>
              <a:ext cx="3382920" cy="368280"/>
              <a:chOff x="4429080" y="2125800"/>
              <a:chExt cx="3382920" cy="3682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429080" y="2133720"/>
                <a:ext cx="1511280" cy="360360"/>
                <a:chOff x="4429080" y="2133720"/>
                <a:chExt cx="1511280" cy="360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429080" y="2133720"/>
                  <a:ext cx="360360" cy="3603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87640" y="2349720"/>
                  <a:ext cx="1152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84720" y="2125800"/>
                <a:ext cx="17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Entrada (inle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052720" y="3164040"/>
              <a:ext cx="2445840" cy="337320"/>
              <a:chOff x="2052720" y="3164040"/>
              <a:chExt cx="2445840" cy="33732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3347640" y="3357720"/>
                <a:ext cx="1150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52720" y="3164040"/>
                <a:ext cx="17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Ducto (pip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427640" y="4148280"/>
              <a:ext cx="3311280" cy="410040"/>
              <a:chOff x="4427640" y="4148280"/>
              <a:chExt cx="3311280" cy="4100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427640" y="4148280"/>
                <a:ext cx="1511280" cy="360360"/>
                <a:chOff x="4427640" y="4148280"/>
                <a:chExt cx="1511280" cy="360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427640" y="4148280"/>
                  <a:ext cx="360360" cy="3603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86200" y="4364280"/>
                  <a:ext cx="1152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6012000" y="4221000"/>
                <a:ext cx="172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Salida (outle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2843280" y="2708280"/>
            <a:ext cx="3960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ara acceder a los menús de propiedades de cada uno de los elementos, basta con hacer doble click sobre 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81040" y="169920"/>
            <a:ext cx="8139240" cy="5851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627280" y="198900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8040" y="274680"/>
            <a:ext cx="792648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95280" y="2349360"/>
            <a:ext cx="3457440" cy="2165040"/>
            <a:chOff x="395280" y="2349360"/>
            <a:chExt cx="3457440" cy="2165040"/>
          </a:xfrm>
        </p:grpSpPr>
        <p:sp>
          <p:nvSpPr>
            <p:cNvPr id="211" name=""/>
            <p:cNvSpPr/>
            <p:nvPr/>
          </p:nvSpPr>
          <p:spPr>
            <a:xfrm>
              <a:off x="2411280" y="2349360"/>
              <a:ext cx="1441440" cy="11527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24000" y="3068640"/>
              <a:ext cx="287280" cy="216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5280" y="3141720"/>
              <a:ext cx="1657440" cy="13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Posibilidad de ingresar mas de un area aportante con diferentes coeficientes de 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40360" y="19162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95440" y="274680"/>
            <a:ext cx="7951680" cy="5851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4328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1916280"/>
            <a:ext cx="2376360" cy="649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2349360"/>
            <a:ext cx="2376720" cy="936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68360" y="3141720"/>
            <a:ext cx="2376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9880" y="274680"/>
            <a:ext cx="8004240" cy="585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35600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573360"/>
            <a:ext cx="2735280" cy="1727280"/>
            <a:chOff x="5724360" y="3573360"/>
            <a:chExt cx="2735280" cy="1727280"/>
          </a:xfrm>
        </p:grpSpPr>
        <p:grpSp>
          <p:nvGrpSpPr>
            <p:cNvPr id="223" name=""/>
            <p:cNvGrpSpPr/>
            <p:nvPr/>
          </p:nvGrpSpPr>
          <p:grpSpPr>
            <a:xfrm>
              <a:off x="5724360" y="4292280"/>
              <a:ext cx="1511640" cy="1008360"/>
              <a:chOff x="5724360" y="4292280"/>
              <a:chExt cx="1511640" cy="1008360"/>
            </a:xfrm>
          </p:grpSpPr>
          <p:sp>
            <p:nvSpPr>
              <p:cNvPr id="224" name=""/>
              <p:cNvSpPr/>
              <p:nvPr/>
            </p:nvSpPr>
            <p:spPr>
              <a:xfrm>
                <a:off x="5724360" y="4653000"/>
                <a:ext cx="1295640" cy="64764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6659640" y="4292280"/>
                <a:ext cx="576360" cy="431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7236000" y="3573360"/>
              <a:ext cx="122364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ink hacia menu del ducto aguas 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6600" y="274680"/>
            <a:ext cx="79308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4572000" y="1628640"/>
            <a:ext cx="4392720" cy="2864520"/>
            <a:chOff x="4572000" y="1628640"/>
            <a:chExt cx="4392720" cy="2864520"/>
          </a:xfrm>
        </p:grpSpPr>
        <p:sp>
          <p:nvSpPr>
            <p:cNvPr id="229" name=""/>
            <p:cNvSpPr/>
            <p:nvPr/>
          </p:nvSpPr>
          <p:spPr>
            <a:xfrm>
              <a:off x="4572000" y="1628640"/>
              <a:ext cx="2160720" cy="13687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659640" y="1773360"/>
              <a:ext cx="64908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80360" y="1628640"/>
              <a:ext cx="1584360" cy="286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En Scaled, el programa adopta largos y ángulos correspondientes a la escala, útil si se trabaja sobre plano de autocad, en Schematic es necesario ingresar largos y angulos (c/r a ducto siguien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48436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7937280" cy="5851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348000" y="19162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500720" y="1700280"/>
            <a:ext cx="4392360" cy="1800000"/>
            <a:chOff x="4500720" y="1700280"/>
            <a:chExt cx="4392360" cy="1800000"/>
          </a:xfrm>
        </p:grpSpPr>
        <p:sp>
          <p:nvSpPr>
            <p:cNvPr id="236" name=""/>
            <p:cNvSpPr/>
            <p:nvPr/>
          </p:nvSpPr>
          <p:spPr>
            <a:xfrm>
              <a:off x="4500720" y="1700280"/>
              <a:ext cx="2160360" cy="1800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588000" y="1844640"/>
              <a:ext cx="649440" cy="3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8720" y="1700280"/>
              <a:ext cx="158436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Restricciones del 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042920" y="1844640"/>
            <a:ext cx="1441080" cy="246240"/>
            <a:chOff x="1042920" y="1844640"/>
            <a:chExt cx="1441080" cy="246240"/>
          </a:xfrm>
        </p:grpSpPr>
        <p:sp>
          <p:nvSpPr>
            <p:cNvPr id="240" name=""/>
            <p:cNvSpPr/>
            <p:nvPr/>
          </p:nvSpPr>
          <p:spPr>
            <a:xfrm flipH="1">
              <a:off x="2123640" y="198900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2920" y="184464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Diseñar diáme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73080" y="2133720"/>
            <a:ext cx="1510920" cy="287280"/>
            <a:chOff x="973080" y="2133720"/>
            <a:chExt cx="1510920" cy="287280"/>
          </a:xfrm>
        </p:grpSpPr>
        <p:sp>
          <p:nvSpPr>
            <p:cNvPr id="243" name=""/>
            <p:cNvSpPr/>
            <p:nvPr/>
          </p:nvSpPr>
          <p:spPr>
            <a:xfrm rot="10800000">
              <a:off x="2123640" y="2133720"/>
              <a:ext cx="360360" cy="287280"/>
            </a:xfrm>
            <a:prstGeom prst="rightArrow">
              <a:avLst>
                <a:gd name="adj1" fmla="val 50000"/>
                <a:gd name="adj2" fmla="val 3136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3080" y="21337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Diseñar pend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94880" y="2708280"/>
            <a:ext cx="773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099280" cy="5851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932360" y="2205000"/>
            <a:ext cx="25192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e consideraron las áreas aportantes y pendientes, correspondientes al ejercicio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205000"/>
            <a:ext cx="1871640" cy="151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CONDI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i : 200 mm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: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L: 50 y 10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4292640"/>
            <a:ext cx="417672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aterial ductos: P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:0.010 (recomendado por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2015640" y="1015560"/>
            <a:ext cx="2016360" cy="1800360"/>
          </a:xfrm>
          <a:prstGeom prst="leftArrowCallout">
            <a:avLst>
              <a:gd name="adj1" fmla="val 25002"/>
              <a:gd name="adj2" fmla="val 25000"/>
              <a:gd name="adj3" fmla="val 18666"/>
              <a:gd name="adj4" fmla="val 66673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7937280" cy="5851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411280" y="2131920"/>
            <a:ext cx="2376720" cy="649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2635200"/>
            <a:ext cx="3311640" cy="86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3500280"/>
            <a:ext cx="3024360" cy="865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18456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4560" y="274680"/>
            <a:ext cx="7994880" cy="5851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780000" y="2133720"/>
            <a:ext cx="722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2302920" y="1088640"/>
            <a:ext cx="2016360" cy="1800360"/>
          </a:xfrm>
          <a:prstGeom prst="leftArrowCallout">
            <a:avLst>
              <a:gd name="adj1" fmla="val 25002"/>
              <a:gd name="adj2" fmla="val 25000"/>
              <a:gd name="adj3" fmla="val 18666"/>
              <a:gd name="adj4" fmla="val 66673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 Tablas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pro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81072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6084360" y="2924280"/>
            <a:ext cx="3059640" cy="368280"/>
            <a:chOff x="6084360" y="2924280"/>
            <a:chExt cx="3059640" cy="368280"/>
          </a:xfrm>
        </p:grpSpPr>
        <p:sp>
          <p:nvSpPr>
            <p:cNvPr id="260" name=""/>
            <p:cNvSpPr/>
            <p:nvPr/>
          </p:nvSpPr>
          <p:spPr>
            <a:xfrm flipH="1">
              <a:off x="6084360" y="3068640"/>
              <a:ext cx="86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48360" y="2924280"/>
              <a:ext cx="219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ditar tab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246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392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93640" y="274680"/>
            <a:ext cx="7954920" cy="5851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788000" y="3284640"/>
            <a:ext cx="790560" cy="64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93640" y="274680"/>
            <a:ext cx="79549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53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ación numé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metrizar el problema y caracterizar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las limitaciones d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rescindible visitas a terr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32360" y="-27000"/>
            <a:ext cx="69483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25636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R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s numé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s comerciales por lo general entregan una solución, no siempre es cor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4888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8:53:00Z</dcterms:created>
  <dc:creator>Julio Aguirre</dc:creator>
  <dc:description/>
  <dc:language>en-US</dc:language>
  <cp:lastModifiedBy>KOSLAN S.A</cp:lastModifiedBy>
  <dcterms:modified xsi:type="dcterms:W3CDTF">2006-08-29T16:03:43Z</dcterms:modified>
  <cp:revision>29</cp:revision>
  <dc:subject/>
  <dc:title>HEC-RAS CURSO BÁSICO</dc:title>
</cp:coreProperties>
</file>