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571-A621-436B-9AE9-1795B62F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7D4-5692-4C9E-AEA1-332B439A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265-F34C-4033-B71E-224D0C59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A34-E521-4497-8701-1C6D67D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D03-7CB2-46C8-B8B1-427E86EC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BED-2580-4980-8E2B-525FEC01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907-16A6-4DF8-B7EE-9D3E349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DBD-7C25-44B5-9D4A-EB10EA8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A2C-11A7-4995-936A-FEF22BCB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9B8-6BFB-4BD6-9A50-DB36D5F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245-1FCB-4497-84F4-8D651C3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BF7-C662-4F43-B864-C2C6221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80F-8775-4B1E-947E-EF672683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342720" cy="70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I66B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s numéricos y uso de Software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C-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C-RAS: Modelo del US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: River Analy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: Hydrologic Engineer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grama realiza cálculos hidráulicos unidimensionales para redes hídricas ya sea naturales o constru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e hace HEC-R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Im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de Sedimento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 en forma modulada, a través de archivos “planes” se ligan los distintos modulos. Esto da gran flexibilidad a la mode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orte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uni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3242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4500720" y="3429000"/>
            <a:ext cx="4316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349360"/>
            <a:ext cx="1008000" cy="287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perpendicular a la s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lcu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ometría para definir áreas de flujo y perímetro mo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889440" cy="32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objetivo principal del programa HEC-RAS es calcular alturas de agua en todas las localidades de interés para determinados caudales. Los datos necesarios para realizar estos cómputos están divididos e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857920"/>
            <a:ext cx="727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atos geométricos se requieren en cualquier análisis realizado dentro de HEC-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de r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ectividad entr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ón de puntos de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enclatura (Cauces, tramos e intersec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pografía del c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ancia entre 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gula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eficientes de pérdid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 datos de flujo permanente  necesarios para calcular el perfil de la superficie del agua. Son bás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égimen de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udales del sist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delo realiza sus cálculos a partir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sección transversal con condiciones iniciales conocidas o supuestas y siguen aguas arriba para flujo subcrítico o aguas abajo para flujo supercr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b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ay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en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s donde el régimen de flujo cambia de subcrítico a supercrítico, o viceversa, el usuario debe ejecutar el programa en modo de régimen de flujo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eño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mensionamiento de 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parámetros físico-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condiciones no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event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el régimen en que se encuentre el flujo, su comportamiento estará condicionado desde aguas arriba (torrente) o aguas abajo (rí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égimen subcrítico (río) se requieren condiciones de borde en la ultima sección de aguas 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supercrítico (torrente) se requieren condiciones de borde en la primera sección de aguas arr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mixto, HEC-RAS necesita ambas condiciones de bo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 una sección y otra, se resuelve la ecuación de energía (Bernoulli) para obtener las alturas de escur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43280" y="3117960"/>
                <a:ext cx="3024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8360" y="4149720"/>
            <a:ext cx="8366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ura de agua en las secciones transversales 1 y 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ta de terreno las secciones transversales 1 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promedio de la s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s de ajuste de velocidades veloc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eleración de la grave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érdida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érdida de carga (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es considerada como la suma de la pérdida friccional entre dos secciones y la diferencia entre cargas de velocidad entre secciones ponderadas por un coeficiente de pérdida por contracción o expan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87640" y="3500280"/>
                <a:ext cx="2735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84360" y="4365720"/>
            <a:ext cx="802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o representativo del tram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diente de fricción representativa entre dos se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eficiente de pérdida por expansión o contr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 se calcula como la suma de las distancia entre las subsecciones (planicies laterales y canal principal) ponderadas por sus respectivos caudales promedios  y dividido por el caudal promedio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 al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o que el modelo es unidimensional es necesario utilizar solo una altura de velocidad, este coeficiente compatibiliza las diferencias entre las alturas de velocidad de las distintas subse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en función de las áreas de flujo y la capacidad de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1280" y="3933720"/>
                <a:ext cx="3809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r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9272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 la capacidad de conducción de una subsección como el caudal dividido por la raíz de la pérdida de carga, esto se introduce en la ecuación de M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932360" y="3141720"/>
                <a:ext cx="2262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32000" y="2997360"/>
                <a:ext cx="19620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4365720"/>
            <a:ext cx="8001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 de transporte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 de  Manning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fluj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hidráulic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 HEC-RAS considera subsecciones en donde existe variación del coeficiente de rugosidad de Manning, sin embargo, por compatibilidad con HEC-2 puede modificarse la definición de subsecciones en cada nodo del perfil (Estilo HEC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ducción total de una sección será la suma de la conducción de las sub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076640"/>
            <a:ext cx="5040360" cy="237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 fric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érdida friccional se evalúa como la ponderación de la pendiente friccional representativa entre dos secciones por la distancia representativa L entre el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19280" y="3716280"/>
                <a:ext cx="1293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64000" y="3933720"/>
                <a:ext cx="3983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érdid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riccional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L·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4000" y="5300640"/>
            <a:ext cx="8589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ara obtener la pendiente representativa HEC-RAS cuenta con cuatro métodos, por defecto utiliza el cuadrado de caudal total sobre la conducció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, HEC-RAS realiza 20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no encontrar una solución adecuada compara la altura crítica con el resultado de menor error de las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concuerda con el régimen del problema y su error es menor a 10 cm el programa entrega este va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que no cumpla, HEC-RAS arrojará altura crítica en es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nguna de las dos soluciones es la correcta, HEC-RAS está diseñado para terminar los cálculos de la modelación por lo que SIEMPRE debe revisar las advertencias que el software arroja y aplicar su criterio para cerciorarse que las soluciones son adecu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acterización de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ución ana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ificación máxima primera aprox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ulas  empí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 nu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crítica de una sección se define como el punto en que la energía (H) es mí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3068640"/>
                <a:ext cx="2035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-RAS utiliza dos métodos iterativos para obtener dicha altura, el método “parabólico” (por defecto) y  el de “seca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2938320" cy="19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el flujo deja de ser  gradualmente variado, la ecuación de energía ya no es vá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transiciones entre distintos regímenes (al pasar por crisis) no cumplen esta cond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mbio de régimen puede ocurrir por diversos motivos (cambios bruscos de pendiente, sección, obstáculos,  estructuras como puentes, alcantarillas, vertederos, etc) HEC-RAS alterna entre la aplicación de ecuaciones empíricas para estructuras especiales con un balance de fuerzas, o ecuación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414972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resión hidrostática en la sección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so del agua 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Fuerza de fr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: Cau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Densidad del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 de velocidad de la sec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2 a la 1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032360" cy="25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219640" y="4724280"/>
                <a:ext cx="37227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·ρ·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gradualmente vari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e cumplirse ley hidrostática de 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tramos que es rápidamente variado utiliza ec.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SIEMPRE perpendiculares a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ndientes menores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ura de presión es considerada igual a la cota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5981" t="23531" r="18815" b="12197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5617" t="23531" r="18815" b="12197"/>
          <a:stretch/>
        </p:blipFill>
        <p:spPr>
          <a:xfrm>
            <a:off x="0" y="-27000"/>
            <a:ext cx="91803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ORM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iseño red urbana de A.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ácil man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tibilidad con otros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C/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t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múltiples sistemas de aguas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distintos e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ejo de tor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ltiples análisis de result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ón de reportes de buen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presentación gráfica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trás del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órmulas empí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son empírico-ana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mayoría solución aco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generalizado en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bredimens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22936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GÚN LA COMPLEJIDAD DEL PROBLEMA EN MUCHOS CASO BASTA CON SU USO PARA HACER UNA BUENA APROXIMA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DROLOGIA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dale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. Lluvia (Formula ra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dicionales (no dependen necesariamente de la 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333000"/>
            <a:ext cx="3927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113440" cy="24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22640" y="4879800"/>
                <a:ext cx="309384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·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·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900000" y="4005360"/>
            <a:ext cx="65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osición de 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puestos método r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reas aportantes &lt; 12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ea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curre cuando el total del área aportante contribuye a la escorren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 de pp uniforme para un tiemp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tiempo de concen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eficiente racional, independiente de la intensidad de la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ensidad de 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través de tablas con valores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cuaciones de ajuste a curvas I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03520" y="3790800"/>
                <a:ext cx="40370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a·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02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álculo de Pérdidas Fri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e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cy-Weis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ebrook-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en-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07960" y="2235240"/>
                <a:ext cx="50342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érdidas Sing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s en Uniones se evalúan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b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or Fijo establecido por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derado por la energía y ve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HEC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regido por condiciones del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ASH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pos de Sumidero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j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b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Ran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864320" cy="35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69240" cy="41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73200" y="46044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ometría de Entrada en  Sumideros de  Gu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42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8360" y="1557360"/>
            <a:ext cx="3814560" cy="663120"/>
            <a:chOff x="468360" y="1557360"/>
            <a:chExt cx="3814560" cy="663120"/>
          </a:xfrm>
        </p:grpSpPr>
        <p:grpSp>
          <p:nvGrpSpPr>
            <p:cNvPr id="167" name=""/>
            <p:cNvGrpSpPr/>
            <p:nvPr/>
          </p:nvGrpSpPr>
          <p:grpSpPr>
            <a:xfrm>
              <a:off x="468360" y="1557360"/>
              <a:ext cx="1511280" cy="360360"/>
              <a:chOff x="468360" y="1557360"/>
              <a:chExt cx="1511280" cy="36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68360" y="1557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6920" y="1773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050920" y="1700280"/>
              <a:ext cx="223200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elementos y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8360" y="1773360"/>
            <a:ext cx="4390920" cy="378360"/>
            <a:chOff x="468360" y="1773360"/>
            <a:chExt cx="4390920" cy="378360"/>
          </a:xfrm>
        </p:grpSpPr>
        <p:grpSp>
          <p:nvGrpSpPr>
            <p:cNvPr id="172" name=""/>
            <p:cNvGrpSpPr/>
            <p:nvPr/>
          </p:nvGrpSpPr>
          <p:grpSpPr>
            <a:xfrm>
              <a:off x="468360" y="1773360"/>
              <a:ext cx="1511280" cy="360360"/>
              <a:chOff x="468360" y="1773360"/>
              <a:chExt cx="1511280" cy="36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468360" y="1773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6920" y="1989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2720" y="1844640"/>
              <a:ext cx="2806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umideros (entra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8360" y="1974960"/>
            <a:ext cx="4319640" cy="374400"/>
            <a:chOff x="468360" y="1974960"/>
            <a:chExt cx="4319640" cy="374400"/>
          </a:xfrm>
        </p:grpSpPr>
        <p:grpSp>
          <p:nvGrpSpPr>
            <p:cNvPr id="177" name=""/>
            <p:cNvGrpSpPr/>
            <p:nvPr/>
          </p:nvGrpSpPr>
          <p:grpSpPr>
            <a:xfrm>
              <a:off x="468360" y="1989000"/>
              <a:ext cx="1511280" cy="360360"/>
              <a:chOff x="468360" y="1989000"/>
              <a:chExt cx="1511280" cy="3603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360" y="1989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2205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0920" y="197496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360" y="2190600"/>
            <a:ext cx="4319640" cy="374760"/>
            <a:chOff x="468360" y="2190600"/>
            <a:chExt cx="4319640" cy="374760"/>
          </a:xfrm>
        </p:grpSpPr>
        <p:grpSp>
          <p:nvGrpSpPr>
            <p:cNvPr id="182" name=""/>
            <p:cNvGrpSpPr/>
            <p:nvPr/>
          </p:nvGrpSpPr>
          <p:grpSpPr>
            <a:xfrm>
              <a:off x="468360" y="2205000"/>
              <a:ext cx="1511280" cy="360360"/>
              <a:chOff x="468360" y="2205000"/>
              <a:chExt cx="1511280" cy="360360"/>
            </a:xfrm>
          </p:grpSpPr>
          <p:sp>
            <p:nvSpPr>
              <p:cNvPr id="183" name="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6920" y="2421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50920" y="219060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al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8360" y="2421000"/>
            <a:ext cx="4319640" cy="362520"/>
            <a:chOff x="468360" y="2421000"/>
            <a:chExt cx="4319640" cy="362520"/>
          </a:xfrm>
        </p:grpSpPr>
        <p:grpSp>
          <p:nvGrpSpPr>
            <p:cNvPr id="187" name=""/>
            <p:cNvGrpSpPr/>
            <p:nvPr/>
          </p:nvGrpSpPr>
          <p:grpSpPr>
            <a:xfrm>
              <a:off x="468360" y="2421000"/>
              <a:ext cx="1511280" cy="360360"/>
              <a:chOff x="468360" y="2421000"/>
              <a:chExt cx="151128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68360" y="2421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920" y="2637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050920" y="247644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texto, líneas, 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9760" y="260280"/>
            <a:ext cx="4043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yo en solución de problemas complejos, requiere además apoyo de model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-27000"/>
            <a:ext cx="484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0120" y="274680"/>
            <a:ext cx="794232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2052720" y="2125800"/>
            <a:ext cx="5759280" cy="2432520"/>
            <a:chOff x="2052720" y="2125800"/>
            <a:chExt cx="5759280" cy="2432520"/>
          </a:xfrm>
        </p:grpSpPr>
        <p:grpSp>
          <p:nvGrpSpPr>
            <p:cNvPr id="193" name=""/>
            <p:cNvGrpSpPr/>
            <p:nvPr/>
          </p:nvGrpSpPr>
          <p:grpSpPr>
            <a:xfrm>
              <a:off x="4429080" y="2125800"/>
              <a:ext cx="3382920" cy="368280"/>
              <a:chOff x="4429080" y="2125800"/>
              <a:chExt cx="3382920" cy="3682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29080" y="2133720"/>
                <a:ext cx="1511280" cy="360360"/>
                <a:chOff x="4429080" y="2133720"/>
                <a:chExt cx="1511280" cy="360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29080" y="213372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7640" y="234972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84720" y="212580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Entrada (in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52720" y="3164040"/>
              <a:ext cx="2445840" cy="337320"/>
              <a:chOff x="2052720" y="3164040"/>
              <a:chExt cx="2445840" cy="33732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347640" y="3357720"/>
                <a:ext cx="1150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2720" y="316404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Ducto (pip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27640" y="4148280"/>
              <a:ext cx="3311280" cy="410040"/>
              <a:chOff x="4427640" y="4148280"/>
              <a:chExt cx="3311280" cy="410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27640" y="4148280"/>
                <a:ext cx="1511280" cy="360360"/>
                <a:chOff x="4427640" y="4148280"/>
                <a:chExt cx="1511280" cy="360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427640" y="414828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86200" y="436428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012000" y="4221000"/>
                <a:ext cx="17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Salida (out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2843280" y="2708280"/>
            <a:ext cx="3960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ra acceder a los menús de propiedades de cada uno de los elementos, basta con hacer doble click sobr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1040" y="169920"/>
            <a:ext cx="8139240" cy="585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627280" y="1989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8040" y="274680"/>
            <a:ext cx="7926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95280" y="2349360"/>
            <a:ext cx="3457440" cy="2165040"/>
            <a:chOff x="395280" y="2349360"/>
            <a:chExt cx="3457440" cy="2165040"/>
          </a:xfrm>
        </p:grpSpPr>
        <p:sp>
          <p:nvSpPr>
            <p:cNvPr id="211" name=""/>
            <p:cNvSpPr/>
            <p:nvPr/>
          </p:nvSpPr>
          <p:spPr>
            <a:xfrm>
              <a:off x="2411280" y="2349360"/>
              <a:ext cx="1441440" cy="11527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24000" y="3068640"/>
              <a:ext cx="28728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141720"/>
              <a:ext cx="16574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Posibilidad de ingresar mas de un area aportante con diferentes coeficientes de 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4036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5440" y="274680"/>
            <a:ext cx="7951680" cy="5851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4328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916280"/>
            <a:ext cx="2376360" cy="64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349360"/>
            <a:ext cx="2376720" cy="936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3141720"/>
            <a:ext cx="2376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9880" y="274680"/>
            <a:ext cx="8004240" cy="585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35600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573360"/>
            <a:ext cx="2735280" cy="1727280"/>
            <a:chOff x="5724360" y="3573360"/>
            <a:chExt cx="2735280" cy="1727280"/>
          </a:xfrm>
        </p:grpSpPr>
        <p:grpSp>
          <p:nvGrpSpPr>
            <p:cNvPr id="223" name=""/>
            <p:cNvGrpSpPr/>
            <p:nvPr/>
          </p:nvGrpSpPr>
          <p:grpSpPr>
            <a:xfrm>
              <a:off x="5724360" y="4292280"/>
              <a:ext cx="1511640" cy="1008360"/>
              <a:chOff x="5724360" y="4292280"/>
              <a:chExt cx="1511640" cy="1008360"/>
            </a:xfrm>
          </p:grpSpPr>
          <p:sp>
            <p:nvSpPr>
              <p:cNvPr id="224" name=""/>
              <p:cNvSpPr/>
              <p:nvPr/>
            </p:nvSpPr>
            <p:spPr>
              <a:xfrm>
                <a:off x="5724360" y="4653000"/>
                <a:ext cx="1295640" cy="6476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659640" y="4292280"/>
                <a:ext cx="57636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236000" y="3573360"/>
              <a:ext cx="12236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ink hacia menu del ducto aguas 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6600" y="274680"/>
            <a:ext cx="79308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572000" y="1628640"/>
            <a:ext cx="4392720" cy="2864520"/>
            <a:chOff x="4572000" y="1628640"/>
            <a:chExt cx="4392720" cy="2864520"/>
          </a:xfrm>
        </p:grpSpPr>
        <p:sp>
          <p:nvSpPr>
            <p:cNvPr id="229" name=""/>
            <p:cNvSpPr/>
            <p:nvPr/>
          </p:nvSpPr>
          <p:spPr>
            <a:xfrm>
              <a:off x="4572000" y="1628640"/>
              <a:ext cx="2160720" cy="1368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59640" y="1773360"/>
              <a:ext cx="64908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0360" y="1628640"/>
              <a:ext cx="158436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En Scaled, el programa adopta largos y ángulos correspondientes a la escala, útil si se trabaja sobre plano de autocad, en Schematic es necesario ingresar largos y angulos (c/r a ducto siguien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48436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4800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00720" y="1700280"/>
            <a:ext cx="4392360" cy="1800000"/>
            <a:chOff x="4500720" y="1700280"/>
            <a:chExt cx="4392360" cy="1800000"/>
          </a:xfrm>
        </p:grpSpPr>
        <p:sp>
          <p:nvSpPr>
            <p:cNvPr id="236" name=""/>
            <p:cNvSpPr/>
            <p:nvPr/>
          </p:nvSpPr>
          <p:spPr>
            <a:xfrm>
              <a:off x="4500720" y="1700280"/>
              <a:ext cx="2160360" cy="1800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88000" y="1844640"/>
              <a:ext cx="649440" cy="3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1700280"/>
              <a:ext cx="15843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Restricciones del 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42920" y="1844640"/>
            <a:ext cx="1441080" cy="246240"/>
            <a:chOff x="1042920" y="1844640"/>
            <a:chExt cx="1441080" cy="246240"/>
          </a:xfrm>
        </p:grpSpPr>
        <p:sp>
          <p:nvSpPr>
            <p:cNvPr id="240" name=""/>
            <p:cNvSpPr/>
            <p:nvPr/>
          </p:nvSpPr>
          <p:spPr>
            <a:xfrm flipH="1">
              <a:off x="2123640" y="198900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2920" y="184464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diáme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73080" y="2133720"/>
            <a:ext cx="1510920" cy="287280"/>
            <a:chOff x="973080" y="2133720"/>
            <a:chExt cx="1510920" cy="287280"/>
          </a:xfrm>
        </p:grpSpPr>
        <p:sp>
          <p:nvSpPr>
            <p:cNvPr id="243" name=""/>
            <p:cNvSpPr/>
            <p:nvPr/>
          </p:nvSpPr>
          <p:spPr>
            <a:xfrm rot="10800000">
              <a:off x="2123640" y="2133720"/>
              <a:ext cx="360360" cy="287280"/>
            </a:xfrm>
            <a:prstGeom prst="rightArrow">
              <a:avLst>
                <a:gd name="adj1" fmla="val 50000"/>
                <a:gd name="adj2" fmla="val 3136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3080" y="21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pend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94880" y="2708280"/>
            <a:ext cx="77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9280" cy="5851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932360" y="2205000"/>
            <a:ext cx="2519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consideraron las áreas aportantes y pendientes, correspondientes al ejercicio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205000"/>
            <a:ext cx="1871640" cy="151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 : 200 m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: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L: 50 y 1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4292640"/>
            <a:ext cx="41767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terial ductos: P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:0.010 (recomendado por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015640" y="101556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11280" y="2131920"/>
            <a:ext cx="2376720" cy="6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2635200"/>
            <a:ext cx="331164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3500280"/>
            <a:ext cx="3024360" cy="865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1845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4560" y="274680"/>
            <a:ext cx="7994880" cy="5851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780000" y="2133720"/>
            <a:ext cx="722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2302920" y="108864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 Tabl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1072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084360" y="2924280"/>
            <a:ext cx="3059640" cy="368280"/>
            <a:chOff x="6084360" y="2924280"/>
            <a:chExt cx="3059640" cy="368280"/>
          </a:xfrm>
        </p:grpSpPr>
        <p:sp>
          <p:nvSpPr>
            <p:cNvPr id="260" name=""/>
            <p:cNvSpPr/>
            <p:nvPr/>
          </p:nvSpPr>
          <p:spPr>
            <a:xfrm flipH="1">
              <a:off x="6084360" y="3068640"/>
              <a:ext cx="86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8360" y="2924280"/>
              <a:ext cx="219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ditar tab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246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88000" y="3284640"/>
            <a:ext cx="7905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3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ción numé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metrizar el problema y caracterizar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las limitaciones d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cindible visitas a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32360" y="-27000"/>
            <a:ext cx="69483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256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R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num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s comerciales por lo general entregan una solución, no siempre es cor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88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8:53:00Z</dcterms:created>
  <dc:creator>Julio Aguirre</dc:creator>
  <dc:description/>
  <dc:language>en-US</dc:language>
  <cp:lastModifiedBy>KOSLAN S.A</cp:lastModifiedBy>
  <dcterms:modified xsi:type="dcterms:W3CDTF">2006-08-29T16:03:43Z</dcterms:modified>
  <cp:revision>29</cp:revision>
  <dc:subject/>
  <dc:title>HEC-RAS CURSO BÁSICO</dc:title>
</cp:coreProperties>
</file>