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5196-9346-4A80-8C89-EA80D49755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348-18C1-4D48-86C9-4D2F436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B02-C4E8-454C-A02A-5C5CD46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C9B-F665-4524-BCEA-69EAC27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447-BEC5-48B3-BAD2-600CB661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035-7C2B-4FA4-B62C-7C775F41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599-BDD4-4BD5-B9B3-B02AE397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B87-F816-407B-A4D0-BA22B87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4F8-85F8-4EF2-9CB5-63E82787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1B3-D951-4905-B015-A5A8C076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302-B2C3-4E83-81F2-6921958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B43-CECA-4348-ADD3-FF66C31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66-2F16-4DF7-95D0-55D31AC6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709-28CD-4956-8489-8BDE62C7F16A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CA7F11B1-2066-46F8-BA06-8731087B68BD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1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25680" y="3284640"/>
          <a:ext cx="725616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200"/>
                <a:gridCol w="1038240"/>
                <a:gridCol w="1035360"/>
                <a:gridCol w="103788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pc3</cp:lastModifiedBy>
  <dcterms:modified xsi:type="dcterms:W3CDTF">2006-09-27T01:13:19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