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1A0-7CAC-4821-BE27-4AC1D6907C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B9A-2687-4360-B86D-43A9DD67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BD5-1B33-4505-A58E-33A2145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CD2-E58B-45F8-A1D5-6460B3E6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BF1-1C8E-42BE-9318-E6FB59E7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06D-A08B-448A-9091-227019A2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BB1-2687-4D15-B0AF-590D6649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0D0-4B65-4278-800E-673C8C8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AE0-8B61-4128-8032-12B0D614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681-37A9-440A-A4BA-D45ED6C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AAB-F398-469B-8D63-69A4631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B50-D236-49A4-AE2A-E762275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3F2-8860-4E64-BCF9-573A0BF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703-D5FF-4B2D-A0C3-A0FBDB6CC48B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0D80352D-7FD6-4098-AF1B-80D7FAED8F87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0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25680" y="3284640"/>
          <a:ext cx="725616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200"/>
                <a:gridCol w="1038240"/>
                <a:gridCol w="1035360"/>
                <a:gridCol w="103788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pc3</cp:lastModifiedBy>
  <dcterms:modified xsi:type="dcterms:W3CDTF">2006-09-27T01:13:19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