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E83A-AF4B-4A56-8D1C-46A724B1F1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ce esta plantilla para crear páginas Web de intranet para un grupo de trabajo o proyecto. Puede modificar el contenido de muestra para incluir la información que desee e incluso puede cambiar la estructura del sitio Web agregando y quitando diapositivas. Los controles de desplazamiento están en el patrón de diapositivas. Para cambiarlos,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seleccion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y, a continuación,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Para agregar o quitar hipervínculos en el texto o los objetos, o para cambiar los hipervínculos existentes, seleccione el texto o el objeto y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ipervíncul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serta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ando termine de personalizar la presentación, elimine estas notas para ahorrar espacio en los archivos HTML fi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obtener más información, consulte en el Asistente para Ayuda los siguientes tem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5BB-EB38-42EF-8B17-5EC94801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AFC-1E03-4F10-BADE-D5415D3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20E-0350-4704-8838-243A1BCD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496-0D01-4236-8430-9CCCB82E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B92-5A12-443E-9429-C0D6B937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0A7-B904-43E3-9435-D56E4345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BEA-F09C-4365-A1CA-914B3A9E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077-8693-4BD0-96D6-E809E4B9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85A-6512-47E7-914E-71178D39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84C-8DC1-4B85-B66D-AE52E6D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FF4-4D47-47BD-B22A-115A16D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043-2C19-417A-ADE1-73D9069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ED9-DC3C-4146-9298-802728204621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1" name="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muelle transparente, consiste en una estructuración en base a pilotes tubulares de acero, vigas transversales principales, vigas longitudinales secundarias, losa de hormigón, losa de transición y muro L de contención de la expla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uelle Transpar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78000" y="145584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629400"/>
            <a:ext cx="8001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Última actualización: </a:t>
            </a:r>
            <a:fld id="{FE937110-E5E1-4231-9E87-0CD9BE3469FD}" type="datetime3"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31 de julio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0"/>
            <a:ext cx="792468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oeficiente de Balas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COFICIENTES DE BALASTO HORIZONTALES Kh DE UN SUELO PARA EL CALCULO DE LA RESISTENCIA HORIZONTAL DE LOS PILOTES DEL MUELLE SE CALCULAN EN BASE A PRUEBAS DE CARGA HORIZONTALES, CUANDOS ESTAS NO SE POSEAN SE PUEDE UTILIZAR LA SIGUIENTE EXPRE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Kh = 0.15 N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[Kg/cm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h : Coeficiente de Balasto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   : Nspt del Suelo desde la superficie a una profundidad cercana a 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Punto de Empotramient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: PROFUNDIDAD DESDE LA SUPERFICIE DE SUELO VIRTUAL DEL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Exterior o Ancho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Interior Pilote [cm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En el diseño se debe considerar el efecto de la corrosión sobre el espesor del pilo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Módulo de Elasticidad 2100000 [Kgf/cm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Inercia Pilotes Tubulares [cm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58040" y="2276640"/>
                <a:ext cx="12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358040" y="5589720"/>
                <a:ext cx="1590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8041" t="0" r="6479" b="0"/>
          <a:stretch/>
        </p:blipFill>
        <p:spPr>
          <a:xfrm>
            <a:off x="5991120" y="1557360"/>
            <a:ext cx="4751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Times New Roman"/>
              </a:rPr>
              <a:t>Estructura de Hormigón Armado - Tabl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62760" y="1557360"/>
            <a:ext cx="468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   :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1  : SOBRE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  : ACCION SI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2: GRUA PORTACONTEN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3: OTROS EQUIPOS (TOPLIFTER, ET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325680" y="3284640"/>
          <a:ext cx="7256160" cy="3049560"/>
        </p:xfrm>
        <a:graphic>
          <a:graphicData uri="http://schemas.openxmlformats.org/drawingml/2006/table">
            <a:tbl>
              <a:tblPr/>
              <a:tblGrid>
                <a:gridCol w="1038240"/>
                <a:gridCol w="1035000"/>
                <a:gridCol w="1038240"/>
                <a:gridCol w="1033200"/>
                <a:gridCol w="1038240"/>
                <a:gridCol w="1035360"/>
                <a:gridCol w="103788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ADOS DE CAR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S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ilotes de Ac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ILOTES DE ACERO SE DISEÑAN CON EL METODO DE LAS TENSIONES ADMISIBLES RECOMENDADAS POR LA NORMA 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0" r="0" b="3426"/>
          <a:stretch/>
        </p:blipFill>
        <p:spPr>
          <a:xfrm>
            <a:off x="3038400" y="1486080"/>
            <a:ext cx="7561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0" r="0" b="4002"/>
          <a:stretch/>
        </p:blipFill>
        <p:spPr>
          <a:xfrm>
            <a:off x="3038400" y="144468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0" b="4120"/>
          <a:stretch/>
        </p:blipFill>
        <p:spPr>
          <a:xfrm>
            <a:off x="3110040" y="1387440"/>
            <a:ext cx="7489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0" t="0" r="0" b="3780"/>
          <a:stretch/>
        </p:blipFill>
        <p:spPr>
          <a:xfrm>
            <a:off x="3038400" y="1420920"/>
            <a:ext cx="74167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0" r="0" b="4312"/>
          <a:stretch/>
        </p:blipFill>
        <p:spPr>
          <a:xfrm>
            <a:off x="3117960" y="1413000"/>
            <a:ext cx="74088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una Obra Portuaria debe ser diseñada para las siguientes carg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.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. Sobrecarga Uniforme Normal y Sí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3. Cargas Sís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4. Cargas de Equipos Pesados en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. Cargas de Equipos Pesados, Acciones Diná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7. Cargas de V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8. Impacto en el Atraque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9. Tirones de B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0. Empujes de Tierra y Agua 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1. Efectos Producidos por Vari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2. Retracción de Fragu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0" b="3967"/>
          <a:stretch/>
        </p:blipFill>
        <p:spPr>
          <a:xfrm>
            <a:off x="3110040" y="1413000"/>
            <a:ext cx="741672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82760" y="1413000"/>
            <a:ext cx="7417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10040" y="141300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13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Sobrecarga Uniformemente Distrib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NORMAL : 2.5 T/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SISMICA : 1.25 T/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Preguntas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 Grúa Portaconten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E2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l Tipo de Grúa Portacontenedores a Utilizar, se modela la acción sísmica de éstas como un sistema de fuerzas equivalentes vertical y horizo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EMPLO: VALPARAISO SITIOS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CHA: 24.38m (80’ 0’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: 5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RIEL: A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 TOTAL: 80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A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rmal Máxima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ísm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25 +/- 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+/- 5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 T/m RIEL, Dependiendo de la solución de apoyo adop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Sís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 la Zona Sísmica, Suelo y Tipo de Análisis (Modal Espectral, Time History), usar Registro de Aceleraciones, o Espectro de Aceleraciones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: PARA VALPARAISO SITIO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lt;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5 (Tn x To) / (Tn2 + To2 ) To &lt; Tn &l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g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: 0.30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n: PERIODO NATURAL DE VIBRACION DEL MOD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/g: ACELERACION ESPEC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Referencia de Coeficientes Sísmicos en Estructuras Portuar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UELL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QUIPOS FIJO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UA PORTACONTENEDORES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 C =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       C = 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RUCTURAS DE CONTENCION TRANSITORIA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actor de Impac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SUAL 20-30% SOBRE CARGAS DE RUEDAS PARA EL DISEÑO DE ELEMENTOS ESTRUCTURALES DE TABLERO DE HORMIGON AR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NO SE EMPLEA FACTOR DE IMPACTO PARA LA CARGA MAXIMA DE LA GRUA MOVIL CUANDO ESTE OPERANDO SOBRE SUS APOY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uerza de Atra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LAS FUERZAS EJERCIDAS POR LAS NAVES ATRACADAS SON FUNCION DE LOS SIGUIENTES PARAMETR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RRIENTES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 VELOCIDAD, DIRECC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LA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LTURA EN EL INTERIOR DE LA POZA, DIRECCION,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LOCIDAD DE APROXIMACION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LEVACION DEL PUNTO DE APLICACIÓN DEL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álculo Longitud de Empotramiento Equival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EL PREDISEÑO DE UN MUELLE TRANSPARENTE CON PILOTES VERTICALES, LA RESISTENCIA LATERAL, FLEXION, CARGA AXIAL EN PILOTES, FLEXION Y CORTE EN LA SUPERESTRUCTURA PUEDE SER CALCULADA DE ACUERDO A UNOS PUNTOS DE EMPOTRAMIENTOS VIRT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3:00:37Z</dcterms:created>
  <dc:creator>pc</dc:creator>
  <dc:description/>
  <dc:language>en-US</dc:language>
  <cp:lastModifiedBy>pc3</cp:lastModifiedBy>
  <dcterms:modified xsi:type="dcterms:W3CDTF">2006-09-27T01:13:19Z</dcterms:modified>
  <cp:revision>20</cp:revision>
  <dc:subject/>
  <dc:title>&lt;Nombre del grupo de trabajo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