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9D8-52AC-4887-A241-F38A776F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E07-E40C-4836-8FF4-2E6B6F1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BBA-F688-4FA9-9C11-45CA8A1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A08-8BBE-43FA-8ED8-1A0985B2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0A2-D992-4FF8-9D4B-DBF4997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5AC-5A7E-422F-B376-5F538704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3BC-3059-42CF-9C75-E50C81D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881-40E5-47E0-B127-CE24BC0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7B6-24E7-4926-B1CF-F246DA0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90A-C5FB-4403-9CFA-75DCBE7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CC5-BC81-461E-81FB-09205284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1A2-9A1A-482C-9942-15EAD84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698-BBF1-471A-8CFB-54B5F1FC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OS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615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 del Suelo de Fun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be chequear como una fundación  con carga excén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el cuerpo del muro de bl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preferible utilizar un solo gran bloque en la base, a fin de distribuir las t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c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6485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 Cálcu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507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82840" y="260280"/>
            <a:ext cx="64022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9720" y="833400"/>
            <a:ext cx="5524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62000" y="260280"/>
            <a:ext cx="5370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52640" y="500040"/>
            <a:ext cx="5238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2200" y="338040"/>
            <a:ext cx="56196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00360" y="828720"/>
            <a:ext cx="55432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583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907920"/>
            <a:ext cx="7777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Y así deben ver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tabilidad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a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oyándose en el diagrama de empujes mostrado al princip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be considerar el cambio en las propiedades del suelo (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y  no 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correcciones al empuje sísmico por satur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e Protection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 Japonesa (Cap.4: Gravity Type Quay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768" b="3691"/>
          <a:stretch/>
        </p:blipFill>
        <p:spPr>
          <a:xfrm>
            <a:off x="1763640" y="620640"/>
            <a:ext cx="5745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5520" y="995400"/>
            <a:ext cx="8294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a Consid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Pr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e tie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 Boy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Sís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inámica de agua durante un s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ocasionadas por las n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69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0160" y="1576440"/>
            <a:ext cx="8745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6969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ción de 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li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3400" y="2486160"/>
            <a:ext cx="7478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39:04Z</dcterms:created>
  <dc:creator>Zocimo Fredes</dc:creator>
  <dc:description/>
  <dc:language>en-US</dc:language>
  <cp:lastModifiedBy>Zocimo Fredes</cp:lastModifiedBy>
  <dcterms:modified xsi:type="dcterms:W3CDTF">2006-09-25T13:21:51Z</dcterms:modified>
  <cp:revision>4</cp:revision>
  <dc:subject/>
  <dc:title>Diapositiva 1</dc:title>
</cp:coreProperties>
</file>