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E97-C3B1-473F-AB03-9905B7BD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549-FDE8-47D0-A958-2CCB1D09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E00-9E0C-4751-BCC6-F6D8F4B7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57A-F6CB-424F-9B73-0BB7428C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6162-2F01-4246-A5C4-25403469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1CCA-87FF-4BE0-B9EE-6782D8F8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2AA-EECF-4F4C-93C0-A51230AE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958-7518-4F07-8A7A-8B27EA3C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C7B-3E6E-45B2-8900-86B5931E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4A3-6BCC-40E2-8C04-1D0FAACA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496-33C7-4082-AED9-A19A2B6C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DF33-96B6-4929-B834-4322E468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6FA2-3639-4EFF-8582-61476E7E3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ROS DE BLO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46152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dad del Suelo de Fund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debe chequear como una fundación  con carga excént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r el cuerpo del muro de blo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preferible utilizar un solo gran bloque en la base, a fin de distribuir las t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olc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64856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quema de Cálcu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50752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734544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82840" y="260280"/>
            <a:ext cx="640224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09720" y="833400"/>
            <a:ext cx="55245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62000" y="260280"/>
            <a:ext cx="53708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52640" y="500040"/>
            <a:ext cx="52387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62200" y="338040"/>
            <a:ext cx="561960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00360" y="828720"/>
            <a:ext cx="554328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5834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907920"/>
            <a:ext cx="777708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Y así deben verifi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tabilidad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da cap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poyándose en el diagrama de empujes mostrado al princip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ebe considerar el cambio en las propiedades del suelo (saturado 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y  no saturado (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cer correcciones al empuje sísmico por saturación del su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bliograf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e Protection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 Japonesa (Cap.4: Gravity Type Quayw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2768" b="3691"/>
          <a:stretch/>
        </p:blipFill>
        <p:spPr>
          <a:xfrm>
            <a:off x="1763640" y="620640"/>
            <a:ext cx="574524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5520" y="995400"/>
            <a:ext cx="82947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erzas a Conside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car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o Pro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ón de tier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rza Boy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rzas Sísm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ón dinámica de agua durante un s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rzas ocasionadas por las n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5360" y="1828800"/>
            <a:ext cx="8694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0160" y="1576440"/>
            <a:ext cx="87454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6920" y="1719360"/>
            <a:ext cx="69692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ción de Esta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liz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3400" y="2486160"/>
            <a:ext cx="747864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00:39:04Z</dcterms:created>
  <dc:creator>Zocimo Fredes</dc:creator>
  <dc:description/>
  <dc:language>en-US</dc:language>
  <cp:lastModifiedBy>Zocimo Fredes</cp:lastModifiedBy>
  <dcterms:modified xsi:type="dcterms:W3CDTF">2006-09-25T13:21:51Z</dcterms:modified>
  <cp:revision>4</cp:revision>
  <dc:subject/>
  <dc:title>Diapositiva 1</dc:title>
</cp:coreProperties>
</file>