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5129-57F1-48ED-A34E-35FFB9B39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69FA-AA9F-4D25-AC62-CE43408B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7C50-742F-4903-A2B4-439A0399B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836D-CDF1-4415-B825-3785D8CA9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037D-645F-48D9-B5E8-79CC52BA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17FB-2B4C-4372-B18D-594BD2B1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B8FD-C003-4312-86F5-4C2C9098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B178-3C3F-4538-82E2-FC090497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70D0-8209-49B0-98F7-8CD955D7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6A95-D6EB-4F1F-AD48-AE7DCCD7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2D4F-9C6A-4923-818B-11CE56B6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7309-6C8D-4A25-A620-F583D84A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9544-C89F-46B8-8D64-53B6190B8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ROS DE BLO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87280" y="2205000"/>
            <a:ext cx="461520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acidad del Suelo de Fund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debe chequear como una fundación  con carga excént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r el cuerpo del muro de bloq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preferible utilizar un solo gran bloque en la base, a fin de distribuir las tens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olc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764856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quema de Cálcul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50752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42920" y="692280"/>
            <a:ext cx="734544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82840" y="260280"/>
            <a:ext cx="6402240" cy="60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809720" y="833400"/>
            <a:ext cx="552456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62000" y="260280"/>
            <a:ext cx="5370840" cy="61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952640" y="500040"/>
            <a:ext cx="52387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62200" y="338040"/>
            <a:ext cx="5619600" cy="61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800360" y="828720"/>
            <a:ext cx="554328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758340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42920" y="907920"/>
            <a:ext cx="777708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Y así deben veri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stabilidad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da cap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poyándose en el diagrama de empujes mostrado al principi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debe considerar el cambio en las propiedades del suelo (saturado (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a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y  no saturado (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acer correcciones al empuje sísmico por saturación del sue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bliografí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e Protection M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rma Japonesa (Cap.4: Gravity Type Quaywal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2768" b="3691"/>
          <a:stretch/>
        </p:blipFill>
        <p:spPr>
          <a:xfrm>
            <a:off x="1763640" y="620640"/>
            <a:ext cx="574524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25520" y="995400"/>
            <a:ext cx="829476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erzas a Consider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brecar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so Prop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ón de tier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erza Boy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erzas Sísm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ón dinámica de agua durante un s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erzas ocasionadas por las n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5360" y="1828800"/>
            <a:ext cx="86947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00160" y="1576440"/>
            <a:ext cx="874548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26920" y="1719360"/>
            <a:ext cx="69692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ificación de Est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liz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3400" y="2486160"/>
            <a:ext cx="747864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0:39:04Z</dcterms:created>
  <dc:creator>Zocimo Fredes</dc:creator>
  <dc:description/>
  <dc:language>en-US</dc:language>
  <cp:lastModifiedBy>Zocimo Fredes</cp:lastModifiedBy>
  <dcterms:modified xsi:type="dcterms:W3CDTF">2006-09-25T13:21:51Z</dcterms:modified>
  <cp:revision>4</cp:revision>
  <dc:subject/>
  <dc:title>Diapositiva 1</dc:title>
</cp:coreProperties>
</file>