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3F6-2538-4CE1-903F-44C9D26C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031-6C0D-40C9-830B-05E34DB4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A66-3FEB-43EB-8B39-7C3E4B55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91B-1D66-4B81-9189-62570855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2AB-0FB7-4385-93AF-DADA16D1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11A-7199-404A-88DF-E20C4321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89B-ECD2-4AF0-BCEB-15E006E4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68E-1C4B-46A2-B06F-BF8264DD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31A-E77F-43B7-B9AC-A3EF6016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697-CC1B-4EE9-8A3D-C1B7230B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13B-0ED5-4965-AC14-53314A2A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8CB-D41A-4F3C-8364-9890340B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164A-79F0-4862-A512-6C2CD4A0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ROS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46152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dad del Suelo de Fun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be chequear como una fundación  con carga excént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el cuerpo del muro de blo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preferible utilizar un solo gran bloque en la base, a fin de distribuir las t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c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6485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 Cálcu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5075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54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82840" y="260280"/>
            <a:ext cx="64022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09720" y="833400"/>
            <a:ext cx="5524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62000" y="260280"/>
            <a:ext cx="53708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52640" y="500040"/>
            <a:ext cx="52387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2200" y="338040"/>
            <a:ext cx="56196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00360" y="828720"/>
            <a:ext cx="55432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5834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907920"/>
            <a:ext cx="777708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Y así deben ver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tabilidad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a cap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oyándose en el diagrama de empujes mostrado al princip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ebe considerar el cambio en las propiedades del suelo (saturado 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y  no saturado 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er correcciones al empuje sísmico por saturación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graf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e Protection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 Japonesa (Cap.4: Gravity Type Quay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768" b="3691"/>
          <a:stretch/>
        </p:blipFill>
        <p:spPr>
          <a:xfrm>
            <a:off x="1763640" y="620640"/>
            <a:ext cx="5745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5520" y="995400"/>
            <a:ext cx="82947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a Conside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o Pro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ón de tier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 Boy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Sís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ón dinámica de agua durante un s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ocasionadas por las n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694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0160" y="1576440"/>
            <a:ext cx="8745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719360"/>
            <a:ext cx="6969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ción de 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liz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3400" y="2486160"/>
            <a:ext cx="74786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39:04Z</dcterms:created>
  <dc:creator>Zocimo Fredes</dc:creator>
  <dc:description/>
  <dc:language>en-US</dc:language>
  <cp:lastModifiedBy>Zocimo Fredes</cp:lastModifiedBy>
  <dcterms:modified xsi:type="dcterms:W3CDTF">2006-09-25T13:21:51Z</dcterms:modified>
  <cp:revision>4</cp:revision>
  <dc:subject/>
  <dc:title>Diapositiva 1</dc:title>
</cp:coreProperties>
</file>