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03E-88F0-476B-9D6D-7BF4B627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FB0-4A1B-49E5-8E2D-AFE2D33A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26B-EA7D-4777-8635-1DBB3214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AF1-E54B-4643-8928-34EA1086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429-6202-47DD-A72F-24CE7625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65C-D56C-4F09-9BB7-E86ACD78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D63-C7E2-4D38-8DD7-C868CE3F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C0E-1858-4A31-A51F-8E44CBDE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61B-5130-43ED-91A3-ECD3CE5F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DF6-C04B-4102-BB42-A317FB01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1EF-F9C8-4CA9-9BCA-4385B2D3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912-D1D6-4C94-93D7-0A988CA2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C72F-5883-4C55-9C9A-77F473CFE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7600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752480"/>
            <a:ext cx="74674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UACION DE ADVECCION-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-DISPER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 - 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854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icialmente sólo para problemas de intrusión sa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álculos analíticos sin difusión, dispersión, adsorción ni reacciones ciné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e inicia en el área de la ingeniería quí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canza su auge con el estudio del movimiento de sustancias radioactivas en el agua subterrán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60 -&gt; Inicio de estudios teóricos y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70 -&gt; Aumento vertiginoso de estudi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udios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troducción de Elementos Fi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03:51:14Z</dcterms:created>
  <dc:creator>Carlos Espinoza</dc:creator>
  <dc:description/>
  <dc:language>en-US</dc:language>
  <cp:lastModifiedBy>cespinoza</cp:lastModifiedBy>
  <cp:lastPrinted>2003-06-10T12:46:13Z</cp:lastPrinted>
  <dcterms:modified xsi:type="dcterms:W3CDTF">2006-08-23T13:06:48Z</dcterms:modified>
  <cp:revision>103</cp:revision>
  <dc:subject/>
  <dc:title>Curso OIEA 2004</dc:title>
</cp:coreProperties>
</file>