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B69-8D2B-4B75-A0F8-9E924F48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7CB1-AD48-494E-B22A-F786CE01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A5AE-6C47-44E5-ABDB-E0C4E872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F99E-AFBF-469E-98BE-D4C065A1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F97-24A2-4B79-871D-05391C42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814A-8B29-4A9F-8F07-47891226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28E-E061-4286-A0E4-CA02DB97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3DE-C0D5-4F9F-9380-9A1F85C9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359A-A1BC-4DAA-B82A-56650564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FE5-4394-45A5-B075-B5BBA47A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77F0-C94D-4345-859B-6C1462A3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E28-697F-424E-93E6-D7355D6B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6876-1CF2-46E9-808E-7BB91486C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762120"/>
            <a:ext cx="7600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TARE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752480"/>
            <a:ext cx="74674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CUACION DE ADVECCION-DISP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NSPORTE ADV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NSPORTE ADVECTIVO-DISPER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ULER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GRANG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ULERIANO - LAGRANG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2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8544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Inicialmente sólo para problemas de intrusión sa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Cálculos analíticos sin difusión, dispersión, adsorción ni reacciones cinét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e inicia en el área de la ingeniería quí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lcanza su auge con el estudio del movimiento de sustancias radioactivas en el agua subterrán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960 -&gt; Inicio de estudios teóricos y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970 -&gt; Aumento vertiginoso de estudi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tudios de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Introducción de Elementos Fin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92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03:51:14Z</dcterms:created>
  <dc:creator>Carlos Espinoza</dc:creator>
  <dc:description/>
  <dc:language>en-US</dc:language>
  <cp:lastModifiedBy>cespinoza</cp:lastModifiedBy>
  <cp:lastPrinted>2003-06-10T12:46:13Z</cp:lastPrinted>
  <dcterms:modified xsi:type="dcterms:W3CDTF">2006-08-23T13:06:48Z</dcterms:modified>
  <cp:revision>103</cp:revision>
  <dc:subject/>
  <dc:title>Curso OIEA 2004</dc:title>
</cp:coreProperties>
</file>