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896-D79A-40C6-A9DB-439F9D6B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0B45-5B7B-4768-9E48-5F3FCD22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22F-47B4-478E-91F9-691C925E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7B37-68C1-4374-A850-C4A7E838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41A-E6B9-47A2-A361-F3E2C565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34C-27A0-4E7A-B065-2505232D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D59-7EAF-4F6A-B061-37902741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A21-46A1-4DE1-B279-CD96B109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FC2-A33C-4563-BE13-38AD120A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A3C-CD4E-4DD5-9A7D-E8A7ECE8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DE8-FB77-46E3-B3E1-EE136D83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AE0-83A5-424A-AA40-A7BBD3B8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B186-C6A4-4601-8EBA-B2F8C85EF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7600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NCIPIOS DE REMEDIACION Y RESTAURACIO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752480"/>
            <a:ext cx="74674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Comic Sans MS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CUACION DE ADVECCION-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NSPORTE ADVECTIVO-DISPER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ULERIANO - LAGRANG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854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icialmente sólo para problemas de intrusión sal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Cálculos analíticos sin difusión, dispersión, adsorción ni reacciones ciné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e inicia en el área de la ingeniería quí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canza su auge con el estudio del movimiento de sustancias radioactivas en el agua subterrá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60 -&gt; Inicio de estudios teóricos y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1970 -&gt; Aumento vertiginoso de estudi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udios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Introducción de Elementos Fi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85680" y="5562720"/>
            <a:ext cx="90504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3:51:14Z</dcterms:created>
  <dc:creator>Carlos Espinoza</dc:creator>
  <dc:description/>
  <dc:language>en-US</dc:language>
  <cp:lastModifiedBy>cespinoza</cp:lastModifiedBy>
  <cp:lastPrinted>2003-06-10T12:46:13Z</cp:lastPrinted>
  <dcterms:modified xsi:type="dcterms:W3CDTF">2006-08-23T13:06:48Z</dcterms:modified>
  <cp:revision>103</cp:revision>
  <dc:subject/>
  <dc:title>Curso OIEA 2004</dc:title>
</cp:coreProperties>
</file>