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524-CCCE-48E1-8D88-4D6703FE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8ABD-1E2E-4AE3-8854-DFFA5389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89D9-23C8-4C50-95D3-3194A323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FB6-8102-455B-90E2-48A17E15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2698-E436-46A2-91D0-CB375714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FBC2-1E5F-457D-A93F-1831D6A5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57B3-D96E-41C3-9906-FB3F0104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58AB-5973-4BBC-BE33-CC9ECBDA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61DE-278C-4ED0-BCFC-CE4A560B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4B3-00CE-4B78-9EF7-FAB7254B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F00-A716-4D49-AD1C-C5C5374C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FB9-7200-452E-B41D-0D298440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EBDC-4685-4800-A764-8B239ABF3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762120"/>
            <a:ext cx="7600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TARE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752480"/>
            <a:ext cx="74674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CUACION DE ADVECCION-DISP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NSPORTE ADV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NSPORTE ADVECTIVO-DISPER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ULER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GRANG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ULERIANO - LAGRANG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2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8544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nicialmente sólo para problemas de intrusión sa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Cálculos analíticos sin difusión, dispersión, adsorción ni reacciones ciné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e inicia en el área de la ingeniería quí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lcanza su auge con el estudio del movimiento de sustancias radioactivas en el agua subterrán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960 -&gt; Inicio de estudios teóricos y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970 -&gt; Aumento vertiginoso de estudi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udios de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ntroducción de Elementos Fin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03:51:14Z</dcterms:created>
  <dc:creator>Carlos Espinoza</dc:creator>
  <dc:description/>
  <dc:language>en-US</dc:language>
  <cp:lastModifiedBy>cespinoza</cp:lastModifiedBy>
  <cp:lastPrinted>2003-06-10T12:46:13Z</cp:lastPrinted>
  <dcterms:modified xsi:type="dcterms:W3CDTF">2006-08-23T13:06:48Z</dcterms:modified>
  <cp:revision>103</cp:revision>
  <dc:subject/>
  <dc:title>Curso OIEA 2004</dc:title>
</cp:coreProperties>
</file>