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4A2-C01C-4921-8327-D62372EA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175-D98C-4545-80A2-76BDD9ED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01A-5321-4CA0-86B2-8C6A2F4F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98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98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266-0058-4524-AD5D-F4768D99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889-07E1-46A8-B48B-3DB46BB7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DAD-3AA1-422B-A872-AE82AE97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832-6B4A-4C62-8A3B-910D7743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60D-0265-4975-9896-70AF60F8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F28-F7BF-45B0-87D3-2DB307BC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1A7-AEDB-40E9-BE20-D10545E6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055-DE74-406A-AA28-78A92AF4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E89-2E23-459C-A784-3354972D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6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83F7-8242-42E2-8776-17B08C1B4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42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48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51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54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Clase Auxiliar N°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145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449360" y="2440080"/>
            <a:ext cx="2006640" cy="2654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12c97"/>
            </a:outerShdw>
          </a:effectLst>
        </p:spPr>
      </p:pic>
      <p:graphicFrame>
        <p:nvGraphicFramePr>
          <p:cNvPr id="63" name=""/>
          <p:cNvGraphicFramePr/>
          <p:nvPr/>
        </p:nvGraphicFramePr>
        <p:xfrm>
          <a:off x="3887640" y="2516040"/>
          <a:ext cx="3751560" cy="4104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7640" y="2516040"/>
                    <a:ext cx="3751560" cy="4104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12c97"/>
                    </a:outerShdw>
                  </a:effectLst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992160" y="1525680"/>
            <a:ext cx="68580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CI-6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PROYECT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265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271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274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277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158760" y="1643040"/>
            <a:ext cx="6091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Caudales de Diseño Qaño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0" y="2287440"/>
            <a:ext cx="9145440" cy="2248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4960" y="5030640"/>
            <a:ext cx="776772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71010e"/>
                </a:solidFill>
                <a:uFillTx/>
                <a:latin typeface="Copperplate Gothic Bold"/>
              </a:rPr>
              <a:t>VER NORMA NCH691OF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71010e"/>
                </a:solidFill>
                <a:uFillTx/>
                <a:latin typeface="Copperplate Gothic Bold"/>
              </a:rPr>
              <a:t>CONDUCCIÓN, REGULACIÓN Y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67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73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76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79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Introduc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6360" y="2135160"/>
            <a:ext cx="441972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emplo mapa de ubicación centro de la ciud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" y="1643040"/>
            <a:ext cx="609120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Descripción General de la ciu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9145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830240" y="4116240"/>
            <a:ext cx="5605560" cy="1959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54280" y="4040280"/>
            <a:ext cx="5790960" cy="2133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830240" y="4116240"/>
            <a:ext cx="5605560" cy="195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93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99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102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105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9145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58760" y="1643040"/>
            <a:ext cx="6091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Proyección de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360" y="1982880"/>
            <a:ext cx="4419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5564160"/>
            <a:ext cx="4419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Economét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560" y="2287440"/>
            <a:ext cx="7620120" cy="312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82680" y="2211480"/>
            <a:ext cx="8399520" cy="3343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119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125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128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131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8760" y="1643040"/>
            <a:ext cx="8377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la Población para el añ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92160" y="2135160"/>
            <a:ext cx="2470320" cy="1330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040280" y="2135160"/>
            <a:ext cx="2469960" cy="1495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6360" y="3735360"/>
            <a:ext cx="4419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Aritm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ra realizar la proyección de forma Aritmética se procedió a utilizar el método de los mínimos cuadrados, simplemente ajustando una línea de tendencia a los datos origi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t = 1705.719*t  - 3286149.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030640" y="3805200"/>
            <a:ext cx="3776760" cy="2406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144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150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153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156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30040" y="2516040"/>
            <a:ext cx="4419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Parabo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forma análoga al caso anterior se realizó un ajuste cuadrático a los datos originales para obtener la línea de tendencia respec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t = 3.215*t2 – 10968.294*t + 9204838.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878360" y="2440080"/>
            <a:ext cx="3857760" cy="2628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8760" y="1643040"/>
            <a:ext cx="8377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la Población para el añ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167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173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176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179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06360" y="2151000"/>
            <a:ext cx="495288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Geomét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se toma el promedio de tasas resulta un Rg de 0.0258 y así la población del 2032 sería de 274.734 habita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uego se procede a tomar las de los dos últimos tra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982-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992-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tonces…. Rg de 0.0143,  con lo cual la población para el 2032 queda descrita p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021360" y="2363760"/>
            <a:ext cx="1590840" cy="1200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5345280" y="3659040"/>
            <a:ext cx="3800160" cy="232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-533520" y="2744640"/>
            <a:ext cx="7774200" cy="244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-1143000" y="5411880"/>
            <a:ext cx="6934320" cy="655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58760" y="1643040"/>
            <a:ext cx="8377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la Población para el añ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193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199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202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205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306360" y="2058840"/>
            <a:ext cx="82296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escogido y valor final de la Población a utili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método parabólico presenta el factor de correlación más alto dentro de los tres métodos analiz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 un valor intermedio entre los tres métodos analiz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se esperan mayores cambios en la pendiente de crecimien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 proyecta que para el año 2032 la población de la Ciudad de Osorno será de 192.078 habit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8760" y="1643040"/>
            <a:ext cx="8377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la Población para el añ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215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221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224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227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8760" y="1643040"/>
            <a:ext cx="6091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Proyección de Dotación y Caudales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287440" y="2135160"/>
            <a:ext cx="579132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C=VFA/(PobA*36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P=DC/(1-(ANC/100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md=Pob*DP*Cob (l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maxd=FDMC*Qmd (l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maxh=FHMC*Qmaxd (l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onde DC= Dotación de Consumo l/hab/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P=Dotación de Producción l/hab/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FA=Volumen Facturado Anual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bA=Promedio de la Población abastecida Anual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DMC=Factor dia de max consu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HMC=Factor hora de max consu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C=Agua No Contabi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237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243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246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249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8760" y="1643040"/>
            <a:ext cx="776772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D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1068480" y="2058840"/>
            <a:ext cx="6858000" cy="2386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6360" y="4573440"/>
            <a:ext cx="7772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 considera que el consumo industrial corresponde al 5%, por lo que al restar esta cantidad se obtiene el consumo residencial</a:t>
            </a:r>
            <a:r>
              <a:rPr b="0" lang="es-CL" sz="1400" spc="-1" strike="noStrike">
                <a:solidFill>
                  <a:srgbClr val="71010e"/>
                </a:solidFill>
                <a:latin typeface="Copperplate Gothic Bold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1754280" y="4954680"/>
            <a:ext cx="5562360" cy="1295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621560" y="5183280"/>
            <a:ext cx="9144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P(Q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560" y="5869080"/>
            <a:ext cx="12193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turacion(Q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64360" y="525924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50160" y="548784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6:40:11Z</dcterms:created>
  <dc:creator>Chet Fukushima</dc:creator>
  <dc:description/>
  <dc:language>en-US</dc:language>
  <cp:lastModifiedBy>Paolo Zúñiga Castro</cp:lastModifiedBy>
  <dcterms:modified xsi:type="dcterms:W3CDTF">2006-08-01T13:02:11Z</dcterms:modified>
  <cp:revision>40</cp:revision>
  <dc:subject/>
  <dc:title>Slide 1</dc:title>
</cp:coreProperties>
</file>