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0281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81640" y="3108240"/>
            <a:ext cx="4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923240" y="6184800"/>
            <a:ext cx="1248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B6D8-1179-4A4B-BA5A-7C3477790A2C}" type="slidenum"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cc00"/>
                </a:solidFill>
                <a:latin typeface="Times New Roman"/>
              </a:rPr>
              <a:t>INFORME DE RESULTADOS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DIAGRAMA DE BARRA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369800" y="1093680"/>
            <a:ext cx="2873160" cy="2070000"/>
            <a:chOff x="1369800" y="1093680"/>
            <a:chExt cx="2873160" cy="2070000"/>
          </a:xfrm>
        </p:grpSpPr>
        <p:sp>
          <p:nvSpPr>
            <p:cNvPr id="43" name=""/>
            <p:cNvSpPr/>
            <p:nvPr/>
          </p:nvSpPr>
          <p:spPr>
            <a:xfrm>
              <a:off x="1382400" y="1558080"/>
              <a:ext cx="57600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6,4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27480" y="1906920"/>
              <a:ext cx="57456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 baseline="-25000">
                  <a:solidFill>
                    <a:srgbClr val="0000ff"/>
                  </a:solidFill>
                  <a:latin typeface="Geneva"/>
                </a:rPr>
                <a:t>1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6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39360" y="2256840"/>
              <a:ext cx="574560" cy="208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 baseline="-25000">
                  <a:solidFill>
                    <a:srgbClr val="0000ff"/>
                  </a:solidFill>
                  <a:latin typeface="Geneva"/>
                </a:rPr>
                <a:t>2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2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54480" y="2605320"/>
              <a:ext cx="57456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400" spc="-1" strike="noStrike" baseline="-25000">
                  <a:solidFill>
                    <a:srgbClr val="0000ff"/>
                  </a:solidFill>
                  <a:latin typeface="Geneva"/>
                </a:rPr>
                <a:t>3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8,2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17760" y="1558080"/>
              <a:ext cx="57456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9,4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78320" y="1906920"/>
              <a:ext cx="57420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1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5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91640" y="2256840"/>
              <a:ext cx="574560" cy="208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9.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604240" y="2605320"/>
              <a:ext cx="57600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3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,0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17560" y="2954160"/>
              <a:ext cx="57600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400" spc="-1" strike="noStrike" baseline="-25000">
                  <a:solidFill>
                    <a:srgbClr val="cd1fb8"/>
                  </a:solidFill>
                  <a:latin typeface="Geneva"/>
                </a:rPr>
                <a:t>4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2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70400" y="1558080"/>
              <a:ext cx="57456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24,3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29160" y="1906920"/>
              <a:ext cx="57456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600" spc="-1" strike="noStrike" baseline="-25000">
                  <a:solidFill>
                    <a:srgbClr val="32aa38"/>
                  </a:solidFill>
                  <a:latin typeface="Geneva"/>
                </a:rPr>
                <a:t>1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6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41400" y="2256840"/>
              <a:ext cx="576000" cy="2084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 baseline="-25000">
                  <a:solidFill>
                    <a:srgbClr val="32aa38"/>
                  </a:solidFill>
                  <a:latin typeface="Geneva"/>
                </a:rPr>
                <a:t>2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9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56520" y="2605320"/>
              <a:ext cx="574200" cy="20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 baseline="-25000">
                  <a:solidFill>
                    <a:srgbClr val="32aa38"/>
                  </a:solidFill>
                  <a:latin typeface="Geneva"/>
                </a:rPr>
                <a:t>3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6,1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68400" y="2954160"/>
              <a:ext cx="574560" cy="209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400" spc="-1" strike="noStrike" baseline="-25000">
                  <a:solidFill>
                    <a:srgbClr val="32aa38"/>
                  </a:solidFill>
                  <a:latin typeface="Geneva"/>
                </a:rPr>
                <a:t>4</a:t>
              </a:r>
              <a:r>
                <a:rPr b="0" lang="en-US" sz="1600" spc="-1" strike="noStrike" baseline="-25000">
                  <a:solidFill>
                    <a:srgbClr val="32aa38"/>
                  </a:solidFill>
                  <a:latin typeface="Geneva"/>
                </a:rPr>
                <a:t> 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3,0%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48280" y="1093680"/>
              <a:ext cx="716760" cy="210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neva"/>
                </a:rPr>
                <a:t>OBRA</a:t>
              </a: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Geneva"/>
                </a:rPr>
                <a:t>100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1660320" y="1434960"/>
              <a:ext cx="0" cy="126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72560" y="1447560"/>
              <a:ext cx="2106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801600" y="1434960"/>
              <a:ext cx="0" cy="126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2684160" y="1304280"/>
              <a:ext cx="0" cy="257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6280" y="1775880"/>
              <a:ext cx="0" cy="928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388160" y="2712960"/>
              <a:ext cx="170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387800" y="2374920"/>
              <a:ext cx="157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369800" y="2026800"/>
              <a:ext cx="16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17760" y="1775880"/>
              <a:ext cx="0" cy="128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411640" y="3074040"/>
              <a:ext cx="2098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425320" y="2725200"/>
              <a:ext cx="184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420640" y="2374920"/>
              <a:ext cx="175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420640" y="203760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70400" y="1786680"/>
              <a:ext cx="0" cy="1278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503160" y="3074040"/>
              <a:ext cx="171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471480" y="2725200"/>
              <a:ext cx="207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471840" y="2374920"/>
              <a:ext cx="174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480840" y="2015640"/>
              <a:ext cx="152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721400" y="1573200"/>
            <a:ext cx="4201920" cy="1675080"/>
            <a:chOff x="4721400" y="1573200"/>
            <a:chExt cx="4201920" cy="1675080"/>
          </a:xfrm>
        </p:grpSpPr>
        <p:sp>
          <p:nvSpPr>
            <p:cNvPr id="77" name=""/>
            <p:cNvSpPr/>
            <p:nvPr/>
          </p:nvSpPr>
          <p:spPr>
            <a:xfrm>
              <a:off x="4722840" y="1616040"/>
              <a:ext cx="42084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2840" y="2195280"/>
              <a:ext cx="42084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2840" y="2787480"/>
              <a:ext cx="42084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75400" y="1616040"/>
              <a:ext cx="420480" cy="2318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75400" y="2195280"/>
              <a:ext cx="42048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75400" y="2787480"/>
              <a:ext cx="42048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29400" y="1616040"/>
              <a:ext cx="409680" cy="2318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29400" y="2195280"/>
              <a:ext cx="40968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87480"/>
              <a:ext cx="409680" cy="2318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70800" y="2195280"/>
              <a:ext cx="42084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13640" y="2195280"/>
              <a:ext cx="409680" cy="2336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21400" y="1847880"/>
              <a:ext cx="0" cy="347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21400" y="2428920"/>
              <a:ext cx="0" cy="358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43680" y="174456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43680" y="231624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43680" y="288612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5880" y="1681200"/>
              <a:ext cx="533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95880" y="2316240"/>
              <a:ext cx="533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5880" y="2886120"/>
              <a:ext cx="533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39080" y="2252520"/>
              <a:ext cx="531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91640" y="2316240"/>
              <a:ext cx="52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96040" y="2236680"/>
              <a:ext cx="279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96040" y="2379600"/>
              <a:ext cx="279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396040" y="1744200"/>
              <a:ext cx="0" cy="492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96040" y="2379600"/>
              <a:ext cx="0" cy="506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321600" y="1784160"/>
              <a:ext cx="0" cy="532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21600" y="1784160"/>
              <a:ext cx="307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39080" y="1847880"/>
              <a:ext cx="0" cy="347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29400" y="2379600"/>
              <a:ext cx="0" cy="40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39080" y="2886120"/>
              <a:ext cx="2714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7310520" y="2363400"/>
              <a:ext cx="0" cy="522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75400" y="2428920"/>
              <a:ext cx="0" cy="203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5400" y="2631960"/>
              <a:ext cx="420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95880" y="2631960"/>
              <a:ext cx="0" cy="15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10520" y="2363760"/>
              <a:ext cx="260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07080" y="2392200"/>
              <a:ext cx="25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22200" y="30020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65040" y="17938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36680" y="17938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9528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71520" y="30020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61480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968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62240" y="23922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44600" y="30020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14280" y="17827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21400" y="1950840"/>
              <a:ext cx="95040" cy="11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39080" y="1958760"/>
              <a:ext cx="95040" cy="11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43520" y="2631960"/>
              <a:ext cx="95400" cy="117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9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04560" y="1573200"/>
              <a:ext cx="336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42640" y="1573200"/>
              <a:ext cx="336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98520" y="1573200"/>
              <a:ext cx="336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Geneva"/>
                </a:rPr>
                <a:t>A</a:t>
              </a:r>
              <a:r>
                <a:rPr b="1" lang="en-US" sz="1200" spc="-1" strike="noStrike" baseline="-25000">
                  <a:solidFill>
                    <a:srgbClr val="0000ff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62520" y="21542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08520" y="21524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40120" y="215424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40120" y="272736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51360" y="272736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56400" y="2727360"/>
              <a:ext cx="333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d1fb8"/>
                  </a:solidFill>
                  <a:latin typeface="Geneva"/>
                </a:rPr>
                <a:t>B</a:t>
              </a:r>
              <a:r>
                <a:rPr b="1" lang="en-US" sz="1200" spc="-1" strike="noStrike" baseline="-25000">
                  <a:solidFill>
                    <a:srgbClr val="cd1fb8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16880" y="21524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28040" y="2152440"/>
              <a:ext cx="328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2aa38"/>
                  </a:solidFill>
                  <a:latin typeface="Geneva"/>
                </a:rPr>
                <a:t>C</a:t>
              </a:r>
              <a:r>
                <a:rPr b="1" lang="en-US" sz="1200" spc="-1" strike="noStrike" baseline="-25000">
                  <a:solidFill>
                    <a:srgbClr val="32aa38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15880" y="3772080"/>
            <a:ext cx="4308480" cy="23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OD. .  ACT..   OD..   I. PREV..   T. PRE..  I. LIM..   T. LIM ..      FLOT..  CRI..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A1       2             0                2             7            11             7        2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A2       4             2                6           11            15             9        4/9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A3       6             8              14           15            21             7        7/6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1        5             1                6            8             13            7         5/7  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2        3             1                4          10             13            9         3/9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3        1             4                6          15             16           10       1/10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B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B4        4             8              12          18             22           10       4/10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1        2             6                8          13             15             7         2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2        3             8              15          18             22             7         3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3        2           15              17          22             24             7         2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US" sz="9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            C4        1           17              18          24             25             7         1/7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5600" y="3762360"/>
            <a:ext cx="4079880" cy="21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600" y="3933720"/>
            <a:ext cx="409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09572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3800" y="426708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3800" y="4429080"/>
            <a:ext cx="408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3800" y="459108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3800" y="475308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3800" y="492444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3800" y="5076720"/>
            <a:ext cx="409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3800" y="5238720"/>
            <a:ext cx="409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3800" y="557208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3800" y="5753160"/>
            <a:ext cx="409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5256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3344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692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0044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67000" y="375300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7680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28960" y="375300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4600" y="3724200"/>
            <a:ext cx="4079880" cy="218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54600" y="3895560"/>
            <a:ext cx="409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62520" y="406728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53160" y="4257720"/>
            <a:ext cx="408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53160" y="4448160"/>
            <a:ext cx="408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3160" y="4629240"/>
            <a:ext cx="408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53160" y="480060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53160" y="4971960"/>
            <a:ext cx="407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53160" y="5162400"/>
            <a:ext cx="409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53160" y="5353200"/>
            <a:ext cx="40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53160" y="5533920"/>
            <a:ext cx="408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53160" y="5715000"/>
            <a:ext cx="40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19560" y="372420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722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244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767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294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816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339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866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388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911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438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960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483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010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532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55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582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104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627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154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676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199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726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2488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77716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29800" y="3724200"/>
            <a:ext cx="0" cy="22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44320" y="369108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2  3   4   5  6  7   8  9 10 1112 1314 151617 1819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18960" y="3846600"/>
            <a:ext cx="3664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14880" y="3952800"/>
            <a:ext cx="16765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9800" y="4133880"/>
            <a:ext cx="19810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34200" y="4314960"/>
            <a:ext cx="19810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67160" y="4505400"/>
            <a:ext cx="1819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67160" y="46767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34080" y="484812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43560" y="5029200"/>
            <a:ext cx="21337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39000" y="521964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43560" y="5400720"/>
            <a:ext cx="21337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10600" y="5591160"/>
            <a:ext cx="1380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15160" y="5772240"/>
            <a:ext cx="12193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5520" y="395280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19800" y="4133880"/>
            <a:ext cx="609480" cy="66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34200" y="4314960"/>
            <a:ext cx="923760" cy="66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67160" y="4505400"/>
            <a:ext cx="77184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67160" y="4676760"/>
            <a:ext cx="457200" cy="74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34080" y="4848120"/>
            <a:ext cx="162000" cy="76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43560" y="5029200"/>
            <a:ext cx="609840" cy="74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39000" y="5229360"/>
            <a:ext cx="314280" cy="47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53400" y="5400720"/>
            <a:ext cx="44748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19960" y="5600880"/>
            <a:ext cx="314280" cy="64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15160" y="5772240"/>
            <a:ext cx="18108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600" y="907920"/>
            <a:ext cx="175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VISION JERARQUIZAD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Ponderacione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47680" y="9079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9360" y="3365640"/>
            <a:ext cx="11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CRON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62800" y="336564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26720" y="347760"/>
            <a:ext cx="144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Geneva"/>
              </a:rPr>
              <a:t>APLICACIO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0560" y="5416560"/>
            <a:ext cx="408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DATOS DE AVANCE  AL DÍA 5 </a:t>
            </a:r>
            <a:br>
              <a:rPr sz="2800"/>
            </a:b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(dicontinuas)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83200" y="423864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83200" y="4741920"/>
            <a:ext cx="0" cy="3096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2600" y="3629160"/>
            <a:ext cx="4546440" cy="2200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2600" y="3819600"/>
            <a:ext cx="450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0520" y="3990960"/>
            <a:ext cx="448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1160" y="4181400"/>
            <a:ext cx="449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1160" y="4371840"/>
            <a:ext cx="451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160" y="455292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1160" y="4724280"/>
            <a:ext cx="450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1160" y="489600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160" y="5086440"/>
            <a:ext cx="4527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160" y="5276880"/>
            <a:ext cx="454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160" y="5457960"/>
            <a:ext cx="454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1160" y="563868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85680" y="364824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7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00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526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4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7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9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62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14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7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9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719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242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64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91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814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33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6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386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90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43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5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8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00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53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05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29520" y="361476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2   3  4  5  6   7  8  9  10 111213 1415 16171819 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0480" y="3579840"/>
            <a:ext cx="406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3876840"/>
            <a:ext cx="16761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5280" y="4057560"/>
            <a:ext cx="198144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09680" y="4238640"/>
            <a:ext cx="1981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4429080"/>
            <a:ext cx="1819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460044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09560" y="47721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19400" y="4952880"/>
            <a:ext cx="213336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514368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19400" y="5324400"/>
            <a:ext cx="2133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86080" y="5514840"/>
            <a:ext cx="138132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91000" y="5695920"/>
            <a:ext cx="1218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81000" y="387684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4057560"/>
            <a:ext cx="60984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4238640"/>
            <a:ext cx="9241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3000" y="4429080"/>
            <a:ext cx="77148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600440"/>
            <a:ext cx="457200" cy="74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9560" y="4772160"/>
            <a:ext cx="162000" cy="7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19400" y="4952880"/>
            <a:ext cx="609480" cy="74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5153040"/>
            <a:ext cx="314280" cy="76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28880" y="5324400"/>
            <a:ext cx="44784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95800" y="5524560"/>
            <a:ext cx="314280" cy="74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91000" y="5695920"/>
            <a:ext cx="14292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81320" y="318456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3876840"/>
            <a:ext cx="60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685880" y="3429000"/>
            <a:ext cx="152280" cy="2400480"/>
            <a:chOff x="1685880" y="3429000"/>
            <a:chExt cx="152280" cy="2400480"/>
          </a:xfrm>
        </p:grpSpPr>
        <p:sp>
          <p:nvSpPr>
            <p:cNvPr id="295" name=""/>
            <p:cNvSpPr/>
            <p:nvPr/>
          </p:nvSpPr>
          <p:spPr>
            <a:xfrm>
              <a:off x="1685880" y="3429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85880" y="3505320"/>
              <a:ext cx="152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62200" y="3438360"/>
              <a:ext cx="0" cy="2391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295280" y="4048200"/>
            <a:ext cx="46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4400640"/>
            <a:ext cx="314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95280" y="4429080"/>
            <a:ext cx="46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4610160"/>
            <a:ext cx="295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4800" y="363852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0800" y="3570120"/>
            <a:ext cx="61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Ava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2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7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8560" y="5981760"/>
            <a:ext cx="314280" cy="74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8560" y="6134040"/>
            <a:ext cx="3142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8560" y="63342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53640" y="5899320"/>
            <a:ext cx="121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. Actualiz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2120" y="5899320"/>
            <a:ext cx="124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Fecha de datos:  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4038480"/>
            <a:ext cx="21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94360" y="4048200"/>
            <a:ext cx="336600" cy="199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8464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8464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46760" y="40384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4676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4676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10320" y="4038480"/>
            <a:ext cx="32868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10320" y="4540320"/>
            <a:ext cx="3286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10320" y="5051520"/>
            <a:ext cx="32868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6452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120160" y="4540320"/>
            <a:ext cx="3268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21240" y="41497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21240" y="464328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21240" y="513540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83360" y="409572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83360" y="464328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83360" y="513540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9000" y="458964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01120" y="4643280"/>
            <a:ext cx="4190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22840" y="457524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22840" y="469908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622840" y="4149720"/>
            <a:ext cx="0" cy="425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22840" y="4699080"/>
            <a:ext cx="0" cy="43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364440" y="4184640"/>
            <a:ext cx="0" cy="458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64440" y="4184640"/>
            <a:ext cx="245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39000" y="423864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10320" y="4699080"/>
            <a:ext cx="0" cy="35244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39000" y="513540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156440" y="4684680"/>
            <a:ext cx="0" cy="45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46760" y="4741920"/>
            <a:ext cx="0" cy="174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46760" y="4916520"/>
            <a:ext cx="336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83360" y="4916520"/>
            <a:ext cx="0" cy="1350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56440" y="4684680"/>
            <a:ext cx="2080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51600" y="4710240"/>
            <a:ext cx="26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66360" y="52354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22000" y="419256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907960" y="4192560"/>
            <a:ext cx="2546280" cy="1289160"/>
            <a:chOff x="5907960" y="4192560"/>
            <a:chExt cx="2546280" cy="1289160"/>
          </a:xfrm>
        </p:grpSpPr>
        <p:sp>
          <p:nvSpPr>
            <p:cNvPr id="347" name=""/>
            <p:cNvSpPr/>
            <p:nvPr/>
          </p:nvSpPr>
          <p:spPr>
            <a:xfrm>
              <a:off x="6698520" y="41925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0796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2668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0188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7764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3976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0464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939000" y="4335480"/>
            <a:ext cx="76320" cy="10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43560" y="5040360"/>
            <a:ext cx="76320" cy="10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7448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480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7008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42000" y="45036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06240" y="4503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0624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1588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3948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0556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13600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640" y="35942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48200" y="4038480"/>
            <a:ext cx="123840" cy="200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086440" y="4543560"/>
            <a:ext cx="123840" cy="1998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86440" y="5048280"/>
            <a:ext cx="123840" cy="2001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72280" y="401940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29320" y="402912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05360" y="45054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5936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96000" y="502920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172120" y="3924360"/>
            <a:ext cx="836640" cy="1123920"/>
            <a:chOff x="5172120" y="3924360"/>
            <a:chExt cx="836640" cy="1123920"/>
          </a:xfrm>
        </p:grpSpPr>
        <p:grpSp>
          <p:nvGrpSpPr>
            <p:cNvPr id="376" name=""/>
            <p:cNvGrpSpPr/>
            <p:nvPr/>
          </p:nvGrpSpPr>
          <p:grpSpPr>
            <a:xfrm>
              <a:off x="5934240" y="3924360"/>
              <a:ext cx="74520" cy="104760"/>
              <a:chOff x="5934240" y="3924360"/>
              <a:chExt cx="74520" cy="104760"/>
            </a:xfrm>
          </p:grpSpPr>
          <p:sp>
            <p:nvSpPr>
              <p:cNvPr id="377" name=""/>
              <p:cNvSpPr/>
              <p:nvPr/>
            </p:nvSpPr>
            <p:spPr>
              <a:xfrm>
                <a:off x="5934240" y="39243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72400" y="396252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172120" y="4429080"/>
              <a:ext cx="74520" cy="104760"/>
              <a:chOff x="5172120" y="4429080"/>
              <a:chExt cx="74520" cy="104760"/>
            </a:xfrm>
          </p:grpSpPr>
          <p:sp>
            <p:nvSpPr>
              <p:cNvPr id="380" name=""/>
              <p:cNvSpPr/>
              <p:nvPr/>
            </p:nvSpPr>
            <p:spPr>
              <a:xfrm>
                <a:off x="5172120" y="44290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210280" y="446724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5172120" y="4943520"/>
              <a:ext cx="74520" cy="104760"/>
              <a:chOff x="5172120" y="4943520"/>
              <a:chExt cx="74520" cy="104760"/>
            </a:xfrm>
          </p:grpSpPr>
          <p:sp>
            <p:nvSpPr>
              <p:cNvPr id="383" name=""/>
              <p:cNvSpPr/>
              <p:nvPr/>
            </p:nvSpPr>
            <p:spPr>
              <a:xfrm>
                <a:off x="5172120" y="49435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210280" y="49816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6105600" y="385776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43480" y="4371840"/>
            <a:ext cx="2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53200" y="489600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86560" y="489600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95920" y="4362480"/>
            <a:ext cx="2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86520" y="436248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14960" y="486720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10160" y="436248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72360" y="485784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10160" y="384804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0" y="384804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86440" y="436248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0" y="485784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35276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601040" y="435276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943760" y="435276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53440" y="434340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6467400" y="3581280"/>
            <a:ext cx="406440" cy="246240"/>
            <a:chOff x="6467400" y="3581280"/>
            <a:chExt cx="406440" cy="246240"/>
          </a:xfrm>
        </p:grpSpPr>
        <p:grpSp>
          <p:nvGrpSpPr>
            <p:cNvPr id="403" name=""/>
            <p:cNvGrpSpPr/>
            <p:nvPr/>
          </p:nvGrpSpPr>
          <p:grpSpPr>
            <a:xfrm>
              <a:off x="6467400" y="3657600"/>
              <a:ext cx="74520" cy="104760"/>
              <a:chOff x="6467400" y="3657600"/>
              <a:chExt cx="74520" cy="104760"/>
            </a:xfrm>
          </p:grpSpPr>
          <p:sp>
            <p:nvSpPr>
              <p:cNvPr id="404" name=""/>
              <p:cNvSpPr/>
              <p:nvPr/>
            </p:nvSpPr>
            <p:spPr>
              <a:xfrm>
                <a:off x="6467400" y="36576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505560" y="369576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6489360" y="3581280"/>
              <a:ext cx="38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Geneva"/>
                </a:rPr>
                <a:t>= 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76520" y="1752480"/>
            <a:ext cx="61070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76520" y="1752480"/>
            <a:ext cx="61070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34920" y="192240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46440" y="192240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63200" y="192240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09560" y="192240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42880" y="1922400"/>
            <a:ext cx="70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nderac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92480" y="19224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232680" y="19224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ura. Rema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39440" y="192240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vance Pon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30040" y="20937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98360" y="209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14480" y="209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23840" y="20937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95320" y="2093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7920" y="209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68480" y="2093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14560" y="2093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30040" y="22557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98360" y="22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88640" y="22557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29800" y="22557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7920" y="2255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68480" y="22557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14560" y="2255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3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30040" y="241632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8360" y="2416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88640" y="24163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29800" y="24163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947920" y="2416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68480" y="24163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,5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49040" y="24163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,6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30040" y="25779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98360" y="2577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688640" y="25779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95320" y="25779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47920" y="2577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68480" y="25779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,7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414560" y="25779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9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49040" y="275760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,6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25640" y="1762200"/>
            <a:ext cx="10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ptura de dato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71480" y="1762200"/>
            <a:ext cx="43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Oficin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76520" y="175248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85880" y="1752480"/>
            <a:ext cx="326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85880" y="1752480"/>
            <a:ext cx="3264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38840" y="17524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92280" y="175248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08400" y="175248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22720" y="17524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54600" y="1752480"/>
            <a:ext cx="180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54600" y="1752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141960" y="1752480"/>
            <a:ext cx="180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41960" y="1752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58080" y="17524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958080" y="17524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85880" y="1914480"/>
            <a:ext cx="6097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85880" y="1914480"/>
            <a:ext cx="60976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772400" y="1752480"/>
            <a:ext cx="1440" cy="1620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1752480"/>
            <a:ext cx="11160" cy="16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76520" y="1752480"/>
            <a:ext cx="144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76520" y="1752480"/>
            <a:ext cx="936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92280" y="19224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92280" y="19224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08400" y="19224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08400" y="19224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754600" y="19224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54600" y="19224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41960" y="19224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141960" y="19224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958080" y="19224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58080" y="19224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685880" y="2084400"/>
            <a:ext cx="6086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85880" y="2084400"/>
            <a:ext cx="60865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72400" y="1922400"/>
            <a:ext cx="1440" cy="15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772400" y="1922400"/>
            <a:ext cx="1116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76520" y="224640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76520" y="224640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33880" y="224640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33880" y="224640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950000" y="2246400"/>
            <a:ext cx="28224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50000" y="2246400"/>
            <a:ext cx="28224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676520" y="2406600"/>
            <a:ext cx="24462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76520" y="2406600"/>
            <a:ext cx="24462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33880" y="2406600"/>
            <a:ext cx="8049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33880" y="2406600"/>
            <a:ext cx="8049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50000" y="2406600"/>
            <a:ext cx="28224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50000" y="2406600"/>
            <a:ext cx="282240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256860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256860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3880" y="256860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33880" y="256860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50000" y="2568600"/>
            <a:ext cx="28224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0000" y="2568600"/>
            <a:ext cx="28224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273852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76520" y="273852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33880" y="273852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33880" y="273852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0000" y="2738520"/>
            <a:ext cx="20080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50000" y="2738520"/>
            <a:ext cx="20080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58080" y="2728800"/>
            <a:ext cx="814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958080" y="2728800"/>
            <a:ext cx="814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958080" y="2747880"/>
            <a:ext cx="814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58080" y="2747880"/>
            <a:ext cx="814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909880"/>
            <a:ext cx="24462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909880"/>
            <a:ext cx="24462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33880" y="2909880"/>
            <a:ext cx="8049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33880" y="2909880"/>
            <a:ext cx="8049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958080" y="2093760"/>
            <a:ext cx="1440" cy="6350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958080" y="2093760"/>
            <a:ext cx="9360" cy="635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0000" y="2909880"/>
            <a:ext cx="28224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50000" y="2909880"/>
            <a:ext cx="282240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2093760"/>
            <a:ext cx="0" cy="7732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92280" y="2093760"/>
            <a:ext cx="0" cy="8305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08400" y="2093760"/>
            <a:ext cx="0" cy="792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122720" y="1922400"/>
            <a:ext cx="0" cy="9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38840" y="1762200"/>
            <a:ext cx="0" cy="1123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54600" y="2093760"/>
            <a:ext cx="0" cy="8305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141960" y="2093760"/>
            <a:ext cx="0" cy="792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958080" y="2757600"/>
            <a:ext cx="0" cy="1285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772400" y="2093760"/>
            <a:ext cx="0" cy="81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950000" y="1752480"/>
            <a:ext cx="2833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0000" y="1752480"/>
            <a:ext cx="2842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783560" y="191448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83560" y="19144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772400" y="2075040"/>
            <a:ext cx="2052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783560" y="224640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783560" y="22464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783560" y="240660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83560" y="240660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83560" y="256860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783560" y="25686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83560" y="273852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783560" y="273852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83560" y="290988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783560" y="290988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783560" y="30700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783560" y="33926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783560" y="37148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783560" y="41990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783560" y="452124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783560" y="484344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783560" y="516564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783560" y="548784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783560" y="58104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190600" y="6058080"/>
            <a:ext cx="25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 Ponderado :  </a:t>
            </a:r>
            <a:r>
              <a:rPr b="1" lang="es-ES_tradnl" sz="1000" spc="-1" strike="noStrike">
                <a:solidFill>
                  <a:srgbClr val="000000"/>
                </a:solidFill>
                <a:latin typeface="Geneva"/>
              </a:rPr>
              <a:t>20,6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81760" y="4054320"/>
            <a:ext cx="33624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90600" y="6210360"/>
            <a:ext cx="22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Pronóstico: Término el día 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14880" y="5591160"/>
            <a:ext cx="32194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Camino Crítico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: tér.B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–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52480" y="4048200"/>
            <a:ext cx="476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14600" y="4229280"/>
            <a:ext cx="933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752480" y="44290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752480" y="46101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09680" y="4772160"/>
            <a:ext cx="31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676600" y="49528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28760" y="5133960"/>
            <a:ext cx="295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14720" y="5324400"/>
            <a:ext cx="466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0360" y="5495760"/>
            <a:ext cx="295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95560" y="5686560"/>
            <a:ext cx="123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5320" y="64832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TOS DE AVANCE  AL DIA 10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85880" y="1523880"/>
            <a:ext cx="61070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46080" y="169380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62280" y="169380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83720" y="169380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333320" y="169380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66640" y="1693800"/>
            <a:ext cx="70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nderac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914800" y="16938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235920" y="16938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ura. Rema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047360" y="169380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vance Pon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41200" y="18651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916000" y="186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36440" y="186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644360" y="18651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25200" y="18651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70240" y="186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65240" y="1865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423920" y="18651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41200" y="20271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916000" y="2027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15640" y="20271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355360" y="202716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970240" y="2027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465240" y="20271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23920" y="20271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41200" y="218772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1600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73644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644360" y="2187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355360" y="21877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7024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465240" y="21877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53720" y="21877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41200" y="234936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916000" y="2349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715640" y="234936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25200" y="23493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70240" y="2349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65240" y="23493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6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423920" y="23493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,27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60640" y="250992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92240" y="2509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785840" y="250992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25200" y="250992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70240" y="2509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465240" y="25099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423920" y="250992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353720" y="26906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4,5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43280" y="1533600"/>
            <a:ext cx="10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ptura de dato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85880" y="152388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695600" y="1523880"/>
            <a:ext cx="325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95600" y="1523880"/>
            <a:ext cx="325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964040" y="15238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505240" y="1523880"/>
            <a:ext cx="1080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25680" y="152388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45040" y="1523880"/>
            <a:ext cx="111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95600" y="1685880"/>
            <a:ext cx="325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95600" y="1685880"/>
            <a:ext cx="32590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84840" y="15238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84840" y="15238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143760" y="15238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43760" y="1523880"/>
            <a:ext cx="93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962760" y="1523880"/>
            <a:ext cx="1440" cy="9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962760" y="1523880"/>
            <a:ext cx="11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975200" y="1685880"/>
            <a:ext cx="28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975200" y="1685880"/>
            <a:ext cx="2817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85880" y="1523880"/>
            <a:ext cx="180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685880" y="1523880"/>
            <a:ext cx="972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0524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05240" y="1693800"/>
            <a:ext cx="1080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325680" y="169380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25680" y="169380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95600" y="185580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695600" y="1855800"/>
            <a:ext cx="325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8484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84840" y="16938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14376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43760" y="169380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962760" y="169380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962760" y="1693800"/>
            <a:ext cx="111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75200" y="1855800"/>
            <a:ext cx="2806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75200" y="1855800"/>
            <a:ext cx="28065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781760" y="1693800"/>
            <a:ext cx="1800" cy="15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781760" y="1693800"/>
            <a:ext cx="1116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85880" y="20178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85880" y="20178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156200" y="2017800"/>
            <a:ext cx="7984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156200" y="2017800"/>
            <a:ext cx="798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5200" y="201780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75200" y="201780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85880" y="217800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685880" y="217800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156200" y="2178000"/>
            <a:ext cx="79848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56200" y="2178000"/>
            <a:ext cx="798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975200" y="217800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975200" y="217800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685880" y="23400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685880" y="23400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156200" y="2340000"/>
            <a:ext cx="7984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56200" y="2340000"/>
            <a:ext cx="798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75200" y="234000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975200" y="234000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685880" y="250020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685880" y="250020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156200" y="2500200"/>
            <a:ext cx="79848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56200" y="2500200"/>
            <a:ext cx="798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75200" y="2500200"/>
            <a:ext cx="28353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962760" y="1865160"/>
            <a:ext cx="1440" cy="9781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85880" y="26719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685880" y="26719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56200" y="2671920"/>
            <a:ext cx="79848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156200" y="2671920"/>
            <a:ext cx="79848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5200" y="2671920"/>
            <a:ext cx="1987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75200" y="2671920"/>
            <a:ext cx="1987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962760" y="2662200"/>
            <a:ext cx="81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962760" y="2662200"/>
            <a:ext cx="819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962760" y="2681280"/>
            <a:ext cx="819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62760" y="2681280"/>
            <a:ext cx="81900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85880" y="284148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85880" y="284148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56200" y="2841480"/>
            <a:ext cx="79848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156200" y="2841480"/>
            <a:ext cx="79848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62760" y="2509920"/>
            <a:ext cx="1440" cy="1522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962760" y="2509920"/>
            <a:ext cx="11160" cy="152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75200" y="284148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975200" y="284148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958320" y="361476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 2  3  4  5   6  7  8  9  10 1112 13141516 171819 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01680" y="3629160"/>
            <a:ext cx="4546440" cy="2200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01680" y="3819600"/>
            <a:ext cx="454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09600" y="3990960"/>
            <a:ext cx="452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99880" y="4181400"/>
            <a:ext cx="454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99880" y="4371840"/>
            <a:ext cx="453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9880" y="4552920"/>
            <a:ext cx="454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9880" y="472428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9880" y="4896000"/>
            <a:ext cx="453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99880" y="5086440"/>
            <a:ext cx="453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99880" y="5276880"/>
            <a:ext cx="457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9880" y="5457960"/>
            <a:ext cx="454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9880" y="563868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004760" y="364824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667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190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471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239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7762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28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0811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334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386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383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6906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843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955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1478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3004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4527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050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757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9099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0622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14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3671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1944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72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59560" y="3579840"/>
            <a:ext cx="406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09800" y="3876840"/>
            <a:ext cx="16761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314360" y="4057560"/>
            <a:ext cx="198144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28760" y="4238640"/>
            <a:ext cx="1981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62080" y="4429080"/>
            <a:ext cx="18190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62080" y="460044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628640" y="47721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38480" y="4952880"/>
            <a:ext cx="213336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933560" y="514368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238480" y="5324400"/>
            <a:ext cx="2133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305160" y="5514840"/>
            <a:ext cx="138132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610080" y="5695920"/>
            <a:ext cx="1218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000080" y="387684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314360" y="4057560"/>
            <a:ext cx="60984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228760" y="4238640"/>
            <a:ext cx="9241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62080" y="4429080"/>
            <a:ext cx="77148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62080" y="4600440"/>
            <a:ext cx="457200" cy="74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628640" y="4772160"/>
            <a:ext cx="162000" cy="7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38480" y="4952880"/>
            <a:ext cx="609480" cy="74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33560" y="5153040"/>
            <a:ext cx="314280" cy="76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47960" y="5324400"/>
            <a:ext cx="44784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314880" y="5524560"/>
            <a:ext cx="314280" cy="74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610080" y="5695920"/>
            <a:ext cx="18072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00400" y="318456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009800" y="387684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2467080" y="3429000"/>
            <a:ext cx="152280" cy="2400480"/>
            <a:chOff x="2467080" y="3429000"/>
            <a:chExt cx="152280" cy="2400480"/>
          </a:xfrm>
        </p:grpSpPr>
        <p:sp>
          <p:nvSpPr>
            <p:cNvPr id="758" name=""/>
            <p:cNvSpPr/>
            <p:nvPr/>
          </p:nvSpPr>
          <p:spPr>
            <a:xfrm>
              <a:off x="2467080" y="3429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467080" y="3505320"/>
              <a:ext cx="152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543400" y="3438360"/>
              <a:ext cx="0" cy="2391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1314360" y="4048200"/>
            <a:ext cx="122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67000" y="4400640"/>
            <a:ext cx="314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14360" y="4429080"/>
            <a:ext cx="619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57280" y="461016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23880" y="363852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18040" y="3570120"/>
            <a:ext cx="58752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va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5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8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7640" y="5981760"/>
            <a:ext cx="314280" cy="74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47640" y="6134040"/>
            <a:ext cx="3142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7640" y="63435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72720" y="5899320"/>
            <a:ext cx="121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. Actualiz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28040" y="5899320"/>
            <a:ext cx="168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Fecha de datos       :      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04960" y="364824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704960" y="364824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04960" y="380844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04960" y="380844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704960" y="50976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704960" y="558180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04960" y="55818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685880" y="1865160"/>
            <a:ext cx="0" cy="944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05240" y="1865160"/>
            <a:ext cx="0" cy="944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325680" y="1865160"/>
            <a:ext cx="0" cy="96372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145040" y="1693800"/>
            <a:ext cx="0" cy="1154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784840" y="1865160"/>
            <a:ext cx="0" cy="982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124680" y="1865160"/>
            <a:ext cx="0" cy="982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75200" y="1523880"/>
            <a:ext cx="28274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792920" y="168588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792920" y="168588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781760" y="1846440"/>
            <a:ext cx="2088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792920" y="20178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792920" y="20178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792920" y="217800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792920" y="217800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792920" y="23400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792920" y="23400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792920" y="250020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792920" y="250020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792920" y="26719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792920" y="26719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792920" y="284148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92920" y="2841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792920" y="30034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792920" y="332568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792920" y="36482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792920" y="38084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792920" y="41306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92920" y="44528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792920" y="47750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792920" y="50976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792920" y="542124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792920" y="31640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792920" y="31640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792920" y="332568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122800" y="4038480"/>
            <a:ext cx="336600" cy="2001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122800" y="4540320"/>
            <a:ext cx="336600" cy="201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12280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121360" y="421956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121360" y="4741920"/>
            <a:ext cx="0" cy="3096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204520" y="52354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124600" y="5048280"/>
            <a:ext cx="123840" cy="2001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884920" y="40384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884920" y="454032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884920" y="5051520"/>
            <a:ext cx="33660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48480" y="4038480"/>
            <a:ext cx="32868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648480" y="4540320"/>
            <a:ext cx="3286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648480" y="5051520"/>
            <a:ext cx="328680" cy="1998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402680" y="4540320"/>
            <a:ext cx="33624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158320" y="4540320"/>
            <a:ext cx="3268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459400" y="41497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459400" y="464328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459400" y="513540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221520" y="409572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221520" y="464328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221520" y="513540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977160" y="458964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738920" y="4643280"/>
            <a:ext cx="4194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61000" y="457524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61000" y="469908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5661000" y="4149720"/>
            <a:ext cx="0" cy="425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661000" y="4699080"/>
            <a:ext cx="0" cy="4363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402240" y="4184640"/>
            <a:ext cx="0" cy="458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402240" y="4184640"/>
            <a:ext cx="2462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977160" y="4238640"/>
            <a:ext cx="0" cy="3016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648480" y="4699080"/>
            <a:ext cx="0" cy="35244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977160" y="513540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194600" y="4684680"/>
            <a:ext cx="0" cy="45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884920" y="4741920"/>
            <a:ext cx="0" cy="174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884920" y="4916520"/>
            <a:ext cx="336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221520" y="4916520"/>
            <a:ext cx="0" cy="1350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194600" y="4684680"/>
            <a:ext cx="2080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960160" y="419256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964840" y="46972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5964840" y="4192560"/>
            <a:ext cx="2527200" cy="1289160"/>
            <a:chOff x="5964840" y="4192560"/>
            <a:chExt cx="2527200" cy="1289160"/>
          </a:xfrm>
        </p:grpSpPr>
        <p:sp>
          <p:nvSpPr>
            <p:cNvPr id="853" name=""/>
            <p:cNvSpPr/>
            <p:nvPr/>
          </p:nvSpPr>
          <p:spPr>
            <a:xfrm>
              <a:off x="6717600" y="41925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96484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23968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1580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477920" y="47102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742800" y="52354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6977160" y="4335480"/>
            <a:ext cx="75960" cy="10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400800" y="5030640"/>
            <a:ext cx="76320" cy="1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91264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14260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707880" y="400212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680160" y="45036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1660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144040" y="4503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14404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5368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677640" y="499896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44372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173800" y="450216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905800" y="35942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886360" y="4038480"/>
            <a:ext cx="123840" cy="2001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389560" y="4029120"/>
            <a:ext cx="1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75400" y="401940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380200" y="451476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589720" y="451476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6638760" y="3562200"/>
            <a:ext cx="473040" cy="246240"/>
            <a:chOff x="6638760" y="3562200"/>
            <a:chExt cx="473040" cy="246240"/>
          </a:xfrm>
        </p:grpSpPr>
        <p:grpSp>
          <p:nvGrpSpPr>
            <p:cNvPr id="879" name=""/>
            <p:cNvGrpSpPr/>
            <p:nvPr/>
          </p:nvGrpSpPr>
          <p:grpSpPr>
            <a:xfrm>
              <a:off x="6638760" y="3638520"/>
              <a:ext cx="86400" cy="104760"/>
              <a:chOff x="6638760" y="3638520"/>
              <a:chExt cx="86400" cy="104760"/>
            </a:xfrm>
          </p:grpSpPr>
          <p:sp>
            <p:nvSpPr>
              <p:cNvPr id="880" name=""/>
              <p:cNvSpPr/>
              <p:nvPr/>
            </p:nvSpPr>
            <p:spPr>
              <a:xfrm>
                <a:off x="6638760" y="3638520"/>
                <a:ext cx="8640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683040" y="36766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>
              <a:off x="6664320" y="3562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Geneva"/>
                </a:rPr>
                <a:t>=10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210280" y="3933720"/>
            <a:ext cx="836280" cy="1114560"/>
            <a:chOff x="5210280" y="3933720"/>
            <a:chExt cx="836280" cy="1114560"/>
          </a:xfrm>
        </p:grpSpPr>
        <p:grpSp>
          <p:nvGrpSpPr>
            <p:cNvPr id="884" name=""/>
            <p:cNvGrpSpPr/>
            <p:nvPr/>
          </p:nvGrpSpPr>
          <p:grpSpPr>
            <a:xfrm>
              <a:off x="5210280" y="4943520"/>
              <a:ext cx="74520" cy="104760"/>
              <a:chOff x="5210280" y="4943520"/>
              <a:chExt cx="74520" cy="104760"/>
            </a:xfrm>
          </p:grpSpPr>
          <p:sp>
            <p:nvSpPr>
              <p:cNvPr id="885" name=""/>
              <p:cNvSpPr/>
              <p:nvPr/>
            </p:nvSpPr>
            <p:spPr>
              <a:xfrm>
                <a:off x="5210280" y="49435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248440" y="49816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5848200" y="4438800"/>
              <a:ext cx="74520" cy="104760"/>
              <a:chOff x="5848200" y="4438800"/>
              <a:chExt cx="74520" cy="104760"/>
            </a:xfrm>
          </p:grpSpPr>
          <p:sp>
            <p:nvSpPr>
              <p:cNvPr id="888" name=""/>
              <p:cNvSpPr/>
              <p:nvPr/>
            </p:nvSpPr>
            <p:spPr>
              <a:xfrm>
                <a:off x="5848200" y="44388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886360" y="447696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5972040" y="3933720"/>
              <a:ext cx="74520" cy="104760"/>
              <a:chOff x="5972040" y="3933720"/>
              <a:chExt cx="74520" cy="104760"/>
            </a:xfrm>
          </p:grpSpPr>
          <p:sp>
            <p:nvSpPr>
              <p:cNvPr id="891" name=""/>
              <p:cNvSpPr/>
              <p:nvPr/>
            </p:nvSpPr>
            <p:spPr>
              <a:xfrm>
                <a:off x="5972040" y="39337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010200" y="397188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3" name=""/>
          <p:cNvSpPr/>
          <p:nvPr/>
        </p:nvSpPr>
        <p:spPr>
          <a:xfrm>
            <a:off x="6143760" y="386712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127920" y="438156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81640" y="489600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676840" y="488628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410160" y="439092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562800" y="454356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182000" y="437184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429240" y="386712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153120" y="488628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391440" y="487692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896160" y="386712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934320" y="436248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96160" y="486720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658280" y="4371840"/>
            <a:ext cx="34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943760" y="437184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400960" y="4362480"/>
            <a:ext cx="3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792920" y="36482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792920" y="38084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792920" y="39704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92920" y="39704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792920" y="41306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792920" y="42926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792920" y="42926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792920" y="44528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792920" y="46148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792920" y="46148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792920" y="47750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792920" y="49370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792920" y="49370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792920" y="50976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792920" y="52592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792920" y="52592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792920" y="542124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792920" y="55818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92920" y="55818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991040" y="1504800"/>
            <a:ext cx="0" cy="131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791480" y="1676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190600" y="6058080"/>
            <a:ext cx="25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 Ponderado :  </a:t>
            </a:r>
            <a:r>
              <a:rPr b="1" lang="es-ES_tradnl" sz="1000" spc="-1" strike="noStrike">
                <a:solidFill>
                  <a:srgbClr val="000000"/>
                </a:solidFill>
                <a:latin typeface="Geneva"/>
              </a:rPr>
              <a:t>34,5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190600" y="6210360"/>
            <a:ext cx="22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Pronóstico: </a:t>
            </a: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Término el día 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172120" y="5657760"/>
            <a:ext cx="33526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Camino Crítico: 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tér.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y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1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4400" y="64929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543040" y="40482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16280" y="4229280"/>
            <a:ext cx="888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562120" y="4610160"/>
            <a:ext cx="123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685960" y="4772160"/>
            <a:ext cx="16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52880" y="49435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52760" y="5143680"/>
            <a:ext cx="28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3448080" y="5324400"/>
            <a:ext cx="466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14640" y="550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219560" y="5686560"/>
            <a:ext cx="142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381400" y="5143680"/>
            <a:ext cx="171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TOS DE AVANCE  AL DIA 15</a:t>
            </a:r>
            <a:endParaRPr b="1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82600" y="3629160"/>
            <a:ext cx="4546440" cy="2200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82600" y="3819600"/>
            <a:ext cx="450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90520" y="3990960"/>
            <a:ext cx="448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81160" y="4181400"/>
            <a:ext cx="449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81160" y="4371840"/>
            <a:ext cx="451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81160" y="455292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1160" y="4724280"/>
            <a:ext cx="450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81160" y="489600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81160" y="5086440"/>
            <a:ext cx="4508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81160" y="5276880"/>
            <a:ext cx="45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81160" y="5457960"/>
            <a:ext cx="454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81160" y="563868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985680" y="3648240"/>
            <a:ext cx="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147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300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46196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04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757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9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062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214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367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519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6719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8242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9764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1291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814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4336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5863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7386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8908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0435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1958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3480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50072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65300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05280" y="3648240"/>
            <a:ext cx="0" cy="21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939240" y="3614760"/>
            <a:ext cx="398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  2   3  4  5  6   7  8   9 1011 1213 141516 171819 20 212223 242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0480" y="3579840"/>
            <a:ext cx="406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B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C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990720" y="3876840"/>
            <a:ext cx="16761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295280" y="4057560"/>
            <a:ext cx="198144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209680" y="4238640"/>
            <a:ext cx="1981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143000" y="4429080"/>
            <a:ext cx="181944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43000" y="4600440"/>
            <a:ext cx="182880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609560" y="4772160"/>
            <a:ext cx="18288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219400" y="4952880"/>
            <a:ext cx="213336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14480" y="5143680"/>
            <a:ext cx="137160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219400" y="5324400"/>
            <a:ext cx="21333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286080" y="5514840"/>
            <a:ext cx="138132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591000" y="5695920"/>
            <a:ext cx="121896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981000" y="3876840"/>
            <a:ext cx="314280" cy="74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295280" y="4057560"/>
            <a:ext cx="60984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209680" y="4238640"/>
            <a:ext cx="9241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143000" y="4429080"/>
            <a:ext cx="771480" cy="74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143000" y="4600440"/>
            <a:ext cx="457200" cy="74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609560" y="4772160"/>
            <a:ext cx="162000" cy="75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219400" y="4952880"/>
            <a:ext cx="609480" cy="74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cd1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914480" y="5153040"/>
            <a:ext cx="314280" cy="76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828880" y="5324400"/>
            <a:ext cx="447840" cy="74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295800" y="5524560"/>
            <a:ext cx="314280" cy="74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591000" y="5695920"/>
            <a:ext cx="181080" cy="74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32aa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00520" y="3336840"/>
            <a:ext cx="16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DIAGRAMA DE BARRA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003320" y="3876840"/>
            <a:ext cx="581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3200400" y="3429000"/>
            <a:ext cx="152280" cy="2400480"/>
            <a:chOff x="3200400" y="3429000"/>
            <a:chExt cx="152280" cy="2400480"/>
          </a:xfrm>
        </p:grpSpPr>
        <p:sp>
          <p:nvSpPr>
            <p:cNvPr id="1010" name=""/>
            <p:cNvSpPr/>
            <p:nvPr/>
          </p:nvSpPr>
          <p:spPr>
            <a:xfrm>
              <a:off x="3200400" y="34290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200400" y="3505320"/>
              <a:ext cx="152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276720" y="3438360"/>
              <a:ext cx="0" cy="2391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1308240" y="40482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447920" y="4400640"/>
            <a:ext cx="314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8520" y="4429080"/>
            <a:ext cx="166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57280" y="460044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04800" y="3638520"/>
            <a:ext cx="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57560" y="3579840"/>
            <a:ext cx="6865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Ava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4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10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9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eneva"/>
              </a:rPr>
              <a:t>20%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28560" y="5981760"/>
            <a:ext cx="314280" cy="74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28560" y="6134040"/>
            <a:ext cx="31428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28560" y="63342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953640" y="5899320"/>
            <a:ext cx="1215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ram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Prog. Actualiz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201040" y="589932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Fecha de datos : 1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517840" y="4213080"/>
            <a:ext cx="743040" cy="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657520" y="477216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971800" y="49528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381400" y="5153040"/>
            <a:ext cx="89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848960" y="154152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765520" y="154152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ICI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486960" y="154152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TERMIN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336560" y="154152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069880" y="1541520"/>
            <a:ext cx="70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nderac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918040" y="154152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238800" y="154152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ura. Rema.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050240" y="1541520"/>
            <a:ext cx="75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vance Pond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044440" y="171288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918880" y="1712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739680" y="1712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7600" y="17128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428440" y="17128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973480" y="1712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468480" y="17128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369920" y="17128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0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044440" y="1874880"/>
            <a:ext cx="1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918880" y="187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714480" y="1874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647600" y="18748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358240" y="18748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973480" y="1874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468480" y="18748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300080" y="18748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061720" y="20350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895120" y="2035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718880" y="20350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58240" y="2035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8,18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973480" y="2035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468480" y="2035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6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369920" y="20350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,27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061720" y="21970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918880" y="2197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714480" y="2197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647600" y="21970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58240" y="2197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973480" y="2197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468480" y="21970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00080" y="21970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,15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61720" y="23572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18880" y="235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714480" y="2357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647600" y="23572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428440" y="2357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973480" y="235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468480" y="23572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369920" y="2357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,09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061720" y="251928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895120" y="2519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714480" y="2519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47600" y="25192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428440" y="2519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3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973480" y="2519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468480" y="25192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0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369920" y="25192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,03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061720" y="267984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895120" y="2679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718880" y="267984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358240" y="26798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,1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973480" y="2679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468480" y="26798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,4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300080" y="26798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,91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063520" y="284148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895120" y="284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718880" y="28414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428440" y="28414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,10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973480" y="2841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68480" y="28414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,6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369920" y="28414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,22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300080" y="302112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4,8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846520" y="1380960"/>
            <a:ext cx="10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ptura de dato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689120" y="1371600"/>
            <a:ext cx="93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698480" y="1371600"/>
            <a:ext cx="325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698480" y="1371600"/>
            <a:ext cx="3259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67280" y="137160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508120" y="1371600"/>
            <a:ext cx="1116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328920" y="1371600"/>
            <a:ext cx="972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148280" y="1371600"/>
            <a:ext cx="1080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698480" y="1533600"/>
            <a:ext cx="325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698480" y="1533600"/>
            <a:ext cx="32594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788080" y="1371600"/>
            <a:ext cx="1440" cy="9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788080" y="1371600"/>
            <a:ext cx="93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146640" y="1371600"/>
            <a:ext cx="1800" cy="9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146640" y="13716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966000" y="1371600"/>
            <a:ext cx="1440" cy="936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966000" y="1371600"/>
            <a:ext cx="11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978440" y="1533600"/>
            <a:ext cx="28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978440" y="1533600"/>
            <a:ext cx="2817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89120" y="1371600"/>
            <a:ext cx="144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89120" y="1371600"/>
            <a:ext cx="936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508120" y="154152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8120" y="1541520"/>
            <a:ext cx="111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328920" y="154152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328920" y="154152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698480" y="1703520"/>
            <a:ext cx="325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698480" y="1703520"/>
            <a:ext cx="32594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88080" y="154152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788080" y="1541520"/>
            <a:ext cx="93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146640" y="1541520"/>
            <a:ext cx="180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146640" y="1541520"/>
            <a:ext cx="9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966000" y="1541520"/>
            <a:ext cx="1440" cy="17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966000" y="1541520"/>
            <a:ext cx="1116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978440" y="1703520"/>
            <a:ext cx="2806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978440" y="1703520"/>
            <a:ext cx="28065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785000" y="1541520"/>
            <a:ext cx="1800" cy="152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785000" y="1541520"/>
            <a:ext cx="1116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689120" y="186516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689120" y="186516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159080" y="1865160"/>
            <a:ext cx="7988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159080" y="1865160"/>
            <a:ext cx="798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978440" y="186516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978440" y="186516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89120" y="20257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689120" y="20257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159080" y="20257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159080" y="20257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978440" y="20257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978440" y="20257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689120" y="21877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89120" y="21877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159080" y="21877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59080" y="21877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78440" y="21877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978440" y="21877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689120" y="23479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689120" y="23479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59080" y="23479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159080" y="23479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978440" y="23479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78440" y="23479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689120" y="25099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689120" y="25099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159080" y="25099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159080" y="25099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978440" y="25099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978440" y="25099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689120" y="2670120"/>
            <a:ext cx="24591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689120" y="2670120"/>
            <a:ext cx="24591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59080" y="2670120"/>
            <a:ext cx="7988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159080" y="2670120"/>
            <a:ext cx="79884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978440" y="2670120"/>
            <a:ext cx="280656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978440" y="2670120"/>
            <a:ext cx="280656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689120" y="283212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689120" y="283212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159080" y="283212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159080" y="283212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978440" y="2832120"/>
            <a:ext cx="2806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978440" y="283212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689120" y="3002040"/>
            <a:ext cx="24591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689120" y="300204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159080" y="3002040"/>
            <a:ext cx="7988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159080" y="300204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978440" y="3002040"/>
            <a:ext cx="198756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978440" y="3002040"/>
            <a:ext cx="1987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966000" y="2992320"/>
            <a:ext cx="81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966000" y="2992320"/>
            <a:ext cx="819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966000" y="3011400"/>
            <a:ext cx="819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966000" y="3011400"/>
            <a:ext cx="8190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689120" y="3173400"/>
            <a:ext cx="24591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159080" y="3173400"/>
            <a:ext cx="79884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966000" y="1712880"/>
            <a:ext cx="1440" cy="1279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966000" y="1712880"/>
            <a:ext cx="11160" cy="1279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978440" y="3173400"/>
            <a:ext cx="280656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689120" y="1712880"/>
            <a:ext cx="0" cy="14590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8120" y="1712880"/>
            <a:ext cx="0" cy="14590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328920" y="1712880"/>
            <a:ext cx="0" cy="14400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48280" y="1541520"/>
            <a:ext cx="0" cy="164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788080" y="1712880"/>
            <a:ext cx="0" cy="14400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146640" y="1712880"/>
            <a:ext cx="0" cy="14590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966000" y="3021120"/>
            <a:ext cx="0" cy="11268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785000" y="1552680"/>
            <a:ext cx="0" cy="158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796160" y="153360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796160" y="153360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728120" y="1693800"/>
            <a:ext cx="205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738920" y="186516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796160" y="186516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738920" y="20257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7796160" y="20257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738920" y="21877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796160" y="21877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7738920" y="23479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796160" y="23479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738920" y="25099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738920" y="25099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738920" y="2670120"/>
            <a:ext cx="180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738920" y="267012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738920" y="283212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738920" y="283212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738920" y="300204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796160" y="300204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796160" y="31734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8362800" y="4352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858000" y="3857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09588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38920" y="48578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90552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15320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61040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943760" y="4352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843520" y="502920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853240" y="4035600"/>
            <a:ext cx="336600" cy="199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091120" y="40258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091120" y="454644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091120" y="5048280"/>
            <a:ext cx="33660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084640" y="4019400"/>
            <a:ext cx="336600" cy="2001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084640" y="4540320"/>
            <a:ext cx="336600" cy="201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084640" y="5041800"/>
            <a:ext cx="336600" cy="2001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846760" y="4029120"/>
            <a:ext cx="336600" cy="2001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846760" y="453060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846760" y="5041800"/>
            <a:ext cx="33660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610320" y="4029120"/>
            <a:ext cx="328680" cy="200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610320" y="4530600"/>
            <a:ext cx="3286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610320" y="5041800"/>
            <a:ext cx="328680" cy="2001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364520" y="4530600"/>
            <a:ext cx="33660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8120160" y="4530600"/>
            <a:ext cx="326880" cy="201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083200" y="4229280"/>
            <a:ext cx="0" cy="30132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083200" y="4732200"/>
            <a:ext cx="0" cy="3096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421240" y="414036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421240" y="46339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421240" y="512604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183360" y="408636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183360" y="463392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183360" y="5126040"/>
            <a:ext cx="4269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939000" y="4579920"/>
            <a:ext cx="4255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701120" y="4633920"/>
            <a:ext cx="4190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22840" y="456552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622840" y="4689360"/>
            <a:ext cx="2239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5622840" y="4140000"/>
            <a:ext cx="0" cy="425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622840" y="4689360"/>
            <a:ext cx="0" cy="43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6364440" y="4175280"/>
            <a:ext cx="0" cy="4586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364440" y="4175280"/>
            <a:ext cx="2458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939000" y="4229280"/>
            <a:ext cx="0" cy="30132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610320" y="4689360"/>
            <a:ext cx="0" cy="3524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939000" y="512604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7156440" y="4675320"/>
            <a:ext cx="0" cy="45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846760" y="4732200"/>
            <a:ext cx="0" cy="174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846760" y="4906800"/>
            <a:ext cx="336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183360" y="4906800"/>
            <a:ext cx="0" cy="1350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156440" y="4675320"/>
            <a:ext cx="2080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698520" y="418320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917320" y="47005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6677640" y="4700520"/>
            <a:ext cx="1776600" cy="246240"/>
            <a:chOff x="6677640" y="4700520"/>
            <a:chExt cx="1776600" cy="246240"/>
          </a:xfrm>
        </p:grpSpPr>
        <p:sp>
          <p:nvSpPr>
            <p:cNvPr id="1271" name=""/>
            <p:cNvSpPr/>
            <p:nvPr/>
          </p:nvSpPr>
          <p:spPr>
            <a:xfrm>
              <a:off x="8201880" y="47005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677640" y="47005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439760" y="470052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6704640" y="52261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939000" y="4325760"/>
            <a:ext cx="76320" cy="1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884200" y="399240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104800" y="399240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670080" y="3992400"/>
            <a:ext cx="33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Geneva"/>
              </a:rPr>
              <a:t>A</a:t>
            </a:r>
            <a:r>
              <a:rPr b="1" lang="en-US" sz="1200" spc="-1" strike="noStrike" baseline="-25000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642000" y="449424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878440" y="44928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106240" y="449424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106240" y="4989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639480" y="4989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d1fb8"/>
                </a:solidFill>
                <a:latin typeface="Geneva"/>
              </a:rPr>
              <a:t>B</a:t>
            </a:r>
            <a:r>
              <a:rPr b="1" lang="en-US" sz="1200" spc="-1" strike="noStrike" baseline="-25000">
                <a:solidFill>
                  <a:srgbClr val="cd1fb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405560" y="44928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8136000" y="4492800"/>
            <a:ext cx="328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2aa38"/>
                </a:solidFill>
                <a:latin typeface="Geneva"/>
              </a:rPr>
              <a:t>C</a:t>
            </a:r>
            <a:r>
              <a:rPr b="1" lang="en-US" sz="1200" spc="-1" strike="noStrike" baseline="-25000">
                <a:solidFill>
                  <a:srgbClr val="32aa38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867640" y="35845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Geneva"/>
              </a:rPr>
              <a:t>MALL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610320" y="5038560"/>
            <a:ext cx="123840" cy="2001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846760" y="5032440"/>
            <a:ext cx="336600" cy="1998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850720" y="4989600"/>
            <a:ext cx="33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e0098"/>
                </a:solidFill>
                <a:latin typeface="Geneva"/>
              </a:rPr>
              <a:t>B</a:t>
            </a:r>
            <a:r>
              <a:rPr b="0" lang="en-US" sz="1200" spc="-1" strike="noStrike" baseline="-25000">
                <a:solidFill>
                  <a:srgbClr val="ce0098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848200" y="4533840"/>
            <a:ext cx="123840" cy="2001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610320" y="4029120"/>
            <a:ext cx="123840" cy="2001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458040" y="3584520"/>
            <a:ext cx="462960" cy="246240"/>
            <a:chOff x="6458040" y="3584520"/>
            <a:chExt cx="462960" cy="246240"/>
          </a:xfrm>
        </p:grpSpPr>
        <p:grpSp>
          <p:nvGrpSpPr>
            <p:cNvPr id="1293" name=""/>
            <p:cNvGrpSpPr/>
            <p:nvPr/>
          </p:nvGrpSpPr>
          <p:grpSpPr>
            <a:xfrm>
              <a:off x="6458040" y="3660840"/>
              <a:ext cx="84240" cy="104760"/>
              <a:chOff x="6458040" y="3660840"/>
              <a:chExt cx="84240" cy="104760"/>
            </a:xfrm>
          </p:grpSpPr>
          <p:sp>
            <p:nvSpPr>
              <p:cNvPr id="1294" name=""/>
              <p:cNvSpPr/>
              <p:nvPr/>
            </p:nvSpPr>
            <p:spPr>
              <a:xfrm>
                <a:off x="6458040" y="3660840"/>
                <a:ext cx="8424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01240" y="369900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296" name=""/>
            <p:cNvSpPr/>
            <p:nvPr/>
          </p:nvSpPr>
          <p:spPr>
            <a:xfrm>
              <a:off x="6482880" y="3584520"/>
              <a:ext cx="43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Geneva"/>
                </a:rPr>
                <a:t>=15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5943600" y="3914640"/>
            <a:ext cx="836280" cy="1114200"/>
            <a:chOff x="5943600" y="3914640"/>
            <a:chExt cx="836280" cy="1114200"/>
          </a:xfrm>
        </p:grpSpPr>
        <p:grpSp>
          <p:nvGrpSpPr>
            <p:cNvPr id="1298" name=""/>
            <p:cNvGrpSpPr/>
            <p:nvPr/>
          </p:nvGrpSpPr>
          <p:grpSpPr>
            <a:xfrm>
              <a:off x="6705360" y="3914640"/>
              <a:ext cx="74520" cy="104760"/>
              <a:chOff x="6705360" y="3914640"/>
              <a:chExt cx="74520" cy="104760"/>
            </a:xfrm>
          </p:grpSpPr>
          <p:sp>
            <p:nvSpPr>
              <p:cNvPr id="1299" name=""/>
              <p:cNvSpPr/>
              <p:nvPr/>
            </p:nvSpPr>
            <p:spPr>
              <a:xfrm>
                <a:off x="6705360" y="391464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743520" y="395280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5943600" y="4429080"/>
              <a:ext cx="74520" cy="104760"/>
              <a:chOff x="5943600" y="4429080"/>
              <a:chExt cx="74520" cy="104760"/>
            </a:xfrm>
          </p:grpSpPr>
          <p:sp>
            <p:nvSpPr>
              <p:cNvPr id="1302" name=""/>
              <p:cNvSpPr/>
              <p:nvPr/>
            </p:nvSpPr>
            <p:spPr>
              <a:xfrm>
                <a:off x="5943600" y="44290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981760" y="446724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6696000" y="4924080"/>
              <a:ext cx="74520" cy="104760"/>
              <a:chOff x="6696000" y="4924080"/>
              <a:chExt cx="74520" cy="104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696000" y="49240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734160" y="4962240"/>
                <a:ext cx="0" cy="66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7" name=""/>
          <p:cNvSpPr/>
          <p:nvPr/>
        </p:nvSpPr>
        <p:spPr>
          <a:xfrm>
            <a:off x="6419880" y="4343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902120" y="4022640"/>
            <a:ext cx="21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902120" y="4518000"/>
            <a:ext cx="2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384880" y="401940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15080" y="5000760"/>
            <a:ext cx="24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81640" y="4505400"/>
            <a:ext cx="37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095880" y="4016520"/>
            <a:ext cx="39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384880" y="5000760"/>
            <a:ext cx="3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651640" y="4022640"/>
            <a:ext cx="23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587920" y="45054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0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21440" y="5000760"/>
            <a:ext cx="3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324480" y="4991040"/>
            <a:ext cx="3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4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337440" y="39718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1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96160" y="39686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796160" y="4290840"/>
            <a:ext cx="97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796160" y="46134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796160" y="4935600"/>
            <a:ext cx="97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796160" y="5259240"/>
            <a:ext cx="97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971960" y="1371600"/>
            <a:ext cx="0" cy="180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190600" y="6058080"/>
            <a:ext cx="25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Geneva"/>
              </a:rPr>
              <a:t>Avance Ponderado </a:t>
            </a:r>
            <a:r>
              <a:rPr b="1" lang="es-ES_tradnl" sz="1000" spc="-1" strike="noStrike">
                <a:solidFill>
                  <a:srgbClr val="000000"/>
                </a:solidFill>
                <a:latin typeface="Geneva"/>
              </a:rPr>
              <a:t>:  64,86%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190600" y="6210360"/>
            <a:ext cx="22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Pronóstico: </a:t>
            </a: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Término el día 23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971960" y="5495760"/>
            <a:ext cx="33530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Geneva"/>
              </a:rPr>
              <a:t>Camino Crítico: 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tér A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tér.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- C</a:t>
            </a:r>
            <a:r>
              <a:rPr b="0" lang="es-CL" sz="1000" spc="-1" strike="noStrike" baseline="-25000">
                <a:solidFill>
                  <a:srgbClr val="000000"/>
                </a:solidFill>
                <a:latin typeface="Geneva"/>
              </a:rPr>
              <a:t>4</a:t>
            </a:r>
            <a:r>
              <a:rPr b="0" lang="es-CL" sz="1000" spc="-1" strike="noStrike">
                <a:solidFill>
                  <a:srgbClr val="000000"/>
                </a:solidFill>
                <a:latin typeface="Geneva"/>
              </a:rPr>
              <a:t>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15960" y="64929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286080" y="421956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276720" y="4952880"/>
            <a:ext cx="16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286080" y="51530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591000" y="5324400"/>
            <a:ext cx="44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038480" y="5505480"/>
            <a:ext cx="314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343400" y="5695920"/>
            <a:ext cx="171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572080" y="499752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Geneva"/>
              </a:rPr>
              <a:t>12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7" name=""/>
          <p:cNvGrpSpPr/>
          <p:nvPr/>
        </p:nvGrpSpPr>
        <p:grpSpPr>
          <a:xfrm>
            <a:off x="4822920" y="2070000"/>
            <a:ext cx="239400" cy="3783960"/>
            <a:chOff x="4822920" y="2070000"/>
            <a:chExt cx="239400" cy="3783960"/>
          </a:xfrm>
        </p:grpSpPr>
        <p:sp>
          <p:nvSpPr>
            <p:cNvPr id="1338" name=""/>
            <p:cNvSpPr/>
            <p:nvPr/>
          </p:nvSpPr>
          <p:spPr>
            <a:xfrm>
              <a:off x="4822920" y="2070000"/>
              <a:ext cx="239400" cy="239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822920" y="2190240"/>
              <a:ext cx="239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2800" y="2084400"/>
              <a:ext cx="0" cy="3769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41" name=""/>
          <p:cNvSpPr/>
          <p:nvPr/>
        </p:nvSpPr>
        <p:spPr>
          <a:xfrm>
            <a:off x="1420920" y="413244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URVAS DE AVANCE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onderado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476360" y="2325600"/>
            <a:ext cx="4170240" cy="3525840"/>
          </a:xfrm>
          <a:custGeom>
            <a:avLst/>
            <a:gdLst/>
            <a:ahLst/>
            <a:rect l="l" t="t" r="r" b="b"/>
            <a:pathLst>
              <a:path w="2627" h="2221">
                <a:moveTo>
                  <a:pt x="0" y="2220"/>
                </a:moveTo>
                <a:lnTo>
                  <a:pt x="127" y="2151"/>
                </a:lnTo>
                <a:lnTo>
                  <a:pt x="720" y="1360"/>
                </a:lnTo>
                <a:lnTo>
                  <a:pt x="871" y="1221"/>
                </a:lnTo>
                <a:lnTo>
                  <a:pt x="1162" y="1046"/>
                </a:lnTo>
                <a:lnTo>
                  <a:pt x="2034" y="256"/>
                </a:lnTo>
                <a:lnTo>
                  <a:pt x="2626" y="0"/>
                </a:lnTo>
              </a:path>
            </a:pathLst>
          </a:custGeom>
          <a:noFill/>
          <a:ln cap="rnd" w="12600">
            <a:solidFill>
              <a:srgbClr val="006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457280" y="2049480"/>
            <a:ext cx="0" cy="378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438200" y="5850000"/>
            <a:ext cx="648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67796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191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15892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37960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6193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4148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08124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32100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54168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8144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00356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24332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48308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70520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9449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16564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40540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645160" y="2282760"/>
            <a:ext cx="0" cy="359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86728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107040" y="2282760"/>
            <a:ext cx="0" cy="362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32772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56748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0724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029360" y="2282760"/>
            <a:ext cx="0" cy="361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269120" y="2282760"/>
            <a:ext cx="0" cy="36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432080" y="54990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432080" y="51498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432080" y="47991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414440" y="44481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14440" y="4116240"/>
            <a:ext cx="6064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414440" y="378288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414440" y="34146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414440" y="30639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414440" y="271296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414440" y="2325600"/>
            <a:ext cx="606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081240" y="2325600"/>
            <a:ext cx="4189680" cy="3544920"/>
          </a:xfrm>
          <a:custGeom>
            <a:avLst/>
            <a:gdLst/>
            <a:ahLst/>
            <a:rect l="l" t="t" r="r" b="b"/>
            <a:pathLst>
              <a:path w="2639" h="2233">
                <a:moveTo>
                  <a:pt x="0" y="2232"/>
                </a:moveTo>
                <a:lnTo>
                  <a:pt x="151" y="2185"/>
                </a:lnTo>
                <a:lnTo>
                  <a:pt x="302" y="2023"/>
                </a:lnTo>
                <a:lnTo>
                  <a:pt x="441" y="1965"/>
                </a:lnTo>
                <a:lnTo>
                  <a:pt x="581" y="1825"/>
                </a:lnTo>
                <a:lnTo>
                  <a:pt x="883" y="1418"/>
                </a:lnTo>
                <a:lnTo>
                  <a:pt x="1313" y="1011"/>
                </a:lnTo>
                <a:lnTo>
                  <a:pt x="1615" y="860"/>
                </a:lnTo>
                <a:lnTo>
                  <a:pt x="1755" y="732"/>
                </a:lnTo>
                <a:lnTo>
                  <a:pt x="2045" y="337"/>
                </a:lnTo>
                <a:lnTo>
                  <a:pt x="2208" y="209"/>
                </a:lnTo>
                <a:lnTo>
                  <a:pt x="2638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081240" y="2325600"/>
            <a:ext cx="4189680" cy="3544920"/>
          </a:xfrm>
          <a:custGeom>
            <a:avLst/>
            <a:gdLst/>
            <a:ahLst/>
            <a:rect l="l" t="t" r="r" b="b"/>
            <a:pathLst>
              <a:path w="2639" h="2233">
                <a:moveTo>
                  <a:pt x="0" y="2232"/>
                </a:moveTo>
                <a:lnTo>
                  <a:pt x="151" y="2185"/>
                </a:lnTo>
                <a:lnTo>
                  <a:pt x="302" y="2023"/>
                </a:lnTo>
                <a:lnTo>
                  <a:pt x="441" y="1965"/>
                </a:lnTo>
                <a:lnTo>
                  <a:pt x="581" y="1825"/>
                </a:lnTo>
                <a:lnTo>
                  <a:pt x="883" y="1418"/>
                </a:lnTo>
                <a:lnTo>
                  <a:pt x="1313" y="1011"/>
                </a:lnTo>
                <a:lnTo>
                  <a:pt x="1615" y="860"/>
                </a:lnTo>
                <a:lnTo>
                  <a:pt x="1755" y="732"/>
                </a:lnTo>
                <a:lnTo>
                  <a:pt x="2045" y="337"/>
                </a:lnTo>
                <a:lnTo>
                  <a:pt x="2208" y="209"/>
                </a:lnTo>
                <a:lnTo>
                  <a:pt x="2638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964440" y="2220840"/>
            <a:ext cx="655560" cy="3719160"/>
            <a:chOff x="964440" y="2220840"/>
            <a:chExt cx="655560" cy="3719160"/>
          </a:xfrm>
        </p:grpSpPr>
        <p:sp>
          <p:nvSpPr>
            <p:cNvPr id="1384" name=""/>
            <p:cNvSpPr/>
            <p:nvPr/>
          </p:nvSpPr>
          <p:spPr>
            <a:xfrm>
              <a:off x="1073880" y="53197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073880" y="49878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073880" y="46195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3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073880" y="42861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4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073880" y="39369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5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073880" y="358632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6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073880" y="32544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7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073880" y="29034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8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073880" y="25527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9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964440" y="2220840"/>
              <a:ext cx="6555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00 %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190880" y="56530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954000" y="1590840"/>
            <a:ext cx="990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AVANCE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PONDERAD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868160" y="5707080"/>
            <a:ext cx="672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eneva"/>
              </a:rPr>
              <a:t>TIEMP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1468440" y="5108040"/>
            <a:ext cx="1143000" cy="7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2503800" y="4960800"/>
            <a:ext cx="642600" cy="341280"/>
            <a:chOff x="2503800" y="4960800"/>
            <a:chExt cx="642600" cy="341280"/>
          </a:xfrm>
        </p:grpSpPr>
        <p:sp>
          <p:nvSpPr>
            <p:cNvPr id="1399" name=""/>
            <p:cNvSpPr/>
            <p:nvPr/>
          </p:nvSpPr>
          <p:spPr>
            <a:xfrm>
              <a:off x="2527560" y="5060880"/>
              <a:ext cx="618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20,61%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503800" y="496080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01" name=""/>
          <p:cNvSpPr/>
          <p:nvPr/>
        </p:nvSpPr>
        <p:spPr>
          <a:xfrm rot="18843000">
            <a:off x="3847680" y="4098960"/>
            <a:ext cx="16765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Geneva"/>
              </a:rPr>
              <a:t>Programa 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Geneva"/>
              </a:rPr>
              <a:t>ALAP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rot="19609200">
            <a:off x="2371320" y="3952440"/>
            <a:ext cx="12319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2aa38"/>
                </a:solidFill>
                <a:latin typeface="Geneva"/>
              </a:rPr>
              <a:t>Programa 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2aa38"/>
                </a:solidFill>
                <a:latin typeface="Geneva"/>
              </a:rPr>
              <a:t>ASAP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2633760" y="4619160"/>
            <a:ext cx="117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3618000" y="4494240"/>
            <a:ext cx="618840" cy="439200"/>
            <a:chOff x="3618000" y="4494240"/>
            <a:chExt cx="618840" cy="439200"/>
          </a:xfrm>
        </p:grpSpPr>
        <p:sp>
          <p:nvSpPr>
            <p:cNvPr id="1405" name=""/>
            <p:cNvSpPr/>
            <p:nvPr/>
          </p:nvSpPr>
          <p:spPr>
            <a:xfrm>
              <a:off x="3618000" y="4646520"/>
              <a:ext cx="618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34,65%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657960" y="449424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810240" y="464652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1343160" y="5843520"/>
            <a:ext cx="6338160" cy="298080"/>
            <a:chOff x="1343160" y="5843520"/>
            <a:chExt cx="6338160" cy="298080"/>
          </a:xfrm>
        </p:grpSpPr>
        <p:sp>
          <p:nvSpPr>
            <p:cNvPr id="1409" name=""/>
            <p:cNvSpPr/>
            <p:nvPr/>
          </p:nvSpPr>
          <p:spPr>
            <a:xfrm>
              <a:off x="154152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76400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00376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2444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48292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70540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92608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16584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387960" y="585468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56616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80592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0266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2850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884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72824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9680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19012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4298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65056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19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9032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1300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3522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59196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3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81264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05240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310880" y="585468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2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343160" y="5843520"/>
              <a:ext cx="27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36" name=""/>
          <p:cNvSpPr/>
          <p:nvPr/>
        </p:nvSpPr>
        <p:spPr>
          <a:xfrm flipV="1">
            <a:off x="3772080" y="3591000"/>
            <a:ext cx="117144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4820040" y="3394080"/>
            <a:ext cx="705600" cy="398520"/>
            <a:chOff x="4820040" y="3394080"/>
            <a:chExt cx="705600" cy="398520"/>
          </a:xfrm>
        </p:grpSpPr>
        <p:sp>
          <p:nvSpPr>
            <p:cNvPr id="1438" name=""/>
            <p:cNvSpPr/>
            <p:nvPr/>
          </p:nvSpPr>
          <p:spPr>
            <a:xfrm>
              <a:off x="4820040" y="3446640"/>
              <a:ext cx="244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Geneva"/>
                </a:rPr>
                <a:t>•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907520" y="3394080"/>
              <a:ext cx="618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64,86%</a:t>
              </a: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2487600" y="5197320"/>
            <a:ext cx="103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AV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7413840" y="2195640"/>
            <a:ext cx="507960" cy="3718800"/>
            <a:chOff x="7413840" y="2195640"/>
            <a:chExt cx="507960" cy="3718800"/>
          </a:xfrm>
        </p:grpSpPr>
        <p:sp>
          <p:nvSpPr>
            <p:cNvPr id="1442" name=""/>
            <p:cNvSpPr/>
            <p:nvPr/>
          </p:nvSpPr>
          <p:spPr>
            <a:xfrm>
              <a:off x="7491240" y="2282760"/>
              <a:ext cx="0" cy="363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531560" y="529416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531560" y="496260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5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531560" y="459432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531560" y="4260960"/>
              <a:ext cx="372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530120" y="3911760"/>
              <a:ext cx="3610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  </a:t>
              </a: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530840" y="356076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2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530840" y="322884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4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530840" y="28782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6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530840" y="2527200"/>
              <a:ext cx="3704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8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413840" y="2195640"/>
              <a:ext cx="464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+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498080" y="5627520"/>
              <a:ext cx="4237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Geneva"/>
                </a:rPr>
                <a:t>-10</a:t>
              </a:r>
              <a:endParaRPr b="0" lang="en-US" sz="13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7489800" y="1973160"/>
            <a:ext cx="0" cy="39085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058880" y="1622520"/>
            <a:ext cx="109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Geneva"/>
              </a:rPr>
              <a:t>FLOTAMIENT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13280" y="265896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481840" y="301464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793040" y="354816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637440" y="3421080"/>
            <a:ext cx="29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neva"/>
              </a:rPr>
              <a:t>•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460520" y="2895480"/>
            <a:ext cx="3467160" cy="889200"/>
          </a:xfrm>
          <a:custGeom>
            <a:avLst/>
            <a:gdLst/>
            <a:ahLst/>
            <a:rect l="l" t="t" r="r" b="b"/>
            <a:pathLst>
              <a:path w="2184" h="560">
                <a:moveTo>
                  <a:pt x="0" y="0"/>
                </a:moveTo>
                <a:lnTo>
                  <a:pt x="720" y="224"/>
                </a:lnTo>
                <a:lnTo>
                  <a:pt x="1456" y="472"/>
                </a:lnTo>
                <a:lnTo>
                  <a:pt x="2184" y="560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447920" y="2730600"/>
            <a:ext cx="4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7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629080" y="306072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5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784680" y="34671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3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902120" y="363204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Geneva"/>
              </a:rPr>
              <a:t>+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650240" y="2738520"/>
            <a:ext cx="10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Geneva"/>
              </a:rPr>
              <a:t>Flotamiento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8715960" y="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400040" y="5783400"/>
            <a:ext cx="88920" cy="88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5878440" y="1873080"/>
            <a:ext cx="434880" cy="441360"/>
            <a:chOff x="5878440" y="1873080"/>
            <a:chExt cx="434880" cy="441360"/>
          </a:xfrm>
        </p:grpSpPr>
        <p:sp>
          <p:nvSpPr>
            <p:cNvPr id="1469" name=""/>
            <p:cNvSpPr/>
            <p:nvPr/>
          </p:nvSpPr>
          <p:spPr>
            <a:xfrm flipV="1">
              <a:off x="6053040" y="2133720"/>
              <a:ext cx="88920" cy="1807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878440" y="187308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6354720" y="1886040"/>
            <a:ext cx="434880" cy="429840"/>
            <a:chOff x="6354720" y="1886040"/>
            <a:chExt cx="434880" cy="429840"/>
          </a:xfrm>
        </p:grpSpPr>
        <p:sp>
          <p:nvSpPr>
            <p:cNvPr id="1472" name=""/>
            <p:cNvSpPr/>
            <p:nvPr/>
          </p:nvSpPr>
          <p:spPr>
            <a:xfrm flipV="1">
              <a:off x="6526080" y="2134440"/>
              <a:ext cx="88920" cy="181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354720" y="188604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6613560" y="1870200"/>
            <a:ext cx="434880" cy="447120"/>
            <a:chOff x="6613560" y="1870200"/>
            <a:chExt cx="434880" cy="447120"/>
          </a:xfrm>
        </p:grpSpPr>
        <p:sp>
          <p:nvSpPr>
            <p:cNvPr id="1475" name=""/>
            <p:cNvSpPr/>
            <p:nvPr/>
          </p:nvSpPr>
          <p:spPr>
            <a:xfrm flipV="1">
              <a:off x="6770520" y="2135880"/>
              <a:ext cx="88920" cy="181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613560" y="187020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Geneva"/>
                </a:rPr>
                <a:t>23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02:05:24Z</dcterms:created>
  <dc:creator>GREGORIO AZOCAR</dc:creator>
  <dc:description>iNFORMACION DE GESTION GRAFICA</dc:description>
  <dc:language>en-US</dc:language>
  <cp:lastModifiedBy>Gregorio Azocar</cp:lastModifiedBy>
  <cp:lastPrinted>2004-08-07T23:57:13Z</cp:lastPrinted>
  <dcterms:modified xsi:type="dcterms:W3CDTF">2006-10-24T14:26:28Z</dcterms:modified>
  <cp:revision>175</cp:revision>
  <dc:subject>SEMINARIO</dc:subject>
  <dc:title>ADMINISTRACION DE PROYECTOS</dc:title>
</cp:coreProperties>
</file>