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33C-3126-44A0-B9DE-8824AA5A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CA3-B42B-4F4A-8308-A1A3CD02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B62-7F3C-4CAE-BD15-92D32566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1BC-8D8A-457B-B19F-3DE6109A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5CF-40E2-4B2D-AFF8-F79F9A90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D35-7E05-47C4-9A91-A4ABB637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66E-E487-4CD5-875B-A43AA4F8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4F6-D521-46ED-BBBB-82598EC0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7B8-73C3-4E5C-B6CF-684A4C03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990-232B-4DB8-8EDE-A0A0648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12A-EAF3-4A35-B82A-76E8978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91F-68EA-49BA-858D-06BB80C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C7F4-1ADE-4F8A-8061-D9BC29081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24320" y="3924360"/>
            <a:ext cx="571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47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47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280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2800" y="28987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5280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5280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5280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3232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3232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323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323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3232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1184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1184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1184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1184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1184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1184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9136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9136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9136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9136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9136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7088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7088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" y="24951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1200" y="409572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6204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62040" y="3105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90880" y="3924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204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68520" y="4724280"/>
            <a:ext cx="60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37000" y="25020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30290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2040" y="392436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81320" y="314316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81320" y="31431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52720" y="4915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52720" y="47242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200400" y="436212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436248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305240" y="40957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9064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71560" y="154296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52720" y="15048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24320" y="30862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527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24320" y="47052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43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5240" y="23050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5240" y="15048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2432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21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95920" y="25146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243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5238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16956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95920" y="31240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86680" y="24955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668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959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95920" y="464832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95920" y="550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24520" y="478116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24520" y="4781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40766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5680" y="392436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45820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05680" y="318132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30481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15080" y="17049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96000" y="18572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95920" y="18572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915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040" y="548640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95920" y="41148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8240" y="2100240"/>
            <a:ext cx="80028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46320" y="13255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13129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4720" y="28875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2416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41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41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2416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01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1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1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01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60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60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60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804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804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804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804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357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57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3028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7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641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028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67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8724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872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872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72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72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724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44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44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44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44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44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44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812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81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1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81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81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1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40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40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40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0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40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99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99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030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030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030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65440" y="2946240"/>
            <a:ext cx="1425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17840" y="339084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02400" y="42037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54560" y="6045120"/>
            <a:ext cx="0" cy="101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17440" y="53341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252720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21240" y="5346720"/>
            <a:ext cx="1429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012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2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4160" y="2457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53760" y="2473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8728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936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0680" y="24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50920" y="2489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556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128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89040" y="249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19280" y="2514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988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84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6760" y="249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35160" y="24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836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258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25760" y="250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75080" y="2517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8404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612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5240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448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48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8764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328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2260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36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544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9052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8260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7000" y="277488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1604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5416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4164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160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7184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9840" y="3267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1920" y="3267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1420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288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82560" y="32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60680" y="3238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7000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904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48080" y="32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1648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6880" y="3559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7760" y="3559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12480" y="3559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000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462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836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584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60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354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416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2200" y="4079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4520" y="4079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71440" y="4079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66760" y="4079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95160" y="4098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35120" y="4079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82600" y="407988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32280" y="406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60680" y="4098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29080" y="4098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076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128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0636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9844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472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3188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797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481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3836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3556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7520" y="4883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348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3004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6028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656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2864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6676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3516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63920" y="4902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4168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90520" y="5175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01680" y="5175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58880" y="5175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1604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168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228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8480" y="5686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5380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3008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2252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816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0024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07720" y="1717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796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1424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668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7324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2256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040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1000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7840" y="276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87720" y="276228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35520" y="3301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494200" y="330192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89520" y="3594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81600" y="3594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8120" y="4114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78360" y="4114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58040" y="5181480"/>
            <a:ext cx="147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zo = 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58040" y="5372280"/>
            <a:ext cx="236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i B3 no antes del 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58040" y="5587920"/>
            <a:ext cx="236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i C4 no después del 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58040" y="5803920"/>
            <a:ext cx="236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r, G4 no antes del 4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33680" y="361800"/>
            <a:ext cx="468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IVIDADES CONTINU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556080" y="3708360"/>
            <a:ext cx="78732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24320" y="3924360"/>
            <a:ext cx="571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47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47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5280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52800" y="28987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5280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5280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5280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3232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3232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323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323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3232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1184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1184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1184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1184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1184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1184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9136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9136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136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9136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9136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7088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7088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81200" y="24951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1200" y="409572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6204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62040" y="3105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90880" y="3924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6204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68520" y="4724280"/>
            <a:ext cx="60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5272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37000" y="25020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0290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62040" y="392436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181320" y="314316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81320" y="31431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52720" y="4915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52720" y="47242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200400" y="436212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436248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305240" y="40957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79064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1560" y="154296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52720" y="15048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24320" y="30862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27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24320" y="47052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243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05240" y="23050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05240" y="15048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32432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95920" y="25146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243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15238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6600" y="16956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95920" y="31240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286680" y="24955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8668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959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95920" y="464832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95920" y="550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924520" y="478116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4520" y="4781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40766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05680" y="392436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845820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05680" y="318132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20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15200" y="30481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96000" y="173340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96000" y="18860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95920" y="18669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2120" y="4915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3040" y="548640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95920" y="41148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8240" y="2100240"/>
            <a:ext cx="80028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46320" y="13255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13129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4720" y="28875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2700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2700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2700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2700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2416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241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41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416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01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01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01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01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60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0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60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60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5804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5804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5804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5804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357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357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3028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67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641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3028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08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67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8724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872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872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872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872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8724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4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4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44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4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844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44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812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81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81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81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81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81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40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40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40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40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40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99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99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030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030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030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030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68200" y="121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260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6344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96028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556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826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344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6028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68200" y="2768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70000" y="2768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6344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602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68200" y="358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4768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6344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6028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5600" y="518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8584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98360" y="564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6028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560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000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6344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6028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1424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160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2244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1928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27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668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2244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4448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54120" y="276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31880" y="275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2244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588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4120" y="355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 u="sng">
                <a:solidFill>
                  <a:srgbClr val="ff0000"/>
                </a:solidFill>
                <a:uFillTx/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31880" y="3568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8580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7004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7932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31880" y="5187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8580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1928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39800" y="4394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3188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8580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5744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3048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2256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3832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3516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700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4812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3832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3516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44800" y="275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22560" y="276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3832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3516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7000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22560" y="3568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3832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3516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57400" y="5187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22560" y="5187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3832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3516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7000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481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3832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3516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54200" y="1174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1972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3548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13232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542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4492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3548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3232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9000" y="278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94160" y="276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354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3232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03440" y="355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106760" y="3568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3548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146720" y="4052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5420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1323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3548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13232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32280" y="278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542080" y="2743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 u="sng">
                <a:solidFill>
                  <a:srgbClr val="ff0000"/>
                </a:solidFill>
                <a:uFillTx/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7504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006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3228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48484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7504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50068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0120" y="194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04520" y="194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796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9516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4920" y="2743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4520" y="2755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2880" y="3225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9516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080" y="358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0080" y="358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0000" y="4038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9516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64920" y="4394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1748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4680" y="4826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9516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65440" y="2946240"/>
            <a:ext cx="1425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17840" y="339084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02400" y="42037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54560" y="6045120"/>
            <a:ext cx="0" cy="101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7760" y="244440"/>
            <a:ext cx="16797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Plazo = 45</a:t>
            </a:r>
            <a:r>
              <a:rPr b="0" lang="es-CL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INI  C</a:t>
            </a:r>
            <a:r>
              <a:rPr b="0" lang="es-CL" sz="1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= no antes del 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INI  C</a:t>
            </a:r>
            <a:r>
              <a:rPr b="0" lang="es-CL" sz="1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= no después del 26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TER G</a:t>
            </a:r>
            <a:r>
              <a:rPr b="0" lang="es-CL" sz="1000" spc="-1" strike="noStrike" baseline="-25000">
                <a:solidFill>
                  <a:srgbClr val="0000ff"/>
                </a:solidFill>
                <a:latin typeface="Arial"/>
              </a:rPr>
              <a:t>4 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= no antes del 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17440" y="53341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5200" y="252720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21240" y="5346720"/>
            <a:ext cx="1429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466440" y="3456000"/>
            <a:ext cx="204840" cy="252000"/>
            <a:chOff x="3466440" y="3456000"/>
            <a:chExt cx="204840" cy="252000"/>
          </a:xfrm>
        </p:grpSpPr>
        <p:sp>
          <p:nvSpPr>
            <p:cNvPr id="579" name=""/>
            <p:cNvSpPr/>
            <p:nvPr/>
          </p:nvSpPr>
          <p:spPr>
            <a:xfrm>
              <a:off x="3543480" y="360648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66440" y="345600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 u="sng">
                  <a:solidFill>
                    <a:srgbClr val="669900"/>
                  </a:solidFill>
                  <a:uFillTx/>
                  <a:latin typeface="Arial"/>
                </a:rPr>
                <a:t>(20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354160" y="2657520"/>
            <a:ext cx="204840" cy="250920"/>
            <a:chOff x="8354160" y="2657520"/>
            <a:chExt cx="204840" cy="250920"/>
          </a:xfrm>
        </p:grpSpPr>
        <p:sp>
          <p:nvSpPr>
            <p:cNvPr id="582" name=""/>
            <p:cNvSpPr/>
            <p:nvPr/>
          </p:nvSpPr>
          <p:spPr>
            <a:xfrm>
              <a:off x="8443800" y="280692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354160" y="265752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 u="sng">
                  <a:solidFill>
                    <a:srgbClr val="669900"/>
                  </a:solidFill>
                  <a:uFillTx/>
                  <a:latin typeface="Arial"/>
                </a:rPr>
                <a:t>(41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801320" y="4105440"/>
            <a:ext cx="249120" cy="256320"/>
            <a:chOff x="4801320" y="4105440"/>
            <a:chExt cx="249120" cy="256320"/>
          </a:xfrm>
        </p:grpSpPr>
        <p:sp>
          <p:nvSpPr>
            <p:cNvPr id="585" name=""/>
            <p:cNvSpPr/>
            <p:nvPr/>
          </p:nvSpPr>
          <p:spPr>
            <a:xfrm flipV="1">
              <a:off x="4916160" y="410544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01320" y="422424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669900"/>
                  </a:solidFill>
                  <a:latin typeface="Arial"/>
                </a:rPr>
                <a:t>(26*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246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64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854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570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5844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142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7288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62480" y="18493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06760" y="18493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716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4584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71000" y="26510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0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72800" y="26510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0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44040" y="26510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3512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6208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2112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12108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5132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428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7608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3328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6352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87160" y="3438360"/>
            <a:ext cx="17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-1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74800" y="3481560"/>
            <a:ext cx="17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-1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01680" y="3481560"/>
            <a:ext cx="17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-1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22560" y="34527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08480" y="34527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081560" y="34815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004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4908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8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628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8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0808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8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347280" y="42577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3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91920" y="426888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3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7600" y="42829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3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2420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2760" y="42688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11800" y="42688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3652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9520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40956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1136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2400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2580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2824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2968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0128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0308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157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175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747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765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08520" y="26384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53240" y="2595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38760" y="3468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83400" y="3468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56080" y="3683160"/>
            <a:ext cx="0" cy="419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05240" y="3683160"/>
            <a:ext cx="0" cy="419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02120" y="3708360"/>
            <a:ext cx="0" cy="419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05360" y="425520"/>
            <a:ext cx="335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IVIDADES DISCONTINU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4:40:31Z</dcterms:created>
  <dc:creator>Gregorio Rodolfo Azócar Gajardo</dc:creator>
  <dc:description>Computo de Recursos</dc:description>
  <dc:language>en-US</dc:language>
  <cp:lastModifiedBy>Gregorio Azocar</cp:lastModifiedBy>
  <dcterms:modified xsi:type="dcterms:W3CDTF">2006-09-28T22:13:24Z</dcterms:modified>
  <cp:revision>455</cp:revision>
  <dc:subject>TRANSPARENCIAS</dc:subject>
  <dc:title>CI52B POGRAMACION; SEGUIMIENTO Y CONTROL</dc:title>
</cp:coreProperties>
</file>