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13D-39F0-49D8-97D2-515957F6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9D2-09BF-4CA8-97DF-F4CE0404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5AF-6893-4CEC-A63B-0CB32E93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1F4-D318-4C16-9539-46A26D01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65E-3D90-44A2-A85A-6F241D9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8D1-013A-441D-82DA-73E3F7C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CA8-8469-4108-A66A-0DC92673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7B1-D31C-464F-9B3C-C5BE612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D43-D13E-4F8B-B63F-E27CA20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CFF-2149-4A98-A91E-EC6F7E1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8E1-20CB-4F82-A146-BA585DA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3A6-455C-428B-B95E-80DBDB1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1B58-ED73-466C-8FD5-A03F084ED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15080" y="17049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96000" y="18572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95920" y="1857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012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2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160" y="2457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53760" y="247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728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936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068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0920" y="2489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56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12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89040" y="249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280" y="251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8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84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6760" y="249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3516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83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258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5760" y="25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75080" y="2517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840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612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524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4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764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328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2260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36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544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9052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260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7000" y="2774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160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5416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416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160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718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984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192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142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28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256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60680" y="3238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700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904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4808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64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68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76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24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000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62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836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584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60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54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16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220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452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7144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6676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9516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512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2600" y="4079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32280" y="406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06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90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7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2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063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9844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472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97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383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355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7520" y="4883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34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300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602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65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286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667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351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3920" y="4902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416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052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016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588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160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16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22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8480" y="5686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5380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08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2252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816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0024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07720" y="171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79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14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668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73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225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04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00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7840" y="276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87720" y="27622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552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94200" y="330192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8952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8160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812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7836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8040" y="5181480"/>
            <a:ext cx="14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 = 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58040" y="537228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B3 no antes del 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58040" y="5587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C4 no después del 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58040" y="5803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r, G4 no antes del 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33680" y="361800"/>
            <a:ext cx="468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556080" y="3708360"/>
            <a:ext cx="78732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96000" y="173340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96000" y="18860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95920" y="18669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68200" y="121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2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63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60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5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82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3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602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82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00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63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602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20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76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634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602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5600" y="518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858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8360" y="564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56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00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3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602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142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1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22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9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7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668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22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4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5412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3188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22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588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412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3188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8580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70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7932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3188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8580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19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3980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580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57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2256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8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3516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700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481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8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3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80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225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8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3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7000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225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3832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3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5740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2256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3832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3516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700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38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3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54200" y="1174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1972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354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32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542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449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35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32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900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941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354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2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0344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067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354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146720" y="4052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542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323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354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32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3228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42080" y="274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50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006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322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8484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75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5006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01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045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79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9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4920" y="274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4520" y="275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880" y="3225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9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0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0000" y="4038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9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492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174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4680" y="482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7760" y="244440"/>
            <a:ext cx="1679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Plazo = 45</a:t>
            </a:r>
            <a:r>
              <a:rPr b="0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antes del 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después del 26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TER G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= no antes del 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466440" y="3456000"/>
            <a:ext cx="204840" cy="252000"/>
            <a:chOff x="3466440" y="3456000"/>
            <a:chExt cx="204840" cy="252000"/>
          </a:xfrm>
        </p:grpSpPr>
        <p:sp>
          <p:nvSpPr>
            <p:cNvPr id="579" name=""/>
            <p:cNvSpPr/>
            <p:nvPr/>
          </p:nvSpPr>
          <p:spPr>
            <a:xfrm>
              <a:off x="3543480" y="360648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66440" y="34560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20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54160" y="2657520"/>
            <a:ext cx="204840" cy="250920"/>
            <a:chOff x="8354160" y="2657520"/>
            <a:chExt cx="204840" cy="250920"/>
          </a:xfrm>
        </p:grpSpPr>
        <p:sp>
          <p:nvSpPr>
            <p:cNvPr id="582" name=""/>
            <p:cNvSpPr/>
            <p:nvPr/>
          </p:nvSpPr>
          <p:spPr>
            <a:xfrm>
              <a:off x="8443800" y="28069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54160" y="265752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41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801320" y="4105440"/>
            <a:ext cx="249120" cy="256320"/>
            <a:chOff x="4801320" y="4105440"/>
            <a:chExt cx="249120" cy="256320"/>
          </a:xfrm>
        </p:grpSpPr>
        <p:sp>
          <p:nvSpPr>
            <p:cNvPr id="585" name=""/>
            <p:cNvSpPr/>
            <p:nvPr/>
          </p:nvSpPr>
          <p:spPr>
            <a:xfrm flipV="1">
              <a:off x="4916160" y="410544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01320" y="422424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669900"/>
                  </a:solidFill>
                  <a:latin typeface="Arial"/>
                </a:rPr>
                <a:t>(26*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4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6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85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70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5844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7288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6248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0676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716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4584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710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728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404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35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62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21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21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513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4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760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33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352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87160" y="34383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7480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0168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2256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0848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81560" y="34815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004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49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62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08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47280" y="42577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91920" y="426888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7600" y="42829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2420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276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1180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3652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952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095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113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240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58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2824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296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12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030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15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17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4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76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08520" y="26384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53240" y="2595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3876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8340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5608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0524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02120" y="37083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05360" y="425520"/>
            <a:ext cx="335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DIS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Gregorio Azocar</cp:lastModifiedBy>
  <dcterms:modified xsi:type="dcterms:W3CDTF">2006-09-28T22:13:24Z</dcterms:modified>
  <cp:revision>455</cp:revision>
  <dc:subject>TRANSPARENCIAS</dc:subject>
  <dc:title>CI52B POGRAMACION; SEGUIMIENTO Y CONTROL</dc:title>
</cp:coreProperties>
</file>