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879-5D72-4415-8EC5-29589C25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2CB-777F-4710-81AE-8234A192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623-1CD0-4FAF-A2C6-1634C24F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F74-3707-4881-8119-CED64568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052C-56BD-4FE2-A25A-51453272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AE99-05C6-4C54-ABE6-9DAF9299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9C44-8554-47A3-89B1-8220938A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03D4-EC34-4BEF-A1C0-DE2C9449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0254-CEB3-4204-A794-8A0B19DF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EC50-6B43-45AC-85CE-AFD4247C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B43D-E881-44B4-BEC8-88CDBDEB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C8E-C493-4537-ABFE-9075E5EE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E7E8-450F-46D6-B937-0B28E761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CFEA-7C7F-4E17-BC44-18C586BF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64B9-ABC0-4C4E-BA79-057DE02A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312C-710B-4D85-8876-A66ABD31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3F1D-0831-425F-8AF3-B30664E0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A95-0D39-4072-831A-01C0C4A2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402-D008-49BD-A8B3-EB3C0776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E41-E5D1-424B-9751-D0205B6F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9D0-0103-4180-A60D-620A88CC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865-1E71-49DE-9F70-239B2845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EF3-C956-4027-836D-1061648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1CD-A10A-4461-A382-2B319618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540B-5661-406C-83C7-72061785C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C96C-387F-4D4D-8C37-14B290386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876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 L.</cp:lastModifiedBy>
  <dcterms:modified xsi:type="dcterms:W3CDTF">2005-04-18T02:39:07Z</dcterms:modified>
  <cp:revision>30</cp:revision>
  <dc:subject/>
  <dc:title>CI 52A Métodos Constructivos</dc:title>
</cp:coreProperties>
</file>