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4B5-5803-4401-AA9D-32C4D2B6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DBC-A9EA-459A-A5E2-3A42246B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2211-8D06-4BAB-B1AB-8C0A222E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076-96F7-45F8-B3B0-8AC4F880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400C-A66D-4025-A6E2-43247F1A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426F-7D9B-45CF-9BC6-6E330F48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7307-54EF-4025-9FA9-1A12C21C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0124-D609-4A39-96DD-BA5A428E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5960-DAB1-430C-A096-31DAE951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5AC3-5F39-40BD-A3C6-6D642C2C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D70E-340E-4876-988A-DE3DFAB4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EE4-07A4-4C5C-91AD-9B301C11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F71E-D166-4B85-9164-CFACDEBC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6E6F-974B-4A24-8020-AB623FA6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68A6-C0C5-4639-BB91-18E69DD3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4881-7500-471A-8794-307EF2FF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B93B-0F41-4612-AFAC-323C2008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2039-5E90-46D4-8D5B-946FE2E5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632-9966-4408-A50B-F1085A31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FE5-2441-4D0D-A5FF-D30E7772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B29-65B8-4D69-BE06-484FAF32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46C1-6856-4F84-B12B-F347EE1B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0B6-9C8F-4322-8545-24ACF5E3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9CE1-0DEB-4CCA-BEC8-986A4E1D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957D-D881-4BC3-A11F-781B39591A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FCC7-CF89-4C73-BC81-77F27118E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otonivelad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ERMIN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peraciones necesarias para dar la forma final a la superfic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arcimiento de b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filado (Longitudinal y transversal de caminos), curvas verticales, pendientes y bombe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ervación de cami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 clásico: motoniveladora (grad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816360" cy="239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3816360" cy="2387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284720" y="765000"/>
            <a:ext cx="45925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676908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on adecuadas para excavar y empujar material blando y en pequeñas cantidades debido a la debilidad estructural de la pala (en comparación a una topado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emás de la pala o cuchilla (moldboard) suelen estar equipadas con escarificadores pequeños (rastrillo) o ripp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vimientos de la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ariar su ángulo respecto del avance de la máquina, incluso puede ponerse paralela al eje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ir/bajar e inclinarse respecto del plano de trabajo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de variar el “ángulo de ataque” ( -&gt;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\ para cortar, pero puede material pasa sobre ho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/ para mezclar y pasadas rápidas. La hoja tiende a levantar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el material es muy duro hay que escarificar. Incluso pueden removerse dientes del escarificador si es neces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 - Pal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095640" cy="2452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564000" y="1557360"/>
            <a:ext cx="5184720" cy="2436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38163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timación del esparcimiento de materi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Yardas cúbicas en banco = 3.0 x H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1 yd3 = 0,7646 m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perar a la máxima velocidad que el cambio permi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4005360"/>
          <a:ext cx="6096240" cy="2587680"/>
        </p:xfrm>
        <a:graphic>
          <a:graphicData uri="http://schemas.openxmlformats.org/drawingml/2006/table">
            <a:tbl>
              <a:tblPr/>
              <a:tblGrid>
                <a:gridCol w="4343400"/>
                <a:gridCol w="175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ntención camin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3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parcimiento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cla de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ª - 6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fi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ra recorridos &lt;300m es más rápido y seguro retroceder en lugar de dar vuel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eficiencia está en relación al Nº de pasadas. Habilidad del operador + planif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empo = (Nº pasadas x Dist) / (V x E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f = 6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 L.</cp:lastModifiedBy>
  <dcterms:modified xsi:type="dcterms:W3CDTF">2005-04-18T02:39:07Z</dcterms:modified>
  <cp:revision>30</cp:revision>
  <dc:subject/>
  <dc:title>CI 52A Métodos Constructivos</dc:title>
</cp:coreProperties>
</file>