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47C8-3D39-4CD2-AAC4-FD7001BC3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4116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C18E-E318-40DB-BA48-4B3A9D3D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6372-E2CE-4950-96FE-DBFFC485A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5B68-397A-4225-93E8-9300E0C04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80203-18AC-462E-BF4A-B222F3900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78AD9-6E5E-412D-A901-BC690FC87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A7145-BEA1-4531-8A00-F87A5E395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A5DF6-AC70-4F3D-8945-D4A9B06C6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96E4F-F3D8-43D0-BA53-58AA4E205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EB188-7F9D-48E7-8C6F-8CB33E045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5B955-9332-43E5-BDC9-8ACBE5FC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5746-F20A-4191-B2D2-453B401BB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02FB0-5181-4DBC-B72D-894577C0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76482-4F09-4FA0-A55E-678CB260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4116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2407F-A1B9-42C0-ACDC-02ECF07C1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F15C6-5FEA-4BE9-AEF2-27BC80C09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3BB93-D931-4D1F-9F1C-948313D12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64A5-6456-4414-87EC-6BBD7C781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78F0-EB4A-470C-8095-52F2C33AE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E5C3-A120-461D-8A6F-3E8A83250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9776-68BF-4181-AD24-33BFC619D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D851-CE1D-421A-9D08-EC762D8B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BD95-E943-4051-AEC2-2473A765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C20B-DDA0-451E-A6FF-98E13CA9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5FD91-6FFD-4E88-9619-722B17B1FD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3EDCF-97FE-47F1-AB0D-3339CD55C9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I 52A</a:t>
            </a:r>
            <a:br>
              <a:rPr sz="4400"/>
            </a:b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étodos Constructiv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Motonivelado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ERMIN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Operaciones necesarias para dar la forma final a la superfici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sparcimiento de bas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erfilado (Longitudinal y transversal de caminos), curvas verticales, pendientes y bombe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nservación de camin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quipo clásico: motoniveladora (grade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50920" y="765000"/>
            <a:ext cx="3816360" cy="23990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24000" y="4149720"/>
            <a:ext cx="3816360" cy="23875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284720" y="765000"/>
            <a:ext cx="459252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Motonivelador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403280" y="1484280"/>
            <a:ext cx="6769080" cy="50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OTONIVELADOR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8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on adecuadas para excavar y empujar material blando y en pequeñas cantidades debido a la debilidad estructural de la pala (en comparación a una topador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demás de la pala o cuchilla (moldboard) suelen estar equipadas con escarificadores pequeños (rastrillo) o ripp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OTONIVELADOR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ovimientos de la pa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Variar su ángulo respecto del avance de la máquina, incluso puede ponerse paralela al eje de la máquin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ubir/bajar e inclinarse respecto del plano de trabajo de la máquin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uede variar el “ángulo de ataque” ( -&gt;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\ para cortar, pero puede material pasa sobre hoj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/ para mezclar y pasadas rápidas. La hoja tiende a levantars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i el material es muy duro hay que escarificar. Incluso pueden removerse dientes del escarificador si es necesari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Motoniveladora - Pala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3095640" cy="2452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564000" y="1557360"/>
            <a:ext cx="5184720" cy="24368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2556000" y="4221000"/>
            <a:ext cx="381636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otonivelador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stimación del esparcimiento de material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Yardas cúbicas en banco = 3.0 x H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(1 yd3 = 0,7646 m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Operar a la máxima velocidad que el cambio permit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523880" y="4005360"/>
          <a:ext cx="6096240" cy="2587680"/>
        </p:xfrm>
        <a:graphic>
          <a:graphicData uri="http://schemas.openxmlformats.org/drawingml/2006/table">
            <a:tbl>
              <a:tblPr/>
              <a:tblGrid>
                <a:gridCol w="4343400"/>
                <a:gridCol w="1752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ntención camin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ª - 3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sparcimiento materi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ª - 4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zcla de materi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ª - 6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r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rfil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ª - 4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otonivelador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ara recorridos &lt;300m es más rápido y seguro retroceder en lugar de dar vuel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a eficiencia está en relación al Nº de pasadas. Habilidad del operador + planific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iempo = (Nº pasadas x Dist) / (V x Ef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f = 6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01:45:01Z</dcterms:created>
  <dc:creator>William Wragg L.</dc:creator>
  <dc:description/>
  <dc:language>en-US</dc:language>
  <cp:lastModifiedBy>William Wragg L.</cp:lastModifiedBy>
  <dcterms:modified xsi:type="dcterms:W3CDTF">2005-04-18T02:39:07Z</dcterms:modified>
  <cp:revision>30</cp:revision>
  <dc:subject/>
  <dc:title>CI 52A Métodos Constructivos</dc:title>
</cp:coreProperties>
</file>