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E7E-36F3-4A4B-BB74-32C8D104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4DC-8C68-4A1A-A281-582511E9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263-6B62-4CD7-9E81-2570F3D2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3B6-65FE-436F-8A44-90C4A61E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2B7D-0FEA-491F-9C3C-83209B9B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A956-4FD7-4A27-B3F3-5249BD30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7EF2-3B56-43F4-85E3-DF39C8A6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A5C5-56D4-433D-BFAB-28AE1511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7354-5E73-42C4-8BA3-06E13258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E6FC-E8AE-42B6-88A0-E907376C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118E-FECB-4F42-8993-73DD389F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33C-16C5-4738-8D72-303CC163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61E0-F55E-4E33-8BB1-2EBD99E1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21DA-5703-41C1-A4E6-46DF78F6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F3D6-5A47-4162-AC15-A1832704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EAAE-EC24-4F46-B63D-54A13E82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CA11-C20B-4DEC-9EF8-1F10A9D0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A1B-2603-40BB-B836-2DA4ADE2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C13-2B1D-433D-A60E-64FBAA66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40A-37FF-442D-88AC-B61BFF44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F6A-43ED-4000-8CFF-054515A2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DD2-58FE-44CD-89E4-E70D5D6E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617-61B3-43C9-8F41-A87DB6A3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108-A5A0-42B9-A21E-46573398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1DA5-E4B2-463E-95D4-DF02EE577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1D92-A937-408C-8364-468A24EC8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8768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 L.</cp:lastModifiedBy>
  <dcterms:modified xsi:type="dcterms:W3CDTF">2005-04-18T02:39:07Z</dcterms:modified>
  <cp:revision>30</cp:revision>
  <dc:subject/>
  <dc:title>CI 52A Métodos Constructivos</dc:title>
</cp:coreProperties>
</file>