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5F79-B55E-4E55-A64B-D24A1022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1CA-8274-4EFB-BAFC-6E720B3DE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802-B84A-4BFD-97D4-4CF460DF4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5062-2320-4867-8820-63D550125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27643-D7F9-4EC8-BD60-E27EE71D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A7A8E-20AD-4A35-8BFA-F9D8DDFB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C64D-3F0D-4406-9C1D-E44D3F5E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D413-D490-46EA-9F2F-05F71E8E9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C6BB-8919-414B-9A64-BC3878E3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12C8-1663-473D-AE86-590BD605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D3F2-84F3-449C-9DF2-E55FFFB6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ABDA-2E27-4AAC-B0EA-DB92E728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2951-EFAA-44E5-B4C0-254B920B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6383-F4F0-4F59-97D7-9B98E498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0E0F-CE06-4BC4-9600-C72ACDA5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8BB3D-C980-4EC0-89F2-015264230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41160"/>
            <a:ext cx="264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A8A-4352-4385-9FDB-EF01D828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9B2-3B4E-455B-94D9-DB3C9893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36E9-ABDA-4365-A136-85ECABDC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008A-06F1-4C87-9CC7-94B18FD4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BE9C-686F-484D-9C4B-03FFC5C1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CE09-8FBB-4F83-AF04-3A33FAAE3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4116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6BCB-7B24-4292-84EB-E1514BD6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41160"/>
            <a:ext cx="8229600" cy="20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BCFD-6F80-4252-82ED-80367258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EACE-E0A1-4669-819F-1982353E1C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83AE-4182-4620-97CD-6F62969E9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Motonivelad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TERMIN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Operaciones necesarias para dar la forma final a la superfici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sparcimiento de b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erfilado (Longitudinal y transversal de caminos), curvas verticales, pendientes y bombe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ervación de camin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quipo clásico: motoniveladora (gra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3816360" cy="239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149720"/>
            <a:ext cx="3816360" cy="23875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284720" y="765000"/>
            <a:ext cx="459252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1484280"/>
            <a:ext cx="676908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on adecuadas para excavar y empujar material blando y en pequeñas cantidades debido a la debilidad estructural de la pala (en comparación a una topador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demás de la pala o cuchilla (moldboard) suelen estar equipadas con escarificadores pequeños (rastrillo) o ripp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vimientos de la pa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ariar su ángulo respecto del avance de la máquina, incluso puede ponerse paralela al eje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ubir/bajar e inclinarse respecto del plano de trabajo de la máquin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uede variar el “ángulo de ataque” ( -&gt;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\ para cortar, pero puede material pasa sobre hoj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/ para mezclar y pasadas rápidas. La hoja tiende a levantars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 el material es muy duro hay que escarificar. Incluso pueden removerse dientes del escarificador si es necesari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Motoniveladora - Pal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3095640" cy="2452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564000" y="1557360"/>
            <a:ext cx="5184720" cy="24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2556000" y="4221000"/>
            <a:ext cx="3816360" cy="23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stimación del esparcimiento de material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Yardas cúbicas en banco = 3.0 x H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(1 yd3 = 0,7646 m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Operar a la máxima velocidad que el cambio permit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4005360"/>
          <a:ext cx="6096240" cy="2587680"/>
        </p:xfrm>
        <a:graphic>
          <a:graphicData uri="http://schemas.openxmlformats.org/drawingml/2006/table">
            <a:tbl>
              <a:tblPr/>
              <a:tblGrid>
                <a:gridCol w="4343400"/>
                <a:gridCol w="1752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antención camin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3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parcimiento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zcla de materia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ª - 6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r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rfila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ª - 4ª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otonivelado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ara recorridos &lt;300m es más rápido y seguro retroceder en lugar de dar vuelt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La eficiencia está en relación al Nº de pasadas. Habilidad del operador + planificació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iempo = (Nº pasadas x Dist) / (V x Ef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Ef = 6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01:45:01Z</dcterms:created>
  <dc:creator>William Wragg L.</dc:creator>
  <dc:description/>
  <dc:language>en-US</dc:language>
  <cp:lastModifiedBy>William Wragg L.</cp:lastModifiedBy>
  <dcterms:modified xsi:type="dcterms:W3CDTF">2005-04-18T02:39:07Z</dcterms:modified>
  <cp:revision>30</cp:revision>
  <dc:subject/>
  <dc:title>CI 52A Métodos Constructivos</dc:title>
</cp:coreProperties>
</file>