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AD3-AA64-4782-BCEF-3ECD10EA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124-F90D-4976-8796-FC5A8EA7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AA2-EDEC-49FE-901D-633474A3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4BA-2C44-4283-AD74-0889C531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41E-3666-4866-B16B-FD2211BE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EBB-BEF4-44AD-81C0-9EDA844A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9E8-2AB4-4519-91BC-B7244DFD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1AD-4BCF-40BC-8511-ECB666F5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C23-03BB-4C51-8C8E-5C69C648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E55-2DBF-4991-822B-7B27180D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D9E-A5E9-42DA-9821-5483CAE1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57A-0AF6-4938-84DD-348F3873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5853-D73F-4A50-9169-CF1FA50D8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269160"/>
            <a:ext cx="8686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2: vehículos que transportan producto 1 a la ide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2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u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85800"/>
            <a:ext cx="79246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3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3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188880" y="45612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880920"/>
            <a:ext cx="830556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rvicio de buses expreso tipo metro desde Paradero 14 Vicuña Mackenna hasta plaza Puente Alto. Con pago extra-veh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manda {pax/min}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-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2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ojas Magalla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9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6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abriel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4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ospita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uente Al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58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= 85 pax. sentados + 65 pax. de pie. Tiempo de viaje entre tramos: 8min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+: 9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: 12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. Parada de 3 min en terminales (Metro, P. Alto) para arqu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cular frecuencia para operar a un 85% de la capacidad en el tramo más cargado. Calcular el tamaño de la fl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04920" y="228600"/>
                <a:ext cx="36576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80880" y="310032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: transporte de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= 6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= 12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= 20 + k 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100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343400" y="304920"/>
                <a:ext cx="4267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66680" y="1752480"/>
                <a:ext cx="60134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286000" y="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jemplo sistema cíclico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9976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tamaño de embar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4436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04920" y="382680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capacidad de 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6-11-06T08:06:32Z</dcterms:modified>
  <cp:revision>41</cp:revision>
  <dc:subject/>
  <dc:title>Sin título de diapositiva</dc:title>
</cp:coreProperties>
</file>