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87E-41CD-46A0-A0AB-B2E624E4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AEE-0798-444A-AFBF-322BED7B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8E3-7E48-49A9-92FC-0F79BE0D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C99-91E7-48FB-A009-29B69D16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FB8-4C08-4E44-9E52-48B00CD9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162-5FD0-47D9-B2C5-78D057E2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955-A788-4D36-9219-4F92DB53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2724-F5CC-4183-BD23-EF0F712F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371-DC6C-435F-9C99-0BA798F2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EBA-0B89-45D9-9ABC-5055F56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3A7-5689-4BFB-9260-B9ABEE2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372-08EA-4850-B6BA-9B0E5BD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8352-5015-47BF-8EE1-E036536FF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85800"/>
            <a:ext cx="79246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 Con pago extra-veh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Parada de 3 min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1752480"/>
                <a:ext cx="6013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286000" y="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 sistema cíclico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6-11-06T08:06:32Z</dcterms:modified>
  <cp:revision>41</cp:revision>
  <dc:subject/>
  <dc:title>Sin título de diapositiva</dc:title>
</cp:coreProperties>
</file>