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782-71B3-4ADD-B4F2-B1378C1F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017-9BA0-4374-BFBE-76CCB33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110-41F6-4BB4-ADE2-1C8F57B8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AB6-A823-4970-B3C4-8740AD46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5D5-81E6-4126-AA4E-40F78807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886-060D-4B19-965F-9B90B2A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B2E-E5C2-4E42-9794-69AEF6AC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17-181E-4892-AD49-B8B2FB1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C6F-E5F2-4A89-A0B2-0B6F52DF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DDC-A096-4940-BE41-FDCF682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643-C1AF-4E34-9CF3-9A20BF6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FAA-94E8-4BE5-89FF-89D2250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FC2-CD3C-49E6-8270-14ED1022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6-11-06T08:06:32Z</dcterms:modified>
  <cp:revision>41</cp:revision>
  <dc:subject/>
  <dc:title>Sin título de diapositiva</dc:title>
</cp:coreProperties>
</file>