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9DB-0EF6-4A63-95C5-33C55780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965-0294-4981-909B-AC42246A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AA3-7042-4C6A-8D49-98C7414F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D4E-C764-4963-AD2C-D4A2D040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89A-A407-4A0C-8F22-8EBE3C3B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508D-E5CB-404F-8205-FA43446E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9AAE-52E3-4E49-86E9-9284FFC4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FA83-AD8A-484F-9C1E-813FB68D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9F7-6BD7-4657-B440-014E85C5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341-CECE-4C1B-916E-B665E476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EE4-4B05-43B2-BA0F-CC60E3FB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090-921A-4604-9D2F-AB0FD688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A07-AB7D-4B68-93A1-60496302C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500"/>
                            </p:stCondLst>
                            <p:childTnLst>
                              <p:par>
                                <p:cTn id="10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269160"/>
            <a:ext cx="8686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12: vehículos que transportan producto 1 a la ide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2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u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85800" y="685800"/>
            <a:ext cx="792468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3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6" dur="indefinite" restart="never" nodeType="tmRoot">
          <p:childTnLst>
            <p:seq>
              <p:cTn id="1447" dur="indefinite" nodeType="mainSeq">
                <p:childTnLst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6" dur="indefinite" restart="never" nodeType="tmRoot">
          <p:childTnLst>
            <p:seq>
              <p:cTn id="1497" dur="indefinite" nodeType="mainSeq">
                <p:childTnLst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2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8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188880" y="45612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880920"/>
            <a:ext cx="8305560" cy="54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rvicio de buses expreso tipo metro desde Paradero 14 Vicuña Mackenna hasta plaza Puente Alto. Con pago extra-vehicul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emanda {pax/min}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-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-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ube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Baj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Metr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2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ojas Magallanes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9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6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abriel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4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4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Hospital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uente Alt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158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K= 85 pax. sentados + 65 pax. de pie. Tiempo de viaje entre tramos: 8min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+: 9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-: 120 pax/min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=1. Parada de 3 min en terminales (Metro, P. Alto) para arqu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alcular frecuencia para operar a un 85% de la capacidad en el tramo más cargado. Calcular el tamaño de la flo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8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9" dur="5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4920" y="228600"/>
                <a:ext cx="3657600" cy="13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380880" y="3100320"/>
            <a:ext cx="79250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jemplo: transporte de mi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= 6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= 12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(k)= 20 + k  (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100 (ton/ho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0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343400" y="304920"/>
                <a:ext cx="42670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1066680" y="1752480"/>
                <a:ext cx="60134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2286000" y="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jemplo sistema cíclico 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533520" y="5099760"/>
            <a:ext cx="7924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tamaño de embar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443600"/>
            <a:ext cx="8001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304920" y="3826800"/>
            <a:ext cx="8534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stitución entre número de vehículos y capacidad de 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6-11-06T08:06:32Z</dcterms:modified>
  <cp:revision>41</cp:revision>
  <dc:subject/>
  <dc:title>Sin título de diapositiva</dc:title>
</cp:coreProperties>
</file>