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FF01-AD0B-40DE-81E5-DBC4477A8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1EAB-D0D2-4DE8-B689-E386CF4A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C23D-BF82-4A90-9792-32C3DF615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D8AD-DEB8-4250-B9DD-EF5F239F3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AEB6-B237-4ABC-8B9D-76BAEAE24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9F72-BF56-4BB1-A11B-32C18252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B55D-7986-41C4-BF54-1A4624CD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64A2-2E3D-482A-954B-6319F1C3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EE1F-E306-4245-ADAD-C56B60C9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B7C6-A4B8-4A2C-A643-BB42E97D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B7D6-4ADB-44D0-BE34-2FE07971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217E-C741-49A7-A9E9-416E1D23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47D7-C4FF-4B67-8C9D-B256DC33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185E-9302-4EBF-9879-DFAFAA83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554B-56C7-4A8F-8864-4FB740FD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DA69-C440-431D-81D3-136E7666C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3F09-9E7E-41D4-973B-C40B82C4C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1832-C3E9-45AD-865B-5675000C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FB3C-BFC1-4B13-AF01-EFF798BF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B5E4-AAD9-4063-B5F0-3D9E9CD8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67E7-E94F-4FAC-9631-0358AB5C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563A-B885-4545-B653-5635BFA4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DB78-7B02-414F-954F-D71B186D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3220-C01C-4C73-B076-F86D0AB7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E62D-9656-4C5E-9EF1-4705130DF338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F2E9-472B-4AC2-84A2-51CDB2E9421F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mpl.com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I43A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aller  X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9280" y="2349360"/>
            <a:ext cx="8280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Asignación de Viaje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Optimización Equivalente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(Equilibrio de Usuario)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51055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68360" y="6021360"/>
            <a:ext cx="4616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3 de noviembre de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5300640"/>
            <a:ext cx="432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tallerci43a@gmail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3333cc"/>
                </a:solidFill>
                <a:latin typeface="Tahoma"/>
              </a:rPr>
              <a:t>PROBLEM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2727000"/>
            <a:ext cx="281916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= 450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[veh/hora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= 230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[veh/hora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= 1520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[veh/hora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851280" y="1916280"/>
          <a:ext cx="4896000" cy="43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916280"/>
                    <a:ext cx="4896000" cy="43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76360" y="907560"/>
            <a:ext cx="61135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nciones de Costo de Arcos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217600" y="1770120"/>
                <a:ext cx="21290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38480" y="2751120"/>
                <a:ext cx="23209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124000" y="3817800"/>
                <a:ext cx="22338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016000" y="4896000"/>
                <a:ext cx="2446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7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100240" y="5875200"/>
                <a:ext cx="22986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5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875200" y="1684440"/>
                <a:ext cx="22575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6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673600" y="2684520"/>
                <a:ext cx="24465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5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7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843520" y="3817800"/>
                <a:ext cx="23194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8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813280" y="4884840"/>
                <a:ext cx="22989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9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910120" y="5875200"/>
                <a:ext cx="24465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1258920" y="1989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58920" y="29797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58920" y="40464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3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35240" y="51134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4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35240" y="61038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5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40200" y="19130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6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40200" y="29034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7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40200" y="40464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8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40200" y="51134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9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40200" y="61038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0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03280" y="105264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nciones de Costo de Arcos: (m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882880" y="1832040"/>
                <a:ext cx="24256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916360" y="2781360"/>
                <a:ext cx="24271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59200" y="3822840"/>
                <a:ext cx="25984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6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978280" y="4813200"/>
                <a:ext cx="23842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4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1692360" y="2060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92360" y="3051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68320" y="404172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3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5032440"/>
            <a:ext cx="12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4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62280" y="5765040"/>
            <a:ext cx="318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: flujo en arco (veh/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680" y="4572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2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Pregunta 1:</a:t>
            </a: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ncuentre el equilibrio u óptimo (dependiendo el grupo) para la red  mostrada en la figura anterior,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teando el problema de optimización equivalente y resolviendolo mediante el software AMPL (</a:t>
            </a:r>
            <a:r>
              <a:rPr b="0" lang="es-ES_tradnl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ampl.com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.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5.0 punto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Pregunta 2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rifique que la solución encontrada cumpla las condiciones de equilibrio o de óptimalidad de Wardrop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1.0 puntos)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Los documentos que se deben entregar: archivo de entr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nombre.mod) y planilla Excel con cálculos y resultado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99"/>
                </a:solidFill>
                <a:latin typeface="Tahoma"/>
              </a:rPr>
              <a:t>Instrucciones básicas para AMP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6000" y="177300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comprima el archivo amplcml.z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la carpeta que se genera (amplcml) se deben grabar los archivos de entrada (nombre.mod).  En esta carpeta se encuentra el ejecutable de AMPL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a ejecutar AMPL, debe ejecutar previamente el archivo sw.exe ubicado en la misma carpe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 continuación hay un ejemplo del archivo de entrada y de cómo se llama en AMP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66680" y="22860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roblema inicial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Maximize 25 </a:t>
            </a:r>
            <a:r>
              <a:rPr b="0" i="1" lang="es-ES_tradnl" sz="1500" spc="-1" strike="noStrike">
                <a:solidFill>
                  <a:srgbClr val="000000"/>
                </a:solidFill>
                <a:latin typeface="Times New Roman"/>
              </a:rPr>
              <a:t>XB </a:t>
            </a: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+ 30 </a:t>
            </a:r>
            <a:r>
              <a:rPr b="0" i="1" lang="es-ES_tradnl" sz="1500" spc="-1" strike="noStrike">
                <a:solidFill>
                  <a:srgbClr val="000000"/>
                </a:solidFill>
                <a:latin typeface="Times New Roman"/>
              </a:rPr>
              <a:t>XC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Subject to (1/200) </a:t>
            </a:r>
            <a:r>
              <a:rPr b="0" i="1" lang="es-ES_tradnl" sz="1500" spc="-1" strike="noStrike">
                <a:solidFill>
                  <a:srgbClr val="000000"/>
                </a:solidFill>
                <a:latin typeface="Times New Roman"/>
              </a:rPr>
              <a:t>XB </a:t>
            </a: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+ (1/140) </a:t>
            </a:r>
            <a:r>
              <a:rPr b="0" i="1" lang="es-ES_tradnl" sz="1500" spc="-1" strike="noStrike">
                <a:solidFill>
                  <a:srgbClr val="000000"/>
                </a:solidFill>
                <a:latin typeface="Times New Roman"/>
              </a:rPr>
              <a:t>XC </a:t>
            </a:r>
            <a:r>
              <a:rPr b="0" lang="es-ES_tradnl" sz="15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40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s-ES_tradnl" sz="15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ES_tradnl" sz="1500" spc="-1" strike="noStrike">
                <a:solidFill>
                  <a:srgbClr val="000000"/>
                </a:solidFill>
                <a:latin typeface="Times New Roman"/>
              </a:rPr>
              <a:t>XB </a:t>
            </a:r>
            <a:r>
              <a:rPr b="0" lang="es-ES_tradnl" sz="15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6000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s-ES_tradnl" sz="15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500" spc="-1" strike="noStrike">
                <a:solidFill>
                  <a:srgbClr val="000000"/>
                </a:solidFill>
                <a:latin typeface="Times New Roman"/>
              </a:rPr>
              <a:t>XC </a:t>
            </a:r>
            <a:r>
              <a:rPr b="0" lang="es-ES_tradnl" sz="15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4000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Archivo de entrada: (grabar como: nombre.mo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var XB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var XC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maximize Profit: 25 * XB + 30 * XC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subject to Time: (1/200) * XB + (1/140) * XC &lt;= 4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subject to B_limit: 0 &lt;= XB &lt;= 600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subject to C_limit: 0 &lt;= XC &lt;= 400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jecución (sw.ex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sw: ampl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ampl: </a:t>
            </a:r>
            <a:r>
              <a:rPr b="1" i="1" lang="es-ES_tradnl" sz="1500" spc="-1" strike="noStrike">
                <a:solidFill>
                  <a:srgbClr val="000000"/>
                </a:solidFill>
                <a:latin typeface="Times New Roman"/>
              </a:rPr>
              <a:t>model nombre.mod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ampl: </a:t>
            </a:r>
            <a:r>
              <a:rPr b="1" i="1" lang="es-ES_tradnl" sz="1500" spc="-1" strike="noStrike">
                <a:solidFill>
                  <a:srgbClr val="000000"/>
                </a:solidFill>
                <a:latin typeface="Times New Roman"/>
              </a:rPr>
              <a:t>solve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MINOS 5.5: optimal solution found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2 iterations, objective 192000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ampl: </a:t>
            </a:r>
            <a:r>
              <a:rPr b="1" i="1" lang="es-ES_tradnl" sz="1500" spc="-1" strike="noStrike">
                <a:solidFill>
                  <a:srgbClr val="000000"/>
                </a:solidFill>
                <a:latin typeface="Times New Roman"/>
              </a:rPr>
              <a:t>display XB, XC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XB = 6000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XC = 1400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21:18:51Z</dcterms:created>
  <dc:creator>F M</dc:creator>
  <dc:description/>
  <dc:language>en-US</dc:language>
  <cp:lastModifiedBy>Vargas Quezada</cp:lastModifiedBy>
  <dcterms:modified xsi:type="dcterms:W3CDTF">2006-11-03T11:16:17Z</dcterms:modified>
  <cp:revision>85</cp:revision>
  <dc:subject/>
  <dc:title>Taller  I</dc:title>
</cp:coreProperties>
</file>