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70E-6AEC-45EA-8BDE-FBD4779A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D38-7144-4125-8FE8-5B53D61D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EE2-8B3E-4460-9CDE-AF547F69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E70A-FBFB-43A1-92C1-0D56AF5B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049D-CF7E-4D83-A056-C77BA04D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BF25-51EE-4069-AD71-B995843A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4BE2-C3AE-47BE-A9B5-C5B8D4CE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789F-19DD-4369-BB14-79523C39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A378-AAA3-4E23-84B1-DCDF980D4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F4A4-4FC3-4450-8081-E5AE4FDB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257F-6D15-4B62-9633-544239CF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06F-8BD2-435F-8B2D-4F010763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2D76F-26C3-493A-8C51-92B2142B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B40D-B63A-4DD8-A0B9-FF0D5DC8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C621-69BE-48AF-AE2A-1BBBACB0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E363-C462-4EA4-BE86-1CE845F3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6269-69A4-496E-B2F6-786A182D2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2E21-173B-48E8-A728-18E26C58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A4C-4973-4418-BF19-081966310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6B6-C92B-42DB-B424-49D21905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224-EE63-4C6A-B958-3BECB7D8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2059-BC6F-40FA-AB9F-0E89CD22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CFC-C6BF-4CF3-9A8F-B5D46A84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B04A-A203-41E8-BA7B-FA873B4C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1EF0-6EAA-4D00-A612-67C2EBD8BC1C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141C-CF52-4283-9312-77575C3CDC00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pl.com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I43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aller  X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9280" y="234936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signación de Viaj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Optimización Equivalente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ahoma"/>
              </a:rPr>
              <a:t>(Equilibrio de Usuario)</a:t>
            </a:r>
            <a:endParaRPr b="0" lang="en-US" sz="3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6021360"/>
            <a:ext cx="4616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 de noviembre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5300640"/>
            <a:ext cx="43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allerci43a@g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33cc"/>
                </a:solidFill>
                <a:latin typeface="Tahoma"/>
              </a:rPr>
              <a:t>PROBLEM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2727000"/>
            <a:ext cx="281916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= 450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veh/hor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= 230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veh/hor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 = 1520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[veh/hor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51280" y="1916280"/>
          <a:ext cx="4896000" cy="43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1916280"/>
                    <a:ext cx="4896000" cy="43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76360" y="907560"/>
            <a:ext cx="61135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ones de Costo de Arcos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217600" y="1770120"/>
                <a:ext cx="2129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38480" y="2751120"/>
                <a:ext cx="23209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124000" y="3817800"/>
                <a:ext cx="22338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016000" y="4896000"/>
                <a:ext cx="24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7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100240" y="5875200"/>
                <a:ext cx="22986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875200" y="1684440"/>
                <a:ext cx="22575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673600" y="2684520"/>
                <a:ext cx="24465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843520" y="3817800"/>
                <a:ext cx="23194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8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813280" y="4884840"/>
                <a:ext cx="2298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9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910120" y="5875200"/>
                <a:ext cx="24465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258920" y="1989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979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40464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35240" y="51134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35240" y="61038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40200" y="19130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40200" y="29034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40200" y="40464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40200" y="51134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40200" y="61038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03280" y="105264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unciones de Costo de Arcos: (m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882880" y="1832040"/>
                <a:ext cx="2425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916360" y="2781360"/>
                <a:ext cx="24271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59200" y="3822840"/>
                <a:ext cx="2598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6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978280" y="4813200"/>
                <a:ext cx="2384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692360" y="206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305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68320" y="404172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503244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62280" y="5765040"/>
            <a:ext cx="318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: flujo en arco (veh/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68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2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Pregunta 1: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cuentre el equilibrio u óptimo (dependiendo el grupo) para la red  mostrada en la figura anterior,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teando el problema de optimización equivalente y resolviendolo mediante el software AMPL (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ampl.com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.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5.0 punt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regunta 2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rifique que la solución encontrada cumpla las condiciones de equilibrio o de óptimalidad de Wardrop 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1.0 puntos)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Los documentos que se deben entregar: archivo de entr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85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nombre.mod) y planilla Excel con cálculos y resultad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Instrucciones básicas para AMP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77300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omprima el archivo amplcml.z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carpeta que se genera (amplcml) se deben grabar los archivos de entrada (nombre.mod).  En esta carpeta se encuentra el ejecutable de AMP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ejecutar AMPL, debe ejecutar previamente el archivo sw.exe ubicado en la misma carpe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 continuación hay un ejemplo del archivo de entrada y de cómo se llama en AMP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68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roblema inicial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Maximize 25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B 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+ 30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C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ubject to (1/200)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B 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+ (1/140)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C </a:t>
            </a:r>
            <a:r>
              <a:rPr b="0" lang="es-ES_tradnl" sz="1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4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s-ES_tradnl" sz="1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B </a:t>
            </a:r>
            <a:r>
              <a:rPr b="0" lang="es-ES_tradnl" sz="1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60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s-ES_tradnl" sz="1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500" spc="-1" strike="noStrike">
                <a:solidFill>
                  <a:srgbClr val="000000"/>
                </a:solidFill>
                <a:latin typeface="Times New Roman"/>
              </a:rPr>
              <a:t>XC </a:t>
            </a:r>
            <a:r>
              <a:rPr b="0" lang="es-ES_tradnl" sz="15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 40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Archivo de entrada: (grabar como: nombre.mo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var XB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var XC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maximize Profit: 25 * XB + 30 * XC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ubject to Time: (1/200) * XB + (1/140) * XC &lt;= 4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ubject to B_limit: 0 &lt;= XB &lt;= 600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ubject to C_limit: 0 &lt;= XC &lt;= 400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jecución (sw.ex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sw: ampl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ampl: </a:t>
            </a:r>
            <a:r>
              <a:rPr b="1" i="1" lang="es-ES_tradnl" sz="1500" spc="-1" strike="noStrike">
                <a:solidFill>
                  <a:srgbClr val="000000"/>
                </a:solidFill>
                <a:latin typeface="Times New Roman"/>
              </a:rPr>
              <a:t>model nombre.mod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ampl: </a:t>
            </a:r>
            <a:r>
              <a:rPr b="1" i="1" lang="es-ES_tradnl" sz="1500" spc="-1" strike="noStrike">
                <a:solidFill>
                  <a:srgbClr val="000000"/>
                </a:solidFill>
                <a:latin typeface="Times New Roman"/>
              </a:rPr>
              <a:t>solve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MINOS 5.5: optimal solution found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2 iterations, objective 1920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ampl: </a:t>
            </a:r>
            <a:r>
              <a:rPr b="1" i="1" lang="es-ES_tradnl" sz="1500" spc="-1" strike="noStrike">
                <a:solidFill>
                  <a:srgbClr val="000000"/>
                </a:solidFill>
                <a:latin typeface="Times New Roman"/>
              </a:rPr>
              <a:t>display XB, XC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XB = 60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XC = 14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11-03T11:16:17Z</dcterms:modified>
  <cp:revision>85</cp:revision>
  <dc:subject/>
  <dc:title>Taller  I</dc:title>
</cp:coreProperties>
</file>