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B3A-DD58-4DB5-8E66-2B44736B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C75-6A8E-4FF2-ACC9-2FA58B75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FC1-F6DE-4DB5-B7D9-CE6698B6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356-1B07-4E21-A5E1-D9F29C3B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AF59-8F7E-44BD-B0BE-A34BD378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658C-7192-417F-838F-03E6E8FA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D9F1-9DFC-48DF-BDC7-E60568CC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BD75-EDC6-44D7-957F-F535E4C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B474-C767-456C-B622-A959C644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707F-2F68-4E49-A54F-3B97E61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9007-7FC2-421C-AB65-361016BF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E5C-63AE-4B8F-ACB9-094BA272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CD3E-9154-4A79-874D-D2958C76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E5BE-DF14-4C51-9D44-EF11C83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4C7E-1982-48BD-9B76-6933EB48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0E1B-FDBF-4BC0-9D1F-103AC83F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4FE4-CD61-4520-9F1C-D31E9486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40A-2538-4014-8AB2-E0901745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1E1-FDB1-423C-BB9F-12109A24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5C1-70BC-496C-AB7C-F7E50EA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011-DAD3-4C34-97BE-F7DAB81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608-AE18-45C7-94C6-C3A37120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9ED-30F0-4CB4-8F91-575C46F1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061-261C-4F7E-AC61-0B6C038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AD40-98D2-4723-82C4-65A0693D7C1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7229-EB19-413B-996B-D71B1FE3EC9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pl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X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signación de Viaj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Optimización Equivalent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(Equilibrio de Usuario)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6021360"/>
            <a:ext cx="4616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de noviem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30064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33cc"/>
                </a:solidFill>
                <a:latin typeface="Tahoma"/>
              </a:rPr>
              <a:t>PROBLE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727000"/>
            <a:ext cx="281916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= 450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= 230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= 1520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51280" y="1916280"/>
          <a:ext cx="4896000" cy="43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16280"/>
                    <a:ext cx="4896000" cy="43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1135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de Costo de Arcos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17600" y="1770120"/>
                <a:ext cx="212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38480" y="2751120"/>
                <a:ext cx="2320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3817800"/>
                <a:ext cx="2233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016000" y="4896000"/>
                <a:ext cx="24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7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00240" y="5875200"/>
                <a:ext cx="2298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875200" y="1684440"/>
                <a:ext cx="2257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673600" y="2684520"/>
                <a:ext cx="24465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843520" y="3817800"/>
                <a:ext cx="23194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13280" y="488484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910120" y="5875200"/>
                <a:ext cx="24465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258920" y="1989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97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40464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5240" y="5113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35240" y="61038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0200" y="19130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40200" y="2903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40200" y="4046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40200" y="51134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40200" y="61038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03280" y="105264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de Costo de Arcos: (m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82880" y="1832040"/>
                <a:ext cx="2425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16360" y="2781360"/>
                <a:ext cx="2427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59200" y="3822840"/>
                <a:ext cx="2598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78280" y="4813200"/>
                <a:ext cx="2384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692360" y="20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05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8320" y="40417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5032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62280" y="5765040"/>
            <a:ext cx="31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flujo en arco (veh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regunta 1: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cuentre el equilibrio u óptimo (dependiendo el grupo) para la red  mostrada en la figura anterior,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teando el problema de optimización equivalente y resolviendolo mediante el software AMPL (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ampl.com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5.0 punt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egunta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ifique que la solución encontrada cumpla las condiciones de equilibrio o de óptimalidad de Wardrop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1.0 puntos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Los documentos que se deben entregar: archivo de ent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nombre.mod) y planilla Excel con cálculos y resulta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Instrucciones básicas para AMP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omprima el archivo amplcml.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carpeta que se genera (amplcml) se deben grabar los archivos de entrada (nombre.mod).  En esta carpeta se encuentra el ejecutable de AMP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ejecutar AMPL, debe ejecutar previamente el archivo sw.exe ubicado en la misma carpe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continuación hay un ejemplo del archivo de entrada y de cómo se llama en AMP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68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oblema inicial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Maximize 25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+ 30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C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(1/200)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+ (1/140)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C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4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6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C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4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rchivo de entrada: (grabar como: nombre.mo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var XB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var XC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maximize Profit: 25 * XB + 30 * XC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Time: (1/200) * XB + (1/140) * XC &lt;= 4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B_limit: 0 &lt;= XB &lt;= 600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C_limit: 0 &lt;= XC &lt;= 400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jecución (sw.ex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w: amp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mpl: </a:t>
            </a:r>
            <a:r>
              <a:rPr b="1" i="1" lang="es-ES_tradnl" sz="1500" spc="-1" strike="noStrike">
                <a:solidFill>
                  <a:srgbClr val="000000"/>
                </a:solidFill>
                <a:latin typeface="Times New Roman"/>
              </a:rPr>
              <a:t>model nombre.mod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mpl: </a:t>
            </a:r>
            <a:r>
              <a:rPr b="1" i="1" lang="es-ES_tradnl" sz="1500" spc="-1" strike="noStrike">
                <a:solidFill>
                  <a:srgbClr val="000000"/>
                </a:solidFill>
                <a:latin typeface="Times New Roman"/>
              </a:rPr>
              <a:t>solve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MINOS 5.5: optimal solution found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 iterations, objective 192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mpl: </a:t>
            </a:r>
            <a:r>
              <a:rPr b="1" i="1" lang="es-ES_tradnl" sz="1500" spc="-1" strike="noStrike">
                <a:solidFill>
                  <a:srgbClr val="000000"/>
                </a:solidFill>
                <a:latin typeface="Times New Roman"/>
              </a:rPr>
              <a:t>display XB, XC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XB = 6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XC = 14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11-03T11:16:17Z</dcterms:modified>
  <cp:revision>85</cp:revision>
  <dc:subject/>
  <dc:title>Taller  I</dc:title>
</cp:coreProperties>
</file>